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CC984-21BD-4F63-B2C7-872EC7B7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B4C5B-ED05-428D-A115-2BD8A46D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5BA1D-3B24-4E6F-AAB6-48B7EFEA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EC23A-2677-4A00-B4A8-C0D60FD6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3F352-4D50-4BE1-BB47-946E7AF6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69480"/>
            <a:ext cx="77724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1CC92-1EE1-4C1F-B182-8B16FC19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B5564-3C8C-4F37-8F52-502A6165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82A30-BFCE-49C9-A402-47592C5E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1786F-678E-4F0F-8BEF-17D2CA18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BB8E8-9B8B-43D7-AF9D-64CA6CE9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5D30F-3F6B-407C-BA6D-8C25C084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FD551-89D1-4608-9801-F93D6743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69480"/>
            <a:ext cx="77724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고딕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8120" indent="-438120">
              <a:spcBef>
                <a:spcPts val="575"/>
              </a:spcBef>
              <a:buClr>
                <a:srgbClr val="333333"/>
              </a:buClr>
              <a:buSzPct val="7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HY견고딕"/>
              </a:rPr>
              <a:t>Click to edit the outline text format</a:t>
            </a: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  <a:p>
            <a:pPr lvl="1" marL="933480" indent="-399960">
              <a:spcBef>
                <a:spcPts val="575"/>
              </a:spcBef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HY견고딕"/>
              </a:rPr>
              <a:t>Second Outline Level</a:t>
            </a: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  <a:p>
            <a:pPr lvl="2" marL="1479600" indent="-438120">
              <a:spcBef>
                <a:spcPts val="575"/>
              </a:spcBef>
              <a:buClr>
                <a:srgbClr val="efa00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HY견고딕"/>
              </a:rPr>
              <a:t>Third Outline Level</a:t>
            </a: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  <a:p>
            <a:pPr lvl="3" marL="1879560" indent="-419040">
              <a:spcBef>
                <a:spcPts val="575"/>
              </a:spcBef>
              <a:buClr>
                <a:srgbClr val="3366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HY견고딕"/>
              </a:rPr>
              <a:t>Fourth Outline Level</a:t>
            </a: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  <a:p>
            <a:pPr lvl="4" marL="2298600" indent="-419040">
              <a:spcBef>
                <a:spcPts val="575"/>
              </a:spcBef>
              <a:buClr>
                <a:srgbClr val="efa00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HY견고딕"/>
              </a:rPr>
              <a:t>Fifth Outline Level</a:t>
            </a: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  <a:p>
            <a:pPr lvl="5" marL="2298600" indent="-419040">
              <a:spcBef>
                <a:spcPts val="575"/>
              </a:spcBef>
              <a:buClr>
                <a:srgbClr val="3333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HY견고딕"/>
              </a:rPr>
              <a:t>Sixth Outline Level</a:t>
            </a: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  <a:p>
            <a:pPr lvl="6" marL="2298600" indent="-419040">
              <a:spcBef>
                <a:spcPts val="575"/>
              </a:spcBef>
              <a:buClr>
                <a:srgbClr val="3333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HY견고딕"/>
              </a:rPr>
              <a:t>Seventh Outline Level</a:t>
            </a:r>
            <a:endParaRPr b="0" lang="en-US" sz="2300" spc="-1" strike="noStrike">
              <a:solidFill>
                <a:srgbClr val="333333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7CF9-DBDB-4999-B817-01FED86065AB}" type="slidenum">
              <a:rPr b="0" lang="ko-KR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고딕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HY견고딕"/>
              </a:rPr>
              <a:t>Click to edit the outline text format</a:t>
            </a:r>
            <a:endParaRPr b="0" lang="en-US" sz="2300" spc="-1" strike="noStrike">
              <a:solidFill>
                <a:srgbClr val="4d4d4d"/>
              </a:solidFill>
              <a:latin typeface="HY견고딕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33"/>
                </a:solidFill>
                <a:latin typeface="HY견고딕"/>
              </a:rPr>
              <a:t>Second Outline Level</a:t>
            </a:r>
            <a:endParaRPr b="0" lang="en-US" sz="2100" spc="-1" strike="noStrike">
              <a:solidFill>
                <a:srgbClr val="333333"/>
              </a:solidFill>
              <a:latin typeface="HY견고딕"/>
            </a:endParaRPr>
          </a:p>
          <a:p>
            <a:pPr lvl="2" marL="914400" indent="127080" algn="ctr">
              <a:spcBef>
                <a:spcPts val="575"/>
              </a:spcBef>
              <a:buClr>
                <a:srgbClr val="efa001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333333"/>
              </a:solidFill>
              <a:latin typeface="굴림"/>
            </a:endParaRPr>
          </a:p>
          <a:p>
            <a:pPr lvl="3" marL="1371600" indent="88920" algn="ctr">
              <a:spcBef>
                <a:spcPts val="550"/>
              </a:spcBef>
              <a:buClr>
                <a:srgbClr val="3366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굴림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  <a:p>
            <a:pPr lvl="4" marL="1828800" indent="50760" algn="ctr">
              <a:spcBef>
                <a:spcPts val="550"/>
              </a:spcBef>
              <a:buClr>
                <a:srgbClr val="efa001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굴림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  <a:p>
            <a:pPr lvl="5" marL="1828800" indent="50760">
              <a:spcBef>
                <a:spcPts val="550"/>
              </a:spcBef>
              <a:buClr>
                <a:srgbClr val="3333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굴림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  <a:p>
            <a:pPr lvl="6" marL="1828800" indent="50760">
              <a:spcBef>
                <a:spcPts val="550"/>
              </a:spcBef>
              <a:buClr>
                <a:srgbClr val="3333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굴림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11200" y="5516280"/>
            <a:ext cx="6400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zh-CN" sz="2500" spc="-1" strike="noStrike">
                <a:solidFill>
                  <a:srgbClr val="0000ff"/>
                </a:solidFill>
                <a:latin typeface="HY견고딕"/>
              </a:rPr>
              <a:t>보 건 복 지 부</a:t>
            </a:r>
            <a:endParaRPr b="0" lang="en-US" sz="2500" spc="-1" strike="noStrike">
              <a:solidFill>
                <a:srgbClr val="4d4d4d"/>
              </a:solidFill>
              <a:latin typeface="HY견고딕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HY견고딕"/>
              </a:rPr>
              <a:t> </a:t>
            </a:r>
            <a:r>
              <a:rPr b="0" lang="zh-CN" sz="2200" spc="-1" strike="noStrike">
                <a:solidFill>
                  <a:srgbClr val="0000ff"/>
                </a:solidFill>
                <a:latin typeface="HY견고딕"/>
              </a:rPr>
              <a:t>홍      정      기</a:t>
            </a:r>
            <a:endParaRPr b="0" lang="en-US" sz="2200" spc="-1" strike="noStrike">
              <a:solidFill>
                <a:srgbClr val="4d4d4d"/>
              </a:solidFill>
              <a:latin typeface="HY견고딕"/>
            </a:endParaRPr>
          </a:p>
        </p:txBody>
      </p:sp>
      <p:sp>
        <p:nvSpPr>
          <p:cNvPr id="84" name=""/>
          <p:cNvSpPr/>
          <p:nvPr/>
        </p:nvSpPr>
        <p:spPr>
          <a:xfrm>
            <a:off x="1258920" y="1447920"/>
            <a:ext cx="7200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보건산업분야 </a:t>
            </a:r>
            <a:r>
              <a:rPr b="0" lang="en-US" sz="4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FTA </a:t>
            </a:r>
            <a:r>
              <a:rPr b="0" lang="zh-CN" sz="4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협상동향 및 효과적인 대응체계 구축방안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3853440" y="3860640"/>
            <a:ext cx="157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HY헤드라인M"/>
              </a:rPr>
              <a:t>2005. 7. 13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1419120" y="1066680"/>
            <a:ext cx="6248520" cy="633600"/>
            <a:chOff x="1419120" y="1066680"/>
            <a:chExt cx="6248520" cy="633600"/>
          </a:xfrm>
        </p:grpSpPr>
        <p:sp>
          <p:nvSpPr>
            <p:cNvPr id="166" name=""/>
            <p:cNvSpPr/>
            <p:nvPr/>
          </p:nvSpPr>
          <p:spPr>
            <a:xfrm>
              <a:off x="1542960" y="1066680"/>
              <a:ext cx="6000840" cy="633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19120" y="1074600"/>
              <a:ext cx="6248520" cy="59076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99"/>
                  </a:solidFill>
                  <a:latin typeface="HY견고딕"/>
                  <a:ea typeface="HY견고딕"/>
                </a:rPr>
                <a:t>한</a:t>
              </a:r>
              <a:r>
                <a:rPr b="0" lang="en-US" sz="2300" spc="-1" strike="noStrike">
                  <a:solidFill>
                    <a:srgbClr val="000099"/>
                  </a:solidFill>
                  <a:latin typeface="HY견고딕"/>
                  <a:ea typeface="HY견고딕"/>
                </a:rPr>
                <a:t>-</a:t>
              </a:r>
              <a:r>
                <a:rPr b="0" lang="zh-CN" sz="2300" spc="-1" strike="noStrike">
                  <a:solidFill>
                    <a:srgbClr val="000099"/>
                  </a:solidFill>
                  <a:latin typeface="HY견고딕"/>
                  <a:ea typeface="HY견고딕"/>
                </a:rPr>
                <a:t>싱가포르 </a:t>
              </a:r>
              <a:r>
                <a:rPr b="0" lang="en-US" sz="2300" spc="-1" strike="noStrike">
                  <a:solidFill>
                    <a:srgbClr val="000099"/>
                  </a:solidFill>
                  <a:latin typeface="HY견고딕"/>
                  <a:ea typeface="HY견고딕"/>
                </a:rPr>
                <a:t>FTA</a:t>
              </a:r>
              <a:endParaRPr b="0" lang="en-US" sz="23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84360" y="2590920"/>
            <a:ext cx="763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24000" y="1916280"/>
            <a:ext cx="8515080" cy="2086920"/>
            <a:chOff x="324000" y="1916280"/>
            <a:chExt cx="8515080" cy="2086920"/>
          </a:xfrm>
        </p:grpSpPr>
        <p:sp>
          <p:nvSpPr>
            <p:cNvPr id="170" name=""/>
            <p:cNvSpPr/>
            <p:nvPr/>
          </p:nvSpPr>
          <p:spPr>
            <a:xfrm>
              <a:off x="343080" y="1928520"/>
              <a:ext cx="8496000" cy="2074680"/>
            </a:xfrm>
            <a:prstGeom prst="roundRect">
              <a:avLst>
                <a:gd name="adj" fmla="val 6861"/>
              </a:avLst>
            </a:prstGeom>
            <a:gradFill rotWithShape="0">
              <a:gsLst>
                <a:gs pos="0">
                  <a:srgbClr val="fefefe">
                    <a:alpha val="27058"/>
                  </a:srgbClr>
                </a:gs>
                <a:gs pos="100000">
                  <a:srgbClr val="ffffff">
                    <a:alpha val="71372"/>
                  </a:srgbClr>
                </a:gs>
              </a:gsLst>
              <a:lin ang="10800000"/>
            </a:gra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3440" y="2597040"/>
              <a:ext cx="76323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4000" y="1916280"/>
              <a:ext cx="8515080" cy="517320"/>
            </a:xfrm>
            <a:prstGeom prst="roundRect">
              <a:avLst>
                <a:gd name="adj" fmla="val 1899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66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산돌고딕B"/>
                  <a:ea typeface="산돌고딕B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0360" y="1993680"/>
              <a:ext cx="648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협상경과</a:t>
              </a:r>
              <a:endParaRPr b="0" lang="en-US" sz="22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1280" y="2636640"/>
              <a:ext cx="799308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’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03. 3~’04.10 :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공식협상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5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회 개최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’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04.11 : ASEAN+3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정상회의 계기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, FTA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협상 실질적 타결 선언 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’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05. 4 :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협정문안 확정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,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가서명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(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싱가포르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) 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24000" y="4221000"/>
            <a:ext cx="8515080" cy="2087640"/>
            <a:chOff x="324000" y="4221000"/>
            <a:chExt cx="8515080" cy="2087640"/>
          </a:xfrm>
        </p:grpSpPr>
        <p:sp>
          <p:nvSpPr>
            <p:cNvPr id="176" name=""/>
            <p:cNvSpPr/>
            <p:nvPr/>
          </p:nvSpPr>
          <p:spPr>
            <a:xfrm>
              <a:off x="343080" y="4233600"/>
              <a:ext cx="8496000" cy="2075040"/>
            </a:xfrm>
            <a:prstGeom prst="roundRect">
              <a:avLst>
                <a:gd name="adj" fmla="val 6861"/>
              </a:avLst>
            </a:prstGeom>
            <a:gradFill rotWithShape="0">
              <a:gsLst>
                <a:gs pos="0">
                  <a:srgbClr val="fefefe">
                    <a:alpha val="27058"/>
                  </a:srgbClr>
                </a:gs>
                <a:gs pos="100000">
                  <a:srgbClr val="ffffff">
                    <a:alpha val="71372"/>
                  </a:srgbClr>
                </a:gs>
              </a:gsLst>
              <a:lin ang="10800000"/>
            </a:gra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3440" y="4902120"/>
              <a:ext cx="7632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4000" y="4221000"/>
              <a:ext cx="8515080" cy="517680"/>
            </a:xfrm>
            <a:prstGeom prst="roundRect">
              <a:avLst>
                <a:gd name="adj" fmla="val 1899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66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산돌고딕B"/>
                  <a:ea typeface="산돌고딕B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0360" y="4298760"/>
              <a:ext cx="648000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주요내용</a:t>
              </a:r>
              <a:endParaRPr b="0" lang="en-US" sz="22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1280" y="4941720"/>
              <a:ext cx="799308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싱가포르는 의약품분야 관세율 이미 ‘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zero’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임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(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개방유도 불필요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) 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특히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,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생명공학분야에 강력한 잠재력을 보유하고 있으므로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, 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헤드라인M"/>
                  <a:ea typeface="HY헤드라인M"/>
                </a:rPr>
                <a:t>  </a:t>
              </a:r>
              <a:r>
                <a:rPr b="0" lang="zh-CN" sz="2000" spc="-1" strike="noStrike">
                  <a:solidFill>
                    <a:srgbClr val="f45016"/>
                  </a:solidFill>
                  <a:latin typeface="HY헤드라인M"/>
                  <a:ea typeface="HY헤드라인M"/>
                </a:rPr>
                <a:t>방어적 입장에서 접근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하였음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</p:spTree>
  </p:cSld>
  <p:transition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0920" y="1523880"/>
            <a:ext cx="8713800" cy="4929480"/>
          </a:xfrm>
          <a:prstGeom prst="roundRect">
            <a:avLst>
              <a:gd name="adj" fmla="val 4333"/>
            </a:avLst>
          </a:prstGeom>
          <a:noFill/>
          <a:ln w="28440">
            <a:solidFill>
              <a:srgbClr val="33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3166920"/>
            <a:ext cx="763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95280" y="2492280"/>
            <a:ext cx="1944360" cy="3528720"/>
            <a:chOff x="395280" y="2492280"/>
            <a:chExt cx="1944360" cy="3528720"/>
          </a:xfrm>
        </p:grpSpPr>
        <p:sp>
          <p:nvSpPr>
            <p:cNvPr id="184" name=""/>
            <p:cNvSpPr/>
            <p:nvPr/>
          </p:nvSpPr>
          <p:spPr>
            <a:xfrm>
              <a:off x="399960" y="2502720"/>
              <a:ext cx="1939680" cy="3518280"/>
            </a:xfrm>
            <a:custGeom>
              <a:avLst/>
              <a:gdLst>
                <a:gd name="textAreaLeft" fmla="*/ 38880 w 1939680"/>
                <a:gd name="textAreaRight" fmla="*/ 1900800 w 1939680"/>
                <a:gd name="textAreaTop" fmla="*/ 38880 h 3518280"/>
                <a:gd name="textAreaBottom" fmla="*/ 3479400 h 3518280"/>
              </a:gdLst>
              <a:ahLst/>
              <a:rect l="textAreaLeft" t="textAreaTop" r="textAreaRight" b="textAreaBottom"/>
              <a:pathLst>
                <a:path w="21600" h="39176">
                  <a:moveTo>
                    <a:pt x="1482" y="0"/>
                  </a:moveTo>
                  <a:arcTo wR="1482" hR="1482" stAng="16200000" swAng="-5400000"/>
                  <a:lnTo>
                    <a:pt x="0" y="37694"/>
                  </a:lnTo>
                  <a:arcTo wR="1482" hR="1482" stAng="10800000" swAng="-5400000"/>
                  <a:lnTo>
                    <a:pt x="20118" y="39176"/>
                  </a:lnTo>
                  <a:arcTo wR="1482" hR="1482" stAng="5400000" swAng="-5400000"/>
                  <a:lnTo>
                    <a:pt x="21600" y="1482"/>
                  </a:lnTo>
                  <a:arcTo wR="1482" hR="1482" stAng="0" swAng="-5400000"/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27058"/>
                  </a:srgbClr>
                </a:gs>
                <a:gs pos="100000">
                  <a:srgbClr val="ffffff">
                    <a:alpha val="71372"/>
                  </a:srgbClr>
                </a:gs>
              </a:gsLst>
              <a:lin ang="10800000"/>
            </a:gra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2400" y="3067200"/>
              <a:ext cx="174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5280" y="2492280"/>
              <a:ext cx="1944360" cy="437040"/>
            </a:xfrm>
            <a:prstGeom prst="roundRect">
              <a:avLst>
                <a:gd name="adj" fmla="val 1899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66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산돌고딕B"/>
                  <a:ea typeface="산돌고딕B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5120" y="2557800"/>
              <a:ext cx="1479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즉시철폐</a:t>
              </a:r>
              <a:endParaRPr b="0" lang="en-US" sz="22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0080" y="3101040"/>
              <a:ext cx="1825920" cy="24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153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개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(36%)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주요품목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원료의약품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혈액제제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백신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의약외품 등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56000" y="2492280"/>
            <a:ext cx="1944360" cy="3528720"/>
            <a:chOff x="2556000" y="2492280"/>
            <a:chExt cx="1944360" cy="3528720"/>
          </a:xfrm>
        </p:grpSpPr>
        <p:sp>
          <p:nvSpPr>
            <p:cNvPr id="190" name=""/>
            <p:cNvSpPr/>
            <p:nvPr/>
          </p:nvSpPr>
          <p:spPr>
            <a:xfrm>
              <a:off x="2560680" y="2502720"/>
              <a:ext cx="1939680" cy="3518280"/>
            </a:xfrm>
            <a:custGeom>
              <a:avLst/>
              <a:gdLst>
                <a:gd name="textAreaLeft" fmla="*/ 38880 w 1939680"/>
                <a:gd name="textAreaRight" fmla="*/ 1900800 w 1939680"/>
                <a:gd name="textAreaTop" fmla="*/ 38880 h 3518280"/>
                <a:gd name="textAreaBottom" fmla="*/ 3479400 h 3518280"/>
              </a:gdLst>
              <a:ahLst/>
              <a:rect l="textAreaLeft" t="textAreaTop" r="textAreaRight" b="textAreaBottom"/>
              <a:pathLst>
                <a:path w="21600" h="39176">
                  <a:moveTo>
                    <a:pt x="1482" y="0"/>
                  </a:moveTo>
                  <a:arcTo wR="1482" hR="1482" stAng="16200000" swAng="-5400000"/>
                  <a:lnTo>
                    <a:pt x="0" y="37694"/>
                  </a:lnTo>
                  <a:arcTo wR="1482" hR="1482" stAng="10800000" swAng="-5400000"/>
                  <a:lnTo>
                    <a:pt x="20118" y="39176"/>
                  </a:lnTo>
                  <a:arcTo wR="1482" hR="1482" stAng="5400000" swAng="-5400000"/>
                  <a:lnTo>
                    <a:pt x="21600" y="1482"/>
                  </a:lnTo>
                  <a:arcTo wR="1482" hR="1482" stAng="0" swAng="-5400000"/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27058"/>
                  </a:srgbClr>
                </a:gs>
                <a:gs pos="100000">
                  <a:srgbClr val="ffffff">
                    <a:alpha val="71372"/>
                  </a:srgbClr>
                </a:gs>
              </a:gsLst>
              <a:lin ang="10800000"/>
            </a:gra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43120" y="3067200"/>
              <a:ext cx="174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56000" y="2492280"/>
              <a:ext cx="1944360" cy="437040"/>
            </a:xfrm>
            <a:prstGeom prst="roundRect">
              <a:avLst>
                <a:gd name="adj" fmla="val 1899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66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산돌고딕B"/>
                  <a:ea typeface="산돌고딕B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25840" y="2557800"/>
              <a:ext cx="1479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5</a:t>
              </a:r>
              <a:r>
                <a:rPr b="0" lang="zh-CN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년 유예</a:t>
              </a:r>
              <a:endParaRPr b="0" lang="en-US" sz="22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20800" y="3101040"/>
              <a:ext cx="1825920" cy="24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121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개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(29%)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주요품목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원료의약품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항생제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비타민제제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구강위생제품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16360" y="2492280"/>
            <a:ext cx="1944360" cy="3528720"/>
            <a:chOff x="4716360" y="2492280"/>
            <a:chExt cx="1944360" cy="3528720"/>
          </a:xfrm>
        </p:grpSpPr>
        <p:sp>
          <p:nvSpPr>
            <p:cNvPr id="196" name=""/>
            <p:cNvSpPr/>
            <p:nvPr/>
          </p:nvSpPr>
          <p:spPr>
            <a:xfrm>
              <a:off x="4721040" y="2502720"/>
              <a:ext cx="1939680" cy="3518280"/>
            </a:xfrm>
            <a:custGeom>
              <a:avLst/>
              <a:gdLst>
                <a:gd name="textAreaLeft" fmla="*/ 38880 w 1939680"/>
                <a:gd name="textAreaRight" fmla="*/ 1900800 w 1939680"/>
                <a:gd name="textAreaTop" fmla="*/ 38880 h 3518280"/>
                <a:gd name="textAreaBottom" fmla="*/ 3479400 h 3518280"/>
              </a:gdLst>
              <a:ahLst/>
              <a:rect l="textAreaLeft" t="textAreaTop" r="textAreaRight" b="textAreaBottom"/>
              <a:pathLst>
                <a:path w="21600" h="39176">
                  <a:moveTo>
                    <a:pt x="1482" y="0"/>
                  </a:moveTo>
                  <a:arcTo wR="1482" hR="1482" stAng="16200000" swAng="-5400000"/>
                  <a:lnTo>
                    <a:pt x="0" y="37694"/>
                  </a:lnTo>
                  <a:arcTo wR="1482" hR="1482" stAng="10800000" swAng="-5400000"/>
                  <a:lnTo>
                    <a:pt x="20118" y="39176"/>
                  </a:lnTo>
                  <a:arcTo wR="1482" hR="1482" stAng="5400000" swAng="-5400000"/>
                  <a:lnTo>
                    <a:pt x="21600" y="1482"/>
                  </a:lnTo>
                  <a:arcTo wR="1482" hR="1482" stAng="0" swAng="-5400000"/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27058"/>
                  </a:srgbClr>
                </a:gs>
                <a:gs pos="100000">
                  <a:srgbClr val="ffffff">
                    <a:alpha val="71372"/>
                  </a:srgbClr>
                </a:gs>
              </a:gsLst>
              <a:lin ang="10800000"/>
            </a:gra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03480" y="3067200"/>
              <a:ext cx="174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16360" y="2492280"/>
              <a:ext cx="1944360" cy="437040"/>
            </a:xfrm>
            <a:prstGeom prst="roundRect">
              <a:avLst>
                <a:gd name="adj" fmla="val 1899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66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산돌고딕B"/>
                  <a:ea typeface="산돌고딕B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86200" y="2557800"/>
              <a:ext cx="1479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10</a:t>
              </a:r>
              <a:r>
                <a:rPr b="0" lang="zh-CN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년 유예</a:t>
              </a:r>
              <a:endParaRPr b="0" lang="en-US" sz="22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81160" y="3101040"/>
              <a:ext cx="1825920" cy="16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138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개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(33%)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주요품목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비타민제제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완제의약품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877080" y="2492280"/>
            <a:ext cx="1944360" cy="3528720"/>
            <a:chOff x="6877080" y="2492280"/>
            <a:chExt cx="1944360" cy="3528720"/>
          </a:xfrm>
        </p:grpSpPr>
        <p:sp>
          <p:nvSpPr>
            <p:cNvPr id="202" name=""/>
            <p:cNvSpPr/>
            <p:nvPr/>
          </p:nvSpPr>
          <p:spPr>
            <a:xfrm>
              <a:off x="6881760" y="2502720"/>
              <a:ext cx="1939680" cy="3518280"/>
            </a:xfrm>
            <a:custGeom>
              <a:avLst/>
              <a:gdLst>
                <a:gd name="textAreaLeft" fmla="*/ 38880 w 1939680"/>
                <a:gd name="textAreaRight" fmla="*/ 1900800 w 1939680"/>
                <a:gd name="textAreaTop" fmla="*/ 38880 h 3518280"/>
                <a:gd name="textAreaBottom" fmla="*/ 3479400 h 3518280"/>
              </a:gdLst>
              <a:ahLst/>
              <a:rect l="textAreaLeft" t="textAreaTop" r="textAreaRight" b="textAreaBottom"/>
              <a:pathLst>
                <a:path w="21600" h="39176">
                  <a:moveTo>
                    <a:pt x="1482" y="0"/>
                  </a:moveTo>
                  <a:arcTo wR="1482" hR="1482" stAng="16200000" swAng="-5400000"/>
                  <a:lnTo>
                    <a:pt x="0" y="37694"/>
                  </a:lnTo>
                  <a:arcTo wR="1482" hR="1482" stAng="10800000" swAng="-5400000"/>
                  <a:lnTo>
                    <a:pt x="20118" y="39176"/>
                  </a:lnTo>
                  <a:arcTo wR="1482" hR="1482" stAng="5400000" swAng="-5400000"/>
                  <a:lnTo>
                    <a:pt x="21600" y="1482"/>
                  </a:lnTo>
                  <a:arcTo wR="1482" hR="1482" stAng="0" swAng="-5400000"/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27058"/>
                  </a:srgbClr>
                </a:gs>
                <a:gs pos="100000">
                  <a:srgbClr val="ffffff">
                    <a:alpha val="71372"/>
                  </a:srgbClr>
                </a:gs>
              </a:gsLst>
              <a:lin ang="10800000"/>
            </a:gra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64200" y="3067200"/>
              <a:ext cx="174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77080" y="2492280"/>
              <a:ext cx="1944360" cy="437040"/>
            </a:xfrm>
            <a:prstGeom prst="roundRect">
              <a:avLst>
                <a:gd name="adj" fmla="val 1899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66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산돌고딕B"/>
                  <a:ea typeface="산돌고딕B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46920" y="2557800"/>
              <a:ext cx="1479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미양허</a:t>
              </a:r>
              <a:endParaRPr b="0" lang="en-US" sz="22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41880" y="3101040"/>
              <a:ext cx="1825920" cy="20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8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개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(2%)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주요품목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기타의약품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호르몬제제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050920" y="1268280"/>
            <a:ext cx="5257800" cy="609840"/>
            <a:chOff x="2050920" y="1268280"/>
            <a:chExt cx="5257800" cy="609840"/>
          </a:xfrm>
        </p:grpSpPr>
        <p:sp>
          <p:nvSpPr>
            <p:cNvPr id="208" name=""/>
            <p:cNvSpPr/>
            <p:nvPr/>
          </p:nvSpPr>
          <p:spPr>
            <a:xfrm>
              <a:off x="2050920" y="1268280"/>
              <a:ext cx="5257800" cy="60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6d85"/>
                </a:gs>
                <a:gs pos="50000">
                  <a:srgbClr val="25989b"/>
                </a:gs>
                <a:gs pos="100000">
                  <a:srgbClr val="096d85"/>
                </a:gs>
              </a:gsLst>
              <a:lin ang="10800000"/>
            </a:gradFill>
            <a:ln w="12600">
              <a:solidFill>
                <a:srgbClr val="073955"/>
              </a:solidFill>
              <a:miter/>
            </a:ln>
            <a:effectLst>
              <a:outerShdw dist="40186" dir="430364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01400" y="1404000"/>
              <a:ext cx="3162600" cy="366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HY헤드라인M"/>
                  <a:ea typeface="HY헤드라인M"/>
                </a:rPr>
                <a:t>한</a:t>
              </a:r>
              <a:r>
                <a:rPr b="0" lang="en-US" sz="2400" spc="-1" strike="noStrike">
                  <a:solidFill>
                    <a:srgbClr val="ffff00"/>
                  </a:solidFill>
                  <a:latin typeface="HY헤드라인M"/>
                  <a:ea typeface="HY헤드라인M"/>
                </a:rPr>
                <a:t>-</a:t>
              </a:r>
              <a:r>
                <a:rPr b="0" lang="zh-CN" sz="2400" spc="-1" strike="noStrike">
                  <a:solidFill>
                    <a:srgbClr val="ffff00"/>
                  </a:solidFill>
                  <a:latin typeface="HY헤드라인M"/>
                  <a:ea typeface="HY헤드라인M"/>
                </a:rPr>
                <a:t>싱가포르 </a:t>
              </a:r>
              <a:r>
                <a:rPr b="0" lang="en-US" sz="2400" spc="-1" strike="noStrike">
                  <a:solidFill>
                    <a:srgbClr val="ffff00"/>
                  </a:solidFill>
                  <a:latin typeface="HY헤드라인M"/>
                  <a:ea typeface="HY헤드라인M"/>
                </a:rPr>
                <a:t>FTA </a:t>
              </a:r>
              <a:r>
                <a:rPr b="0" lang="zh-CN" sz="2400" spc="-1" strike="noStrike">
                  <a:solidFill>
                    <a:srgbClr val="ffff00"/>
                  </a:solidFill>
                  <a:latin typeface="HY헤드라인M"/>
                  <a:ea typeface="HY헤드라인M"/>
                </a:rPr>
                <a:t>상품양허 현황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43080" y="1571760"/>
            <a:ext cx="8496000" cy="3297240"/>
          </a:xfrm>
          <a:prstGeom prst="roundRect">
            <a:avLst>
              <a:gd name="adj" fmla="val 6861"/>
            </a:avLst>
          </a:prstGeom>
          <a:gradFill rotWithShape="0">
            <a:gsLst>
              <a:gs pos="0">
                <a:srgbClr val="fefefe">
                  <a:alpha val="27058"/>
                </a:srgbClr>
              </a:gs>
              <a:gs pos="100000">
                <a:srgbClr val="ffffff">
                  <a:alpha val="71372"/>
                </a:srgbClr>
              </a:gs>
            </a:gsLst>
            <a:lin ang="10800000"/>
          </a:gra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703440" y="2341440"/>
            <a:ext cx="7632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1557360"/>
            <a:ext cx="8515080" cy="596880"/>
          </a:xfrm>
          <a:prstGeom prst="roundRect">
            <a:avLst>
              <a:gd name="adj" fmla="val 18995"/>
            </a:avLst>
          </a:prstGeom>
          <a:gradFill rotWithShape="0">
            <a:gsLst>
              <a:gs pos="0">
                <a:srgbClr val="99ccff"/>
              </a:gs>
              <a:gs pos="100000">
                <a:srgbClr val="0066ff"/>
              </a:gs>
            </a:gsLst>
            <a:lin ang="108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산돌고딕B"/>
                <a:ea typeface="산돌고딕B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630360" y="1646280"/>
            <a:ext cx="648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한</a:t>
            </a:r>
            <a:r>
              <a:rPr b="0" lang="en-US" sz="22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-</a:t>
            </a:r>
            <a:r>
              <a:rPr b="0" lang="zh-CN" sz="22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싱가포르 </a:t>
            </a:r>
            <a:r>
              <a:rPr b="0" lang="en-US" sz="22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FTA </a:t>
            </a:r>
            <a:r>
              <a:rPr b="0" lang="zh-CN" sz="22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원산지기준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2708280"/>
            <a:ext cx="7993080" cy="17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한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-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칠레 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FTA 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보다 엄격한 기준을 적용하여 우회수입 및 급격한 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 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수입증가 가능성을 사전에 차단하였음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  </a:t>
            </a:r>
            <a:r>
              <a:rPr b="0" lang="en-US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* </a:t>
            </a:r>
            <a:r>
              <a:rPr b="0" lang="zh-CN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벌크형 의약품</a:t>
            </a:r>
            <a:r>
              <a:rPr b="0" lang="en-US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(HS 3003) : CTH</a:t>
            </a:r>
            <a:endParaRPr b="0" lang="en-US" sz="18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  </a:t>
            </a:r>
            <a:r>
              <a:rPr b="0" lang="en-US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* </a:t>
            </a:r>
            <a:r>
              <a:rPr b="0" lang="zh-CN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소분형 의약품</a:t>
            </a:r>
            <a:r>
              <a:rPr b="0" lang="en-US" sz="18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(HS 3004) : CTH except 3003</a:t>
            </a:r>
            <a:r>
              <a:rPr b="0" lang="en-US" sz="16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   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419120" y="1066680"/>
            <a:ext cx="6248520" cy="633600"/>
            <a:chOff x="1419120" y="1066680"/>
            <a:chExt cx="6248520" cy="633600"/>
          </a:xfrm>
        </p:grpSpPr>
        <p:sp>
          <p:nvSpPr>
            <p:cNvPr id="216" name=""/>
            <p:cNvSpPr/>
            <p:nvPr/>
          </p:nvSpPr>
          <p:spPr>
            <a:xfrm>
              <a:off x="1542960" y="1066680"/>
              <a:ext cx="6000840" cy="633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19120" y="1074600"/>
              <a:ext cx="6248520" cy="59076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99"/>
                  </a:solidFill>
                  <a:latin typeface="HY견고딕"/>
                  <a:ea typeface="HY견고딕"/>
                </a:rPr>
                <a:t>한</a:t>
              </a:r>
              <a:r>
                <a:rPr b="0" lang="en-US" sz="2300" spc="-1" strike="noStrike">
                  <a:solidFill>
                    <a:srgbClr val="000099"/>
                  </a:solidFill>
                  <a:latin typeface="HY견고딕"/>
                  <a:ea typeface="HY견고딕"/>
                </a:rPr>
                <a:t>-EFTA FTA</a:t>
              </a:r>
              <a:endParaRPr b="0" lang="en-US" sz="23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84360" y="2590920"/>
            <a:ext cx="763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24000" y="1916280"/>
            <a:ext cx="8515080" cy="2086920"/>
            <a:chOff x="324000" y="1916280"/>
            <a:chExt cx="8515080" cy="2086920"/>
          </a:xfrm>
        </p:grpSpPr>
        <p:sp>
          <p:nvSpPr>
            <p:cNvPr id="220" name=""/>
            <p:cNvSpPr/>
            <p:nvPr/>
          </p:nvSpPr>
          <p:spPr>
            <a:xfrm>
              <a:off x="343080" y="1928520"/>
              <a:ext cx="8496000" cy="2074680"/>
            </a:xfrm>
            <a:prstGeom prst="roundRect">
              <a:avLst>
                <a:gd name="adj" fmla="val 6861"/>
              </a:avLst>
            </a:prstGeom>
            <a:gradFill rotWithShape="0">
              <a:gsLst>
                <a:gs pos="0">
                  <a:srgbClr val="fefefe">
                    <a:alpha val="27058"/>
                  </a:srgbClr>
                </a:gs>
                <a:gs pos="100000">
                  <a:srgbClr val="ffffff">
                    <a:alpha val="71372"/>
                  </a:srgbClr>
                </a:gs>
              </a:gsLst>
              <a:lin ang="10800000"/>
            </a:gra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3440" y="2597040"/>
              <a:ext cx="76323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000" y="1916280"/>
              <a:ext cx="8515080" cy="517320"/>
            </a:xfrm>
            <a:prstGeom prst="roundRect">
              <a:avLst>
                <a:gd name="adj" fmla="val 1899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66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산돌고딕B"/>
                  <a:ea typeface="산돌고딕B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0360" y="1993680"/>
              <a:ext cx="648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협상경과</a:t>
              </a:r>
              <a:endParaRPr b="0" lang="en-US" sz="22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1280" y="2636640"/>
              <a:ext cx="799308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’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04. 8~’04.10 :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공동연구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2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회 개최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’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05. 1~’05. 7 :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공식협상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4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회 개최 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연내 협정타결 목표 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24000" y="4581360"/>
            <a:ext cx="8515080" cy="1872000"/>
            <a:chOff x="324000" y="4581360"/>
            <a:chExt cx="8515080" cy="1872000"/>
          </a:xfrm>
        </p:grpSpPr>
        <p:sp>
          <p:nvSpPr>
            <p:cNvPr id="226" name=""/>
            <p:cNvSpPr/>
            <p:nvPr/>
          </p:nvSpPr>
          <p:spPr>
            <a:xfrm>
              <a:off x="343080" y="4592520"/>
              <a:ext cx="8496000" cy="1860840"/>
            </a:xfrm>
            <a:prstGeom prst="roundRect">
              <a:avLst>
                <a:gd name="adj" fmla="val 6861"/>
              </a:avLst>
            </a:prstGeom>
            <a:gradFill rotWithShape="0">
              <a:gsLst>
                <a:gs pos="0">
                  <a:srgbClr val="fefefe">
                    <a:alpha val="27058"/>
                  </a:srgbClr>
                </a:gs>
                <a:gs pos="100000">
                  <a:srgbClr val="ffffff">
                    <a:alpha val="71372"/>
                  </a:srgbClr>
                </a:gs>
              </a:gsLst>
              <a:lin ang="10800000"/>
            </a:gra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3440" y="5195880"/>
              <a:ext cx="76323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4000" y="4581360"/>
              <a:ext cx="8515080" cy="466920"/>
            </a:xfrm>
            <a:prstGeom prst="roundRect">
              <a:avLst>
                <a:gd name="adj" fmla="val 1899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66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산돌고딕B"/>
                  <a:ea typeface="산돌고딕B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0360" y="4651200"/>
              <a:ext cx="64800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주요내용</a:t>
              </a:r>
              <a:endParaRPr b="0" lang="en-US" sz="22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1280" y="5232240"/>
              <a:ext cx="813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협상 타결시 의약품 주요 수출국인 스위스로부터 수입증가가 예상됨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파급효과를 최소화하기 위해 </a:t>
              </a:r>
              <a:r>
                <a:rPr b="0" lang="ko-KR" sz="2000" spc="-1" strike="noStrike">
                  <a:solidFill>
                    <a:srgbClr val="f45016"/>
                  </a:solidFill>
                  <a:latin typeface="HY헤드라인M"/>
                  <a:ea typeface="HY헤드라인M"/>
                </a:rPr>
                <a:t>방어적 전략필요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</p:spTree>
  </p:cSld>
  <p:transition>
    <p:split dir="out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4360" y="3166920"/>
            <a:ext cx="763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95280" y="2492280"/>
            <a:ext cx="1944360" cy="3528720"/>
            <a:chOff x="395280" y="2492280"/>
            <a:chExt cx="1944360" cy="3528720"/>
          </a:xfrm>
        </p:grpSpPr>
        <p:sp>
          <p:nvSpPr>
            <p:cNvPr id="233" name=""/>
            <p:cNvSpPr/>
            <p:nvPr/>
          </p:nvSpPr>
          <p:spPr>
            <a:xfrm>
              <a:off x="399960" y="2502720"/>
              <a:ext cx="1939680" cy="3518280"/>
            </a:xfrm>
            <a:custGeom>
              <a:avLst/>
              <a:gdLst>
                <a:gd name="textAreaLeft" fmla="*/ 38880 w 1939680"/>
                <a:gd name="textAreaRight" fmla="*/ 1900800 w 1939680"/>
                <a:gd name="textAreaTop" fmla="*/ 38880 h 3518280"/>
                <a:gd name="textAreaBottom" fmla="*/ 3479400 h 3518280"/>
              </a:gdLst>
              <a:ahLst/>
              <a:rect l="textAreaLeft" t="textAreaTop" r="textAreaRight" b="textAreaBottom"/>
              <a:pathLst>
                <a:path w="21600" h="39176">
                  <a:moveTo>
                    <a:pt x="1482" y="0"/>
                  </a:moveTo>
                  <a:arcTo wR="1482" hR="1482" stAng="16200000" swAng="-5400000"/>
                  <a:lnTo>
                    <a:pt x="0" y="37694"/>
                  </a:lnTo>
                  <a:arcTo wR="1482" hR="1482" stAng="10800000" swAng="-5400000"/>
                  <a:lnTo>
                    <a:pt x="20118" y="39176"/>
                  </a:lnTo>
                  <a:arcTo wR="1482" hR="1482" stAng="5400000" swAng="-5400000"/>
                  <a:lnTo>
                    <a:pt x="21600" y="1482"/>
                  </a:lnTo>
                  <a:arcTo wR="1482" hR="1482" stAng="0" swAng="-5400000"/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27058"/>
                  </a:srgbClr>
                </a:gs>
                <a:gs pos="100000">
                  <a:srgbClr val="ffffff">
                    <a:alpha val="71372"/>
                  </a:srgbClr>
                </a:gs>
              </a:gsLst>
              <a:lin ang="10800000"/>
            </a:gra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2400" y="3067200"/>
              <a:ext cx="174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5280" y="2492280"/>
              <a:ext cx="1944360" cy="437040"/>
            </a:xfrm>
            <a:prstGeom prst="roundRect">
              <a:avLst>
                <a:gd name="adj" fmla="val 1899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66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산돌고딕B"/>
                  <a:ea typeface="산돌고딕B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5120" y="2557800"/>
              <a:ext cx="1479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즉시철폐</a:t>
              </a:r>
              <a:endParaRPr b="0" lang="en-US" sz="22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0080" y="3101040"/>
              <a:ext cx="1825920" cy="24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309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개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(67%)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주요품목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원료의약품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혈액제제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백신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의약외품 등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556000" y="2492280"/>
            <a:ext cx="1944360" cy="3528720"/>
            <a:chOff x="2556000" y="2492280"/>
            <a:chExt cx="1944360" cy="3528720"/>
          </a:xfrm>
        </p:grpSpPr>
        <p:sp>
          <p:nvSpPr>
            <p:cNvPr id="239" name=""/>
            <p:cNvSpPr/>
            <p:nvPr/>
          </p:nvSpPr>
          <p:spPr>
            <a:xfrm>
              <a:off x="2560680" y="2502720"/>
              <a:ext cx="1939680" cy="3518280"/>
            </a:xfrm>
            <a:custGeom>
              <a:avLst/>
              <a:gdLst>
                <a:gd name="textAreaLeft" fmla="*/ 38880 w 1939680"/>
                <a:gd name="textAreaRight" fmla="*/ 1900800 w 1939680"/>
                <a:gd name="textAreaTop" fmla="*/ 38880 h 3518280"/>
                <a:gd name="textAreaBottom" fmla="*/ 3479400 h 3518280"/>
              </a:gdLst>
              <a:ahLst/>
              <a:rect l="textAreaLeft" t="textAreaTop" r="textAreaRight" b="textAreaBottom"/>
              <a:pathLst>
                <a:path w="21600" h="39176">
                  <a:moveTo>
                    <a:pt x="1482" y="0"/>
                  </a:moveTo>
                  <a:arcTo wR="1482" hR="1482" stAng="16200000" swAng="-5400000"/>
                  <a:lnTo>
                    <a:pt x="0" y="37694"/>
                  </a:lnTo>
                  <a:arcTo wR="1482" hR="1482" stAng="10800000" swAng="-5400000"/>
                  <a:lnTo>
                    <a:pt x="20118" y="39176"/>
                  </a:lnTo>
                  <a:arcTo wR="1482" hR="1482" stAng="5400000" swAng="-5400000"/>
                  <a:lnTo>
                    <a:pt x="21600" y="1482"/>
                  </a:lnTo>
                  <a:arcTo wR="1482" hR="1482" stAng="0" swAng="-5400000"/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27058"/>
                  </a:srgbClr>
                </a:gs>
                <a:gs pos="100000">
                  <a:srgbClr val="ffffff">
                    <a:alpha val="71372"/>
                  </a:srgbClr>
                </a:gs>
              </a:gsLst>
              <a:lin ang="10800000"/>
            </a:gra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43120" y="3067200"/>
              <a:ext cx="174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56000" y="2492280"/>
              <a:ext cx="1944360" cy="437040"/>
            </a:xfrm>
            <a:prstGeom prst="roundRect">
              <a:avLst>
                <a:gd name="adj" fmla="val 1899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66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산돌고딕B"/>
                  <a:ea typeface="산돌고딕B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25840" y="2557800"/>
              <a:ext cx="1479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3</a:t>
              </a:r>
              <a:r>
                <a:rPr b="0" lang="zh-CN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년 유예</a:t>
              </a:r>
              <a:endParaRPr b="0" lang="en-US" sz="22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20800" y="3101040"/>
              <a:ext cx="1825920" cy="20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114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개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(25%)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주요품목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원료의약품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항생제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비타민제제 등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716360" y="2492280"/>
            <a:ext cx="1944360" cy="3528720"/>
            <a:chOff x="4716360" y="2492280"/>
            <a:chExt cx="1944360" cy="3528720"/>
          </a:xfrm>
        </p:grpSpPr>
        <p:sp>
          <p:nvSpPr>
            <p:cNvPr id="245" name=""/>
            <p:cNvSpPr/>
            <p:nvPr/>
          </p:nvSpPr>
          <p:spPr>
            <a:xfrm>
              <a:off x="4721040" y="2502720"/>
              <a:ext cx="1939680" cy="3518280"/>
            </a:xfrm>
            <a:custGeom>
              <a:avLst/>
              <a:gdLst>
                <a:gd name="textAreaLeft" fmla="*/ 38880 w 1939680"/>
                <a:gd name="textAreaRight" fmla="*/ 1900800 w 1939680"/>
                <a:gd name="textAreaTop" fmla="*/ 38880 h 3518280"/>
                <a:gd name="textAreaBottom" fmla="*/ 3479400 h 3518280"/>
              </a:gdLst>
              <a:ahLst/>
              <a:rect l="textAreaLeft" t="textAreaTop" r="textAreaRight" b="textAreaBottom"/>
              <a:pathLst>
                <a:path w="21600" h="39176">
                  <a:moveTo>
                    <a:pt x="1482" y="0"/>
                  </a:moveTo>
                  <a:arcTo wR="1482" hR="1482" stAng="16200000" swAng="-5400000"/>
                  <a:lnTo>
                    <a:pt x="0" y="37694"/>
                  </a:lnTo>
                  <a:arcTo wR="1482" hR="1482" stAng="10800000" swAng="-5400000"/>
                  <a:lnTo>
                    <a:pt x="20118" y="39176"/>
                  </a:lnTo>
                  <a:arcTo wR="1482" hR="1482" stAng="5400000" swAng="-5400000"/>
                  <a:lnTo>
                    <a:pt x="21600" y="1482"/>
                  </a:lnTo>
                  <a:arcTo wR="1482" hR="1482" stAng="0" swAng="-5400000"/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27058"/>
                  </a:srgbClr>
                </a:gs>
                <a:gs pos="100000">
                  <a:srgbClr val="ffffff">
                    <a:alpha val="71372"/>
                  </a:srgbClr>
                </a:gs>
              </a:gsLst>
              <a:lin ang="10800000"/>
            </a:gra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03480" y="3067200"/>
              <a:ext cx="174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16360" y="2492280"/>
              <a:ext cx="1944360" cy="437040"/>
            </a:xfrm>
            <a:prstGeom prst="roundRect">
              <a:avLst>
                <a:gd name="adj" fmla="val 1899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66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산돌고딕B"/>
                  <a:ea typeface="산돌고딕B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6200" y="2557800"/>
              <a:ext cx="1479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5</a:t>
              </a:r>
              <a:r>
                <a:rPr b="0" lang="zh-CN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년 유예</a:t>
              </a:r>
              <a:endParaRPr b="0" lang="en-US" sz="22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81160" y="3101040"/>
              <a:ext cx="1825920" cy="24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33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개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(7%)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주요품목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항생제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호르몬제제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구충제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항결핵제 등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877080" y="2492280"/>
            <a:ext cx="1944360" cy="3528720"/>
            <a:chOff x="6877080" y="2492280"/>
            <a:chExt cx="1944360" cy="3528720"/>
          </a:xfrm>
        </p:grpSpPr>
        <p:sp>
          <p:nvSpPr>
            <p:cNvPr id="251" name=""/>
            <p:cNvSpPr/>
            <p:nvPr/>
          </p:nvSpPr>
          <p:spPr>
            <a:xfrm>
              <a:off x="6881760" y="2502720"/>
              <a:ext cx="1939680" cy="3518280"/>
            </a:xfrm>
            <a:custGeom>
              <a:avLst/>
              <a:gdLst>
                <a:gd name="textAreaLeft" fmla="*/ 38880 w 1939680"/>
                <a:gd name="textAreaRight" fmla="*/ 1900800 w 1939680"/>
                <a:gd name="textAreaTop" fmla="*/ 38880 h 3518280"/>
                <a:gd name="textAreaBottom" fmla="*/ 3479400 h 3518280"/>
              </a:gdLst>
              <a:ahLst/>
              <a:rect l="textAreaLeft" t="textAreaTop" r="textAreaRight" b="textAreaBottom"/>
              <a:pathLst>
                <a:path w="21600" h="39176">
                  <a:moveTo>
                    <a:pt x="1482" y="0"/>
                  </a:moveTo>
                  <a:arcTo wR="1482" hR="1482" stAng="16200000" swAng="-5400000"/>
                  <a:lnTo>
                    <a:pt x="0" y="37694"/>
                  </a:lnTo>
                  <a:arcTo wR="1482" hR="1482" stAng="10800000" swAng="-5400000"/>
                  <a:lnTo>
                    <a:pt x="20118" y="39176"/>
                  </a:lnTo>
                  <a:arcTo wR="1482" hR="1482" stAng="5400000" swAng="-5400000"/>
                  <a:lnTo>
                    <a:pt x="21600" y="1482"/>
                  </a:lnTo>
                  <a:arcTo wR="1482" hR="1482" stAng="0" swAng="-5400000"/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27058"/>
                  </a:srgbClr>
                </a:gs>
                <a:gs pos="100000">
                  <a:srgbClr val="ffffff">
                    <a:alpha val="71372"/>
                  </a:srgbClr>
                </a:gs>
              </a:gsLst>
              <a:lin ang="10800000"/>
            </a:gra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64200" y="3067200"/>
              <a:ext cx="174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77080" y="2492280"/>
              <a:ext cx="1944360" cy="437040"/>
            </a:xfrm>
            <a:prstGeom prst="roundRect">
              <a:avLst>
                <a:gd name="adj" fmla="val 1899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66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산돌고딕B"/>
                  <a:ea typeface="산돌고딕B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46920" y="2557800"/>
              <a:ext cx="1479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7</a:t>
              </a:r>
              <a:r>
                <a:rPr b="0" lang="zh-CN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년 유예</a:t>
              </a:r>
              <a:endParaRPr b="0" lang="en-US" sz="22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41880" y="3101040"/>
              <a:ext cx="1825920" cy="20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4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개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(1%)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주요품목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기타의약품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기타 항생물질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항암제 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50920" y="1523880"/>
            <a:ext cx="8713800" cy="4929480"/>
          </a:xfrm>
          <a:prstGeom prst="roundRect">
            <a:avLst>
              <a:gd name="adj" fmla="val 4333"/>
            </a:avLst>
          </a:prstGeom>
          <a:noFill/>
          <a:ln w="28440">
            <a:solidFill>
              <a:srgbClr val="33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050920" y="1268280"/>
            <a:ext cx="5257800" cy="609840"/>
            <a:chOff x="2050920" y="1268280"/>
            <a:chExt cx="5257800" cy="609840"/>
          </a:xfrm>
        </p:grpSpPr>
        <p:sp>
          <p:nvSpPr>
            <p:cNvPr id="258" name=""/>
            <p:cNvSpPr/>
            <p:nvPr/>
          </p:nvSpPr>
          <p:spPr>
            <a:xfrm>
              <a:off x="2050920" y="1268280"/>
              <a:ext cx="5257800" cy="60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6d85"/>
                </a:gs>
                <a:gs pos="50000">
                  <a:srgbClr val="25989b"/>
                </a:gs>
                <a:gs pos="100000">
                  <a:srgbClr val="096d85"/>
                </a:gs>
              </a:gsLst>
              <a:lin ang="10800000"/>
            </a:gradFill>
            <a:ln w="12600">
              <a:solidFill>
                <a:srgbClr val="073955"/>
              </a:solidFill>
              <a:miter/>
            </a:ln>
            <a:effectLst>
              <a:outerShdw dist="40186" dir="430364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94280" y="1404000"/>
              <a:ext cx="2976840" cy="366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HY헤드라인M"/>
                  <a:ea typeface="HY헤드라인M"/>
                </a:rPr>
                <a:t>한</a:t>
              </a:r>
              <a:r>
                <a:rPr b="0" lang="en-US" sz="2400" spc="-1" strike="noStrike">
                  <a:solidFill>
                    <a:srgbClr val="ffff00"/>
                  </a:solidFill>
                  <a:latin typeface="HY헤드라인M"/>
                  <a:ea typeface="HY헤드라인M"/>
                </a:rPr>
                <a:t>-EFTA FTA </a:t>
              </a:r>
              <a:r>
                <a:rPr b="0" lang="zh-CN" sz="2400" spc="-1" strike="noStrike">
                  <a:solidFill>
                    <a:srgbClr val="ffff00"/>
                  </a:solidFill>
                  <a:latin typeface="HY헤드라인M"/>
                  <a:ea typeface="HY헤드라인M"/>
                </a:rPr>
                <a:t>상품양허 동향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43080" y="1571760"/>
            <a:ext cx="8496000" cy="3297240"/>
          </a:xfrm>
          <a:prstGeom prst="roundRect">
            <a:avLst>
              <a:gd name="adj" fmla="val 6861"/>
            </a:avLst>
          </a:prstGeom>
          <a:gradFill rotWithShape="0">
            <a:gsLst>
              <a:gs pos="0">
                <a:srgbClr val="fefefe">
                  <a:alpha val="27058"/>
                </a:srgbClr>
              </a:gs>
              <a:gs pos="100000">
                <a:srgbClr val="ffffff">
                  <a:alpha val="71372"/>
                </a:srgbClr>
              </a:gs>
            </a:gsLst>
            <a:lin ang="10800000"/>
          </a:gra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703440" y="2341440"/>
            <a:ext cx="7632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1557360"/>
            <a:ext cx="8515080" cy="596880"/>
          </a:xfrm>
          <a:prstGeom prst="roundRect">
            <a:avLst>
              <a:gd name="adj" fmla="val 18995"/>
            </a:avLst>
          </a:prstGeom>
          <a:gradFill rotWithShape="0">
            <a:gsLst>
              <a:gs pos="0">
                <a:srgbClr val="99ccff"/>
              </a:gs>
              <a:gs pos="100000">
                <a:srgbClr val="0066ff"/>
              </a:gs>
            </a:gsLst>
            <a:lin ang="108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산돌고딕B"/>
                <a:ea typeface="산돌고딕B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630360" y="1646280"/>
            <a:ext cx="648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한</a:t>
            </a:r>
            <a:r>
              <a:rPr b="0" lang="en-US" sz="22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-EFTA FTA </a:t>
            </a:r>
            <a:r>
              <a:rPr b="0" lang="zh-CN" sz="22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원산지기준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2708280"/>
            <a:ext cx="7993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원료의약품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(29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류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) : 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완화된 기준 적용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- 4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단위 세번변경기준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(CTH) 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또는 부가가치 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50% 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완제의약품 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: 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엄격한 기준 적용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- 4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단위 세번변경기준 또는 동일물질로 제조시 부가가치 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80% 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등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1419120" y="1066680"/>
            <a:ext cx="6248520" cy="633600"/>
            <a:chOff x="1419120" y="1066680"/>
            <a:chExt cx="6248520" cy="633600"/>
          </a:xfrm>
        </p:grpSpPr>
        <p:sp>
          <p:nvSpPr>
            <p:cNvPr id="266" name=""/>
            <p:cNvSpPr/>
            <p:nvPr/>
          </p:nvSpPr>
          <p:spPr>
            <a:xfrm>
              <a:off x="1542960" y="1066680"/>
              <a:ext cx="6000840" cy="633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19120" y="1074600"/>
              <a:ext cx="6248520" cy="59076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99"/>
                  </a:solidFill>
                  <a:latin typeface="HY견고딕"/>
                  <a:ea typeface="HY견고딕"/>
                </a:rPr>
                <a:t>한</a:t>
              </a:r>
              <a:r>
                <a:rPr b="0" lang="en-US" sz="2300" spc="-1" strike="noStrike">
                  <a:solidFill>
                    <a:srgbClr val="000099"/>
                  </a:solidFill>
                  <a:latin typeface="HY견고딕"/>
                  <a:ea typeface="HY견고딕"/>
                </a:rPr>
                <a:t>-</a:t>
              </a:r>
              <a:r>
                <a:rPr b="0" lang="zh-CN" sz="2300" spc="-1" strike="noStrike">
                  <a:solidFill>
                    <a:srgbClr val="000099"/>
                  </a:solidFill>
                  <a:latin typeface="HY견고딕"/>
                  <a:ea typeface="HY견고딕"/>
                </a:rPr>
                <a:t>아세안 </a:t>
              </a:r>
              <a:r>
                <a:rPr b="0" lang="en-US" sz="2300" spc="-1" strike="noStrike">
                  <a:solidFill>
                    <a:srgbClr val="000099"/>
                  </a:solidFill>
                  <a:latin typeface="HY견고딕"/>
                  <a:ea typeface="HY견고딕"/>
                </a:rPr>
                <a:t>FTA</a:t>
              </a:r>
              <a:endParaRPr b="0" lang="en-US" sz="23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684360" y="2590920"/>
            <a:ext cx="763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4000" y="1916280"/>
            <a:ext cx="8515080" cy="2086920"/>
            <a:chOff x="324000" y="1916280"/>
            <a:chExt cx="8515080" cy="2086920"/>
          </a:xfrm>
        </p:grpSpPr>
        <p:sp>
          <p:nvSpPr>
            <p:cNvPr id="270" name=""/>
            <p:cNvSpPr/>
            <p:nvPr/>
          </p:nvSpPr>
          <p:spPr>
            <a:xfrm>
              <a:off x="343080" y="1928520"/>
              <a:ext cx="8496000" cy="2074680"/>
            </a:xfrm>
            <a:prstGeom prst="roundRect">
              <a:avLst>
                <a:gd name="adj" fmla="val 6861"/>
              </a:avLst>
            </a:prstGeom>
            <a:gradFill rotWithShape="0">
              <a:gsLst>
                <a:gs pos="0">
                  <a:srgbClr val="fefefe">
                    <a:alpha val="27058"/>
                  </a:srgbClr>
                </a:gs>
                <a:gs pos="100000">
                  <a:srgbClr val="ffffff">
                    <a:alpha val="71372"/>
                  </a:srgbClr>
                </a:gs>
              </a:gsLst>
              <a:lin ang="10800000"/>
            </a:gra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3440" y="2597040"/>
              <a:ext cx="76323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4000" y="1916280"/>
              <a:ext cx="8515080" cy="517320"/>
            </a:xfrm>
            <a:prstGeom prst="roundRect">
              <a:avLst>
                <a:gd name="adj" fmla="val 1899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66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산돌고딕B"/>
                  <a:ea typeface="산돌고딕B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0360" y="1993680"/>
              <a:ext cx="648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협상경과</a:t>
              </a:r>
              <a:endParaRPr b="0" lang="en-US" sz="22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1280" y="2636640"/>
              <a:ext cx="799308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’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04. 3~’04. 8 :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전문가회의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5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회 개최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’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05. 2~’05. 6 :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공식협상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3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회 개최  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연내 상품분야 타결 및 ’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06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년 협상 종료 목표 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24000" y="4221000"/>
            <a:ext cx="8515080" cy="2087640"/>
            <a:chOff x="324000" y="4221000"/>
            <a:chExt cx="8515080" cy="2087640"/>
          </a:xfrm>
        </p:grpSpPr>
        <p:sp>
          <p:nvSpPr>
            <p:cNvPr id="276" name=""/>
            <p:cNvSpPr/>
            <p:nvPr/>
          </p:nvSpPr>
          <p:spPr>
            <a:xfrm>
              <a:off x="343080" y="4233600"/>
              <a:ext cx="8496000" cy="2075040"/>
            </a:xfrm>
            <a:prstGeom prst="roundRect">
              <a:avLst>
                <a:gd name="adj" fmla="val 6861"/>
              </a:avLst>
            </a:prstGeom>
            <a:gradFill rotWithShape="0">
              <a:gsLst>
                <a:gs pos="0">
                  <a:srgbClr val="fefefe">
                    <a:alpha val="27058"/>
                  </a:srgbClr>
                </a:gs>
                <a:gs pos="100000">
                  <a:srgbClr val="ffffff">
                    <a:alpha val="71372"/>
                  </a:srgbClr>
                </a:gs>
              </a:gsLst>
              <a:lin ang="10800000"/>
            </a:gra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3440" y="4902120"/>
              <a:ext cx="7632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4000" y="4221000"/>
              <a:ext cx="8515080" cy="517680"/>
            </a:xfrm>
            <a:prstGeom prst="roundRect">
              <a:avLst>
                <a:gd name="adj" fmla="val 1899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66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산돌고딕B"/>
                  <a:ea typeface="산돌고딕B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0360" y="4298760"/>
              <a:ext cx="648000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주요내용</a:t>
              </a:r>
              <a:endParaRPr b="0" lang="en-US" sz="22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1280" y="4941720"/>
              <a:ext cx="7993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상대적으로 비교우위를 가지고 있으며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, </a:t>
              </a:r>
              <a:r>
                <a:rPr b="0" lang="zh-CN" sz="2000" spc="-1" strike="noStrike">
                  <a:solidFill>
                    <a:srgbClr val="f45016"/>
                  </a:solidFill>
                  <a:latin typeface="HY헤드라인M"/>
                  <a:ea typeface="HY헤드라인M"/>
                </a:rPr>
                <a:t>주요 수출시장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이므로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,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공격적인 입장에서 협상전략을 수립하고 있음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43080" y="1571760"/>
            <a:ext cx="8496000" cy="4089240"/>
          </a:xfrm>
          <a:prstGeom prst="roundRect">
            <a:avLst>
              <a:gd name="adj" fmla="val 6861"/>
            </a:avLst>
          </a:prstGeom>
          <a:gradFill rotWithShape="0">
            <a:gsLst>
              <a:gs pos="0">
                <a:srgbClr val="fefefe">
                  <a:alpha val="27058"/>
                </a:srgbClr>
              </a:gs>
              <a:gs pos="100000">
                <a:srgbClr val="ffffff">
                  <a:alpha val="71372"/>
                </a:srgbClr>
              </a:gs>
            </a:gsLst>
            <a:lin ang="10800000"/>
          </a:gra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03440" y="2341440"/>
            <a:ext cx="7632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1557360"/>
            <a:ext cx="8515080" cy="596880"/>
          </a:xfrm>
          <a:prstGeom prst="roundRect">
            <a:avLst>
              <a:gd name="adj" fmla="val 18995"/>
            </a:avLst>
          </a:prstGeom>
          <a:gradFill rotWithShape="0">
            <a:gsLst>
              <a:gs pos="0">
                <a:srgbClr val="99ccff"/>
              </a:gs>
              <a:gs pos="100000">
                <a:srgbClr val="0066ff"/>
              </a:gs>
            </a:gsLst>
            <a:lin ang="108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산돌고딕B"/>
                <a:ea typeface="산돌고딕B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630360" y="1646280"/>
            <a:ext cx="648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한</a:t>
            </a:r>
            <a:r>
              <a:rPr b="0" lang="en-US" sz="22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-</a:t>
            </a:r>
            <a:r>
              <a:rPr b="0" lang="zh-CN" sz="22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아세안 </a:t>
            </a:r>
            <a:r>
              <a:rPr b="0" lang="en-US" sz="22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FTA </a:t>
            </a:r>
            <a:r>
              <a:rPr b="0" lang="zh-CN" sz="22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협상방향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2708280"/>
            <a:ext cx="79930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상품양허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- 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상대측의 관세철폐를 유도하여 수출증진을 위해 전품목 조기개방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원산지기준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- 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우리 상품의 특혜관세 수출을 위해 원산지 기준도 완화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    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(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부가가치 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40% 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이상 발생시 원산지 인정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764800" y="1268280"/>
            <a:ext cx="3999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HY견고딕"/>
                <a:ea typeface="HY견고딕"/>
              </a:rPr>
              <a:t>III. FTA </a:t>
            </a:r>
            <a:r>
              <a:rPr b="0" lang="zh-CN" sz="4000" spc="-1" strike="noStrike">
                <a:solidFill>
                  <a:srgbClr val="003399"/>
                </a:solidFill>
                <a:latin typeface="HY견고딕"/>
                <a:ea typeface="HY견고딕"/>
              </a:rPr>
              <a:t>대응체계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2606760" y="2209680"/>
            <a:ext cx="6537240" cy="0"/>
          </a:xfrm>
          <a:prstGeom prst="line">
            <a:avLst/>
          </a:prstGeom>
          <a:ln w="28440">
            <a:solidFill>
              <a:srgbClr val="277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2209680"/>
            <a:ext cx="0" cy="3810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</p:spTree>
  </p:cSld>
  <p:transition advTm="12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71640" y="3068640"/>
            <a:ext cx="7561080" cy="2665440"/>
          </a:xfrm>
          <a:prstGeom prst="roundRect">
            <a:avLst>
              <a:gd name="adj" fmla="val 4333"/>
            </a:avLst>
          </a:prstGeom>
          <a:noFill/>
          <a:ln w="28440">
            <a:solidFill>
              <a:srgbClr val="33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2484360" y="2708280"/>
            <a:ext cx="4392720" cy="69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95589"/>
              </a:gs>
              <a:gs pos="50000">
                <a:srgbClr val="1d788d"/>
              </a:gs>
              <a:gs pos="100000">
                <a:srgbClr val="095589"/>
              </a:gs>
            </a:gsLst>
            <a:lin ang="10800000"/>
          </a:gradFill>
          <a:ln w="28440">
            <a:solidFill>
              <a:srgbClr val="0a527a"/>
            </a:solidFill>
            <a:miter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00"/>
                </a:solidFill>
                <a:latin typeface="Arial"/>
                <a:ea typeface="HY헤드라인M"/>
              </a:rPr>
              <a:t>대응전략 및 협상초안 마련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rot="10800000">
            <a:off x="3131640" y="1916280"/>
            <a:ext cx="3063960" cy="806400"/>
          </a:xfrm>
          <a:custGeom>
            <a:avLst/>
            <a:gdLst/>
            <a:ahLst/>
            <a:rect l="l" t="t" r="r" b="b"/>
            <a:pathLst>
              <a:path w="1497" h="726">
                <a:moveTo>
                  <a:pt x="0" y="726"/>
                </a:moveTo>
                <a:lnTo>
                  <a:pt x="363" y="272"/>
                </a:lnTo>
                <a:lnTo>
                  <a:pt x="46" y="272"/>
                </a:lnTo>
                <a:lnTo>
                  <a:pt x="726" y="0"/>
                </a:lnTo>
                <a:lnTo>
                  <a:pt x="1406" y="272"/>
                </a:lnTo>
                <a:lnTo>
                  <a:pt x="1089" y="272"/>
                </a:lnTo>
                <a:lnTo>
                  <a:pt x="1497" y="680"/>
                </a:lnTo>
                <a:lnTo>
                  <a:pt x="46" y="680"/>
                </a:lnTo>
              </a:path>
            </a:pathLst>
          </a:custGeom>
          <a:gradFill rotWithShape="0">
            <a:gsLst>
              <a:gs pos="0">
                <a:srgbClr val="777777"/>
              </a:gs>
              <a:gs pos="100000">
                <a:srgbClr val="ffffff">
                  <a:alpha val="2117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고딕"/>
              </a:rPr>
              <a:t>II. FTA </a:t>
            </a:r>
            <a:r>
              <a:rPr b="0" lang="zh-CN" sz="3600" spc="-1" strike="noStrike">
                <a:solidFill>
                  <a:srgbClr val="000000"/>
                </a:solidFill>
                <a:latin typeface="HY견고딕"/>
              </a:rPr>
              <a:t>대응체계 </a:t>
            </a: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93" name=""/>
          <p:cNvSpPr/>
          <p:nvPr/>
        </p:nvSpPr>
        <p:spPr>
          <a:xfrm>
            <a:off x="2484360" y="1268280"/>
            <a:ext cx="4357800" cy="69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95589"/>
              </a:gs>
              <a:gs pos="50000">
                <a:srgbClr val="1d788d"/>
              </a:gs>
              <a:gs pos="100000">
                <a:srgbClr val="095589"/>
              </a:gs>
            </a:gsLst>
            <a:lin ang="10800000"/>
          </a:gradFill>
          <a:ln w="28440">
            <a:solidFill>
              <a:srgbClr val="0a527a"/>
            </a:solidFill>
            <a:miter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00"/>
                </a:solidFill>
                <a:latin typeface="Arial"/>
                <a:ea typeface="HY헤드라인M"/>
              </a:rPr>
              <a:t>협상결정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796000" y="3789360"/>
            <a:ext cx="2087640" cy="1657440"/>
            <a:chOff x="5796000" y="3789360"/>
            <a:chExt cx="2087640" cy="1657440"/>
          </a:xfrm>
        </p:grpSpPr>
        <p:sp>
          <p:nvSpPr>
            <p:cNvPr id="295" name=""/>
            <p:cNvSpPr/>
            <p:nvPr/>
          </p:nvSpPr>
          <p:spPr>
            <a:xfrm>
              <a:off x="5796000" y="3873600"/>
              <a:ext cx="2087640" cy="1573200"/>
            </a:xfrm>
            <a:prstGeom prst="roundRect">
              <a:avLst>
                <a:gd name="adj" fmla="val 6861"/>
              </a:avLst>
            </a:prstGeom>
            <a:gradFill rotWithShape="0">
              <a:gsLst>
                <a:gs pos="0">
                  <a:srgbClr val="fefefe">
                    <a:alpha val="27058"/>
                  </a:srgbClr>
                </a:gs>
                <a:gs pos="100000">
                  <a:srgbClr val="ffffff">
                    <a:alpha val="71372"/>
                  </a:srgbClr>
                </a:gs>
              </a:gsLst>
              <a:lin ang="10800000"/>
            </a:gra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26400" y="4437000"/>
              <a:ext cx="17427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789360"/>
              <a:ext cx="2087640" cy="436680"/>
            </a:xfrm>
            <a:prstGeom prst="roundRect">
              <a:avLst>
                <a:gd name="adj" fmla="val 1899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66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산돌고딕B"/>
                  <a:ea typeface="산돌고딕B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83280" y="3862440"/>
              <a:ext cx="14796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보건산업진흥원</a:t>
              </a:r>
              <a:endParaRPr b="0" lang="en-US" sz="18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96000" y="4294080"/>
              <a:ext cx="20876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기초자료 수집분석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상품양허안</a:t>
              </a: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/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원산지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  </a:t>
              </a:r>
              <a:r>
                <a:rPr b="0" lang="zh-CN" sz="16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기준 기초안 마련</a:t>
              </a:r>
              <a:endParaRPr b="0" lang="en-US" sz="16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1552680" y="3800520"/>
            <a:ext cx="1939680" cy="1716120"/>
          </a:xfrm>
          <a:prstGeom prst="roundRect">
            <a:avLst>
              <a:gd name="adj" fmla="val 6861"/>
            </a:avLst>
          </a:prstGeom>
          <a:gradFill rotWithShape="0">
            <a:gsLst>
              <a:gs pos="0">
                <a:srgbClr val="fefefe">
                  <a:alpha val="27058"/>
                </a:srgbClr>
              </a:gs>
              <a:gs pos="100000">
                <a:srgbClr val="ffffff">
                  <a:alpha val="71372"/>
                </a:srgbClr>
              </a:gs>
            </a:gsLst>
            <a:lin ang="10800000"/>
          </a:gra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1635120" y="4392720"/>
            <a:ext cx="174312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547640" y="3789360"/>
            <a:ext cx="1944720" cy="458640"/>
          </a:xfrm>
          <a:prstGeom prst="roundRect">
            <a:avLst>
              <a:gd name="adj" fmla="val 18995"/>
            </a:avLst>
          </a:prstGeom>
          <a:gradFill rotWithShape="0">
            <a:gsLst>
              <a:gs pos="0">
                <a:srgbClr val="99ccff"/>
              </a:gs>
              <a:gs pos="100000">
                <a:srgbClr val="0066ff"/>
              </a:gs>
            </a:gsLst>
            <a:lin ang="108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산돌고딕B"/>
                <a:ea typeface="산돌고딕B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617840" y="3857760"/>
            <a:ext cx="1479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보건복지부</a:t>
            </a:r>
            <a:endParaRPr b="0" lang="en-US" sz="18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1612800" y="4429080"/>
            <a:ext cx="18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</a:t>
            </a:r>
            <a:r>
              <a:rPr b="0" lang="zh-CN" sz="16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대응 방향설정</a:t>
            </a:r>
            <a:endParaRPr b="0" lang="en-US" sz="16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3203280" y="5734080"/>
            <a:ext cx="3063960" cy="806400"/>
          </a:xfrm>
          <a:custGeom>
            <a:avLst/>
            <a:gdLst/>
            <a:ahLst/>
            <a:rect l="l" t="t" r="r" b="b"/>
            <a:pathLst>
              <a:path w="1497" h="726">
                <a:moveTo>
                  <a:pt x="0" y="726"/>
                </a:moveTo>
                <a:lnTo>
                  <a:pt x="363" y="272"/>
                </a:lnTo>
                <a:lnTo>
                  <a:pt x="46" y="272"/>
                </a:lnTo>
                <a:lnTo>
                  <a:pt x="726" y="0"/>
                </a:lnTo>
                <a:lnTo>
                  <a:pt x="1406" y="272"/>
                </a:lnTo>
                <a:lnTo>
                  <a:pt x="1089" y="272"/>
                </a:lnTo>
                <a:lnTo>
                  <a:pt x="1497" y="680"/>
                </a:lnTo>
                <a:lnTo>
                  <a:pt x="46" y="680"/>
                </a:lnTo>
              </a:path>
            </a:pathLst>
          </a:custGeom>
          <a:gradFill rotWithShape="0">
            <a:gsLst>
              <a:gs pos="0">
                <a:srgbClr val="777777"/>
              </a:gs>
              <a:gs pos="100000">
                <a:srgbClr val="ffffff">
                  <a:alpha val="2117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</p:spTree>
  </p:cSld>
  <p:transition>
    <p:split dir="out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191120" y="6858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Y견고딕"/>
              </a:rPr>
              <a:t>목 차</a:t>
            </a: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35280" y="1484280"/>
            <a:ext cx="5616360" cy="763560"/>
            <a:chOff x="1835280" y="1484280"/>
            <a:chExt cx="5616360" cy="763560"/>
          </a:xfrm>
        </p:grpSpPr>
        <p:sp>
          <p:nvSpPr>
            <p:cNvPr id="89" name=""/>
            <p:cNvSpPr/>
            <p:nvPr/>
          </p:nvSpPr>
          <p:spPr>
            <a:xfrm>
              <a:off x="1908000" y="1552680"/>
              <a:ext cx="5400720" cy="576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1835280" y="1484280"/>
              <a:ext cx="763560" cy="763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</p:pic>
        <p:sp>
          <p:nvSpPr>
            <p:cNvPr id="91" name=""/>
            <p:cNvSpPr/>
            <p:nvPr/>
          </p:nvSpPr>
          <p:spPr>
            <a:xfrm>
              <a:off x="1882800" y="1489320"/>
              <a:ext cx="668160" cy="664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I</a:t>
              </a:r>
              <a:endParaRPr b="0" lang="en-US" sz="32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70200" y="1697040"/>
              <a:ext cx="4681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71640" y="1596960"/>
              <a:ext cx="42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보건산업관련 </a:t>
              </a:r>
              <a:r>
                <a:rPr b="0" lang="en-US" sz="24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FTA </a:t>
              </a:r>
              <a:r>
                <a:rPr b="0" lang="zh-CN" sz="24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협상분야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835280" y="2852640"/>
            <a:ext cx="5616360" cy="763560"/>
            <a:chOff x="1835280" y="2852640"/>
            <a:chExt cx="5616360" cy="763560"/>
          </a:xfrm>
        </p:grpSpPr>
        <p:sp>
          <p:nvSpPr>
            <p:cNvPr id="95" name=""/>
            <p:cNvSpPr/>
            <p:nvPr/>
          </p:nvSpPr>
          <p:spPr>
            <a:xfrm>
              <a:off x="1908000" y="2921040"/>
              <a:ext cx="5400720" cy="57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1835280" y="2852640"/>
              <a:ext cx="763560" cy="763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</p:pic>
        <p:sp>
          <p:nvSpPr>
            <p:cNvPr id="97" name=""/>
            <p:cNvSpPr/>
            <p:nvPr/>
          </p:nvSpPr>
          <p:spPr>
            <a:xfrm>
              <a:off x="1882800" y="2857320"/>
              <a:ext cx="668160" cy="66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II</a:t>
              </a:r>
              <a:endParaRPr b="0" lang="en-US" sz="32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70200" y="3065400"/>
              <a:ext cx="4681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00360" y="2968560"/>
              <a:ext cx="42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제약산업분야 대응현황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835280" y="4221000"/>
            <a:ext cx="5616360" cy="763560"/>
            <a:chOff x="1835280" y="4221000"/>
            <a:chExt cx="5616360" cy="763560"/>
          </a:xfrm>
        </p:grpSpPr>
        <p:sp>
          <p:nvSpPr>
            <p:cNvPr id="101" name=""/>
            <p:cNvSpPr/>
            <p:nvPr/>
          </p:nvSpPr>
          <p:spPr>
            <a:xfrm>
              <a:off x="1908000" y="4289040"/>
              <a:ext cx="5400720" cy="576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1835280" y="4221000"/>
              <a:ext cx="763560" cy="763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</p:pic>
        <p:sp>
          <p:nvSpPr>
            <p:cNvPr id="103" name=""/>
            <p:cNvSpPr/>
            <p:nvPr/>
          </p:nvSpPr>
          <p:spPr>
            <a:xfrm>
              <a:off x="1882800" y="4225680"/>
              <a:ext cx="668160" cy="66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III</a:t>
              </a:r>
              <a:endParaRPr b="0" lang="en-US" sz="32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70200" y="4433760"/>
              <a:ext cx="4681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7280" y="4336920"/>
              <a:ext cx="42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FTA </a:t>
              </a:r>
              <a:r>
                <a:rPr b="0" lang="zh-CN" sz="24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협상 대응체계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835280" y="5589720"/>
            <a:ext cx="5616360" cy="763560"/>
            <a:chOff x="1835280" y="5589720"/>
            <a:chExt cx="5616360" cy="763560"/>
          </a:xfrm>
        </p:grpSpPr>
        <p:sp>
          <p:nvSpPr>
            <p:cNvPr id="107" name=""/>
            <p:cNvSpPr/>
            <p:nvPr/>
          </p:nvSpPr>
          <p:spPr>
            <a:xfrm>
              <a:off x="1908000" y="5657760"/>
              <a:ext cx="5400720" cy="576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1835280" y="5589720"/>
              <a:ext cx="763560" cy="763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</p:pic>
        <p:sp>
          <p:nvSpPr>
            <p:cNvPr id="109" name=""/>
            <p:cNvSpPr/>
            <p:nvPr/>
          </p:nvSpPr>
          <p:spPr>
            <a:xfrm>
              <a:off x="1882800" y="5594400"/>
              <a:ext cx="668160" cy="66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IV</a:t>
              </a:r>
              <a:endParaRPr b="0" lang="en-US" sz="32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70200" y="5802480"/>
              <a:ext cx="4681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27280" y="5705640"/>
              <a:ext cx="42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향후 대응방안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4572000" y="4797360"/>
            <a:ext cx="0" cy="21600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rot="10800000">
            <a:off x="2987280" y="3284640"/>
            <a:ext cx="3063960" cy="806400"/>
          </a:xfrm>
          <a:custGeom>
            <a:avLst/>
            <a:gdLst/>
            <a:ahLst/>
            <a:rect l="l" t="t" r="r" b="b"/>
            <a:pathLst>
              <a:path w="1497" h="726">
                <a:moveTo>
                  <a:pt x="0" y="726"/>
                </a:moveTo>
                <a:lnTo>
                  <a:pt x="363" y="272"/>
                </a:lnTo>
                <a:lnTo>
                  <a:pt x="46" y="272"/>
                </a:lnTo>
                <a:lnTo>
                  <a:pt x="726" y="0"/>
                </a:lnTo>
                <a:lnTo>
                  <a:pt x="1406" y="272"/>
                </a:lnTo>
                <a:lnTo>
                  <a:pt x="1089" y="272"/>
                </a:lnTo>
                <a:lnTo>
                  <a:pt x="1497" y="680"/>
                </a:lnTo>
                <a:lnTo>
                  <a:pt x="46" y="680"/>
                </a:lnTo>
              </a:path>
            </a:pathLst>
          </a:custGeom>
          <a:gradFill rotWithShape="0">
            <a:gsLst>
              <a:gs pos="0">
                <a:srgbClr val="777777"/>
              </a:gs>
              <a:gs pos="100000">
                <a:srgbClr val="ffffff">
                  <a:alpha val="2117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1042920" y="1542960"/>
            <a:ext cx="7000920" cy="1886040"/>
          </a:xfrm>
          <a:prstGeom prst="roundRect">
            <a:avLst>
              <a:gd name="adj" fmla="val 8250"/>
            </a:avLst>
          </a:prstGeom>
          <a:solidFill>
            <a:srgbClr val="000000">
              <a:alpha val="30000"/>
            </a:srgbClr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2454120" y="1197000"/>
            <a:ext cx="4178520" cy="69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95589"/>
              </a:gs>
              <a:gs pos="50000">
                <a:srgbClr val="1d788d"/>
              </a:gs>
              <a:gs pos="100000">
                <a:srgbClr val="095589"/>
              </a:gs>
            </a:gsLst>
            <a:lin ang="10800000"/>
          </a:gradFill>
          <a:ln w="28440">
            <a:solidFill>
              <a:srgbClr val="0a527a"/>
            </a:solidFill>
            <a:miter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00"/>
                </a:solidFill>
                <a:latin typeface="Arial"/>
                <a:ea typeface="HY헤드라인M"/>
              </a:rPr>
              <a:t>협상초안 마련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2050920" y="1932120"/>
            <a:ext cx="56898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보건복지부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업계 및 타부처 의견수렴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상품양허 및 원산지기준 초안 작성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2484360" y="4076640"/>
            <a:ext cx="4178520" cy="69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95589"/>
              </a:gs>
              <a:gs pos="50000">
                <a:srgbClr val="1d788d"/>
              </a:gs>
              <a:gs pos="100000">
                <a:srgbClr val="095589"/>
              </a:gs>
            </a:gsLst>
            <a:lin ang="10800000"/>
          </a:gradFill>
          <a:ln w="28440">
            <a:solidFill>
              <a:srgbClr val="0a527a"/>
            </a:solidFill>
            <a:miter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HY헤드라인M"/>
              </a:rPr>
              <a:t>T/F </a:t>
            </a:r>
            <a:r>
              <a:rPr b="0" lang="zh-CN" sz="2200" spc="-1" strike="noStrike">
                <a:solidFill>
                  <a:srgbClr val="ffff00"/>
                </a:solidFill>
                <a:latin typeface="Arial"/>
                <a:ea typeface="HY헤드라인M"/>
              </a:rPr>
              <a:t>팀 검토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2484360" y="5013360"/>
            <a:ext cx="4178520" cy="69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95589"/>
              </a:gs>
              <a:gs pos="50000">
                <a:srgbClr val="1d788d"/>
              </a:gs>
              <a:gs pos="100000">
                <a:srgbClr val="095589"/>
              </a:gs>
            </a:gsLst>
            <a:lin ang="10800000"/>
          </a:gradFill>
          <a:ln w="28440">
            <a:solidFill>
              <a:srgbClr val="0a527a"/>
            </a:solidFill>
            <a:miter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00"/>
                </a:solidFill>
                <a:latin typeface="Arial"/>
                <a:ea typeface="HY헤드라인M"/>
              </a:rPr>
              <a:t>관계부처 실무회의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5950080"/>
            <a:ext cx="4178520" cy="691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95589"/>
              </a:gs>
              <a:gs pos="50000">
                <a:srgbClr val="1d788d"/>
              </a:gs>
              <a:gs pos="100000">
                <a:srgbClr val="095589"/>
              </a:gs>
            </a:gsLst>
            <a:lin ang="10800000"/>
          </a:gradFill>
          <a:ln w="28440">
            <a:solidFill>
              <a:srgbClr val="0a527a"/>
            </a:solidFill>
            <a:miter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00"/>
                </a:solidFill>
                <a:latin typeface="Arial"/>
                <a:ea typeface="HY헤드라인M"/>
              </a:rPr>
              <a:t>정부 대책회의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5734080"/>
            <a:ext cx="0" cy="21600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</p:spTree>
  </p:cSld>
  <p:transition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862720" y="1268280"/>
            <a:ext cx="3699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HY견고딕"/>
                <a:ea typeface="HY견고딕"/>
              </a:rPr>
              <a:t>IV. </a:t>
            </a:r>
            <a:r>
              <a:rPr b="0" lang="zh-CN" sz="4000" spc="-1" strike="noStrike">
                <a:solidFill>
                  <a:srgbClr val="003399"/>
                </a:solidFill>
                <a:latin typeface="HY견고딕"/>
                <a:ea typeface="HY견고딕"/>
              </a:rPr>
              <a:t>향후 대응방안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2606760" y="2209680"/>
            <a:ext cx="6537240" cy="0"/>
          </a:xfrm>
          <a:prstGeom prst="line">
            <a:avLst/>
          </a:prstGeom>
          <a:ln w="28440">
            <a:solidFill>
              <a:srgbClr val="277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00400" y="2209680"/>
            <a:ext cx="0" cy="3810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</p:spTree>
  </p:cSld>
  <p:transition advTm="12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고딕"/>
              </a:rPr>
              <a:t>IV. </a:t>
            </a:r>
            <a:r>
              <a:rPr b="0" lang="zh-CN" sz="3600" spc="-1" strike="noStrike">
                <a:solidFill>
                  <a:srgbClr val="000000"/>
                </a:solidFill>
                <a:latin typeface="HY견고딕"/>
              </a:rPr>
              <a:t>향후 대응방안 </a:t>
            </a: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1628640"/>
            <a:ext cx="8353440" cy="4680000"/>
          </a:xfrm>
          <a:prstGeom prst="roundRect">
            <a:avLst>
              <a:gd name="adj" fmla="val 9056"/>
            </a:avLst>
          </a:prstGeom>
          <a:gradFill rotWithShape="0">
            <a:gsLst>
              <a:gs pos="0">
                <a:srgbClr val="ccffff"/>
              </a:gs>
              <a:gs pos="100000">
                <a:srgbClr val="ffffff">
                  <a:alpha val="59215"/>
                </a:srgbClr>
              </a:gs>
            </a:gsLst>
            <a:lin ang="5400000"/>
          </a:gradFill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755640" y="1341360"/>
            <a:ext cx="763272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1f1f1"/>
              </a:gs>
              <a:gs pos="100000">
                <a:srgbClr val="c0c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839880" y="1403280"/>
            <a:ext cx="7467480" cy="523800"/>
          </a:xfrm>
          <a:prstGeom prst="roundRect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192320" y="1446120"/>
            <a:ext cx="678168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00"/>
                </a:solidFill>
                <a:latin typeface="HY견고딕"/>
                <a:ea typeface="HY견고딕"/>
              </a:rPr>
              <a:t>제약산업 경쟁력 확보를 위한 최적전략 마련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116000" y="1959120"/>
            <a:ext cx="6970680" cy="3774960"/>
          </a:xfrm>
          <a:prstGeom prst="roundRect">
            <a:avLst>
              <a:gd name="adj" fmla="val 1095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buSzPct val="102792"/>
              <a:buBlip>
                <a:blip r:embed="rId1"/>
              </a:buBlip>
              <a:tabLst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WTO/DDA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등 무역환경변화에 대한 충격완화 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zh-CN" sz="2000" spc="-1" strike="noStrike">
                <a:solidFill>
                  <a:srgbClr val="f45016"/>
                </a:solidFill>
                <a:latin typeface="HY견고딕"/>
                <a:ea typeface="HY견고딕"/>
              </a:rPr>
              <a:t>단계적 관세철폐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통해 적응준비  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50000"/>
              </a:lnSpc>
              <a:buSzPct val="102792"/>
              <a:buBlip>
                <a:blip r:embed="rId2"/>
              </a:buBlip>
              <a:tabLst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경쟁우위품목은 상대국의 관세철폐를 적극적으로 유도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하여 </a:t>
            </a:r>
            <a:r>
              <a:rPr b="0" lang="zh-CN" sz="2000" spc="-1" strike="noStrike">
                <a:solidFill>
                  <a:srgbClr val="f45016"/>
                </a:solidFill>
                <a:latin typeface="HY견고딕"/>
                <a:ea typeface="HY견고딕"/>
              </a:rPr>
              <a:t>수출확대 도모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200000"/>
              </a:lnSpc>
              <a:buSzPct val="102792"/>
              <a:buBlip>
                <a:blip r:embed="rId3"/>
              </a:buBlip>
              <a:tabLst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f45016"/>
                </a:solidFill>
                <a:latin typeface="HY견고딕"/>
                <a:ea typeface="HY견고딕"/>
              </a:rPr>
              <a:t>의약품원료의 조기 개방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하여 기업경영기반 개선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24000" y="1557360"/>
            <a:ext cx="8353440" cy="4703760"/>
          </a:xfrm>
          <a:prstGeom prst="roundRect">
            <a:avLst>
              <a:gd name="adj" fmla="val 11796"/>
            </a:avLst>
          </a:prstGeom>
          <a:gradFill rotWithShape="0">
            <a:gsLst>
              <a:gs pos="0">
                <a:srgbClr val="ccffff"/>
              </a:gs>
              <a:gs pos="100000">
                <a:srgbClr val="ffffff">
                  <a:alpha val="92156"/>
                </a:srgbClr>
              </a:gs>
            </a:gsLst>
            <a:lin ang="5400000"/>
          </a:gradFill>
          <a:ln w="572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755640" y="1341360"/>
            <a:ext cx="7632720" cy="631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1f1f1"/>
              </a:gs>
              <a:gs pos="100000">
                <a:srgbClr val="c0c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839880" y="1401840"/>
            <a:ext cx="7467480" cy="511200"/>
          </a:xfrm>
          <a:prstGeom prst="roundRect">
            <a:avLst>
              <a:gd name="adj" fmla="val 50000"/>
            </a:avLst>
          </a:prstGeom>
          <a:solidFill>
            <a:srgbClr val="99ccff"/>
          </a:solidFill>
          <a:ln w="12600">
            <a:solidFill>
              <a:srgbClr val="3b77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1193760" y="1428840"/>
            <a:ext cx="6762960" cy="446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00"/>
                </a:solidFill>
                <a:latin typeface="HY견고딕"/>
                <a:ea typeface="HY견고딕"/>
              </a:rPr>
              <a:t>산관학 공동 대응체계 구축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042920" y="2133720"/>
            <a:ext cx="6970680" cy="3671640"/>
          </a:xfrm>
          <a:prstGeom prst="roundRect">
            <a:avLst>
              <a:gd name="adj" fmla="val 1095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buSzPct val="102792"/>
              <a:buBlip>
                <a:blip r:embed="rId1"/>
              </a:buBlip>
              <a:tabLst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속적인 협상동향 공유로 공감대 형성노력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관련 업계 대상 설명회 개최 등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관련 업계의 </a:t>
            </a:r>
            <a:r>
              <a:rPr b="0" lang="zh-CN" sz="2000" spc="-1" strike="noStrike">
                <a:solidFill>
                  <a:srgbClr val="f45016"/>
                </a:solidFill>
                <a:latin typeface="HY견고딕"/>
                <a:ea typeface="HY견고딕"/>
              </a:rPr>
              <a:t>지속적인 관심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필요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50000"/>
              </a:lnSpc>
              <a:buSzPct val="102792"/>
              <a:buBlip>
                <a:blip r:embed="rId2"/>
              </a:buBlip>
              <a:tabLst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문가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pool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확대 및 담당자의 전문성 확보노력 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zh-CN" sz="2000" spc="-1" strike="noStrike">
                <a:solidFill>
                  <a:srgbClr val="f45016"/>
                </a:solidFill>
                <a:latin typeface="HY견고딕"/>
                <a:ea typeface="HY견고딕"/>
              </a:rPr>
              <a:t>각 협회의 통상 전담인력 확보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무역자유화 대응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T/F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팀의 활동성 강화노력  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현재 구축된 </a:t>
            </a:r>
            <a:r>
              <a:rPr b="0" lang="en-US" sz="2000" spc="-1" strike="noStrike">
                <a:solidFill>
                  <a:srgbClr val="f45016"/>
                </a:solidFill>
                <a:latin typeface="HY견고딕"/>
                <a:ea typeface="HY견고딕"/>
              </a:rPr>
              <a:t>T/F</a:t>
            </a:r>
            <a:r>
              <a:rPr b="0" lang="zh-CN" sz="2000" spc="-1" strike="noStrike">
                <a:solidFill>
                  <a:srgbClr val="f45016"/>
                </a:solidFill>
                <a:latin typeface="HY견고딕"/>
                <a:ea typeface="HY견고딕"/>
              </a:rPr>
              <a:t>팀의 확대 및 내실화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255840" y="1557360"/>
            <a:ext cx="2923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99"/>
                </a:solidFill>
                <a:latin typeface=""/>
                <a:ea typeface="HY헤드라인M"/>
              </a:rPr>
              <a:t>감사합니다</a:t>
            </a:r>
            <a:endParaRPr b="0" lang="en-US" sz="7200" spc="-1" strike="noStrike">
              <a:solidFill>
                <a:srgbClr val="333333"/>
              </a:solidFill>
              <a:latin typeface="굴림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348000" y="4797360"/>
            <a:ext cx="2652840" cy="929880"/>
            <a:chOff x="3348000" y="4797360"/>
            <a:chExt cx="2652840" cy="929880"/>
          </a:xfrm>
        </p:grpSpPr>
        <p:sp>
          <p:nvSpPr>
            <p:cNvPr id="331" name=""/>
            <p:cNvSpPr/>
            <p:nvPr/>
          </p:nvSpPr>
          <p:spPr>
            <a:xfrm>
              <a:off x="3687120" y="4797360"/>
              <a:ext cx="169848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3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보 건 복 지 부</a:t>
              </a:r>
              <a:endParaRPr b="0" lang="en-US" sz="30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48000" y="5300640"/>
              <a:ext cx="2652840" cy="426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MINISTRY OF HEALTH &amp; WELFARE</a:t>
              </a:r>
              <a:endParaRPr b="0" lang="en-US" sz="14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86600" y="1268280"/>
            <a:ext cx="58600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HY견고딕"/>
                <a:ea typeface="HY견고딕"/>
              </a:rPr>
              <a:t>I. </a:t>
            </a:r>
            <a:r>
              <a:rPr b="0" lang="zh-CN" sz="4000" spc="-1" strike="noStrike">
                <a:solidFill>
                  <a:srgbClr val="003399"/>
                </a:solidFill>
                <a:latin typeface="HY견고딕"/>
                <a:ea typeface="HY견고딕"/>
              </a:rPr>
              <a:t>보건산업관련 </a:t>
            </a:r>
            <a:r>
              <a:rPr b="0" lang="en-US" sz="4000" spc="-1" strike="noStrike">
                <a:solidFill>
                  <a:srgbClr val="003399"/>
                </a:solidFill>
                <a:latin typeface="HY견고딕"/>
                <a:ea typeface="HY견고딕"/>
              </a:rPr>
              <a:t>FTA </a:t>
            </a:r>
            <a:r>
              <a:rPr b="0" lang="zh-CN" sz="4000" spc="-1" strike="noStrike">
                <a:solidFill>
                  <a:srgbClr val="003399"/>
                </a:solidFill>
                <a:latin typeface="HY견고딕"/>
                <a:ea typeface="HY견고딕"/>
              </a:rPr>
              <a:t>협상분야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2606760" y="2209680"/>
            <a:ext cx="6537240" cy="0"/>
          </a:xfrm>
          <a:prstGeom prst="line">
            <a:avLst/>
          </a:prstGeom>
          <a:ln w="28440">
            <a:solidFill>
              <a:srgbClr val="277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209680"/>
            <a:ext cx="0" cy="3810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86000"/>
            <a:ext cx="5291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상품무역 </a:t>
            </a:r>
            <a:r>
              <a:rPr b="0" lang="en-US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(</a:t>
            </a:r>
            <a:r>
              <a:rPr b="0" lang="zh-CN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상품양허 및 원산지 기준</a:t>
            </a:r>
            <a:r>
              <a:rPr b="0" lang="en-US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)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지적재산권 </a:t>
            </a:r>
            <a:r>
              <a:rPr b="0" lang="en-US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(</a:t>
            </a:r>
            <a:r>
              <a:rPr b="0" lang="zh-CN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미공개 정보보호 등</a:t>
            </a:r>
            <a:r>
              <a:rPr b="0" lang="en-US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)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상호인정협정 </a:t>
            </a:r>
            <a:r>
              <a:rPr b="0" lang="en-US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(MRA)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</p:txBody>
      </p:sp>
    </p:spTree>
  </p:cSld>
  <p:transition advTm="12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고딕"/>
              </a:rPr>
              <a:t>I. </a:t>
            </a:r>
            <a:r>
              <a:rPr b="0" lang="zh-CN" sz="3600" spc="-1" strike="noStrike">
                <a:solidFill>
                  <a:srgbClr val="000000"/>
                </a:solidFill>
                <a:latin typeface="HY견고딕"/>
              </a:rPr>
              <a:t>보건산업관련 </a:t>
            </a:r>
            <a:r>
              <a:rPr b="0" lang="en-US" sz="3600" spc="-1" strike="noStrike">
                <a:solidFill>
                  <a:srgbClr val="000000"/>
                </a:solidFill>
                <a:latin typeface="HY견고딕"/>
              </a:rPr>
              <a:t>FTA </a:t>
            </a:r>
            <a:r>
              <a:rPr b="0" lang="zh-CN" sz="3600" spc="-1" strike="noStrike">
                <a:solidFill>
                  <a:srgbClr val="000000"/>
                </a:solidFill>
                <a:latin typeface="HY견고딕"/>
              </a:rPr>
              <a:t>협상분야</a:t>
            </a: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58880" y="1069920"/>
            <a:ext cx="7626240" cy="5311800"/>
            <a:chOff x="758880" y="1069920"/>
            <a:chExt cx="7626240" cy="5311800"/>
          </a:xfrm>
        </p:grpSpPr>
        <p:sp>
          <p:nvSpPr>
            <p:cNvPr id="118" name=""/>
            <p:cNvSpPr/>
            <p:nvPr/>
          </p:nvSpPr>
          <p:spPr>
            <a:xfrm>
              <a:off x="758880" y="1374480"/>
              <a:ext cx="7626240" cy="5007240"/>
            </a:xfrm>
            <a:prstGeom prst="roundRect">
              <a:avLst>
                <a:gd name="adj" fmla="val 4333"/>
              </a:avLst>
            </a:prstGeom>
            <a:solidFill>
              <a:srgbClr val="000000">
                <a:alpha val="30000"/>
              </a:srgbClr>
            </a:solidFill>
            <a:ln w="28440">
              <a:solidFill>
                <a:srgbClr val="33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382760" y="1069920"/>
              <a:ext cx="6378480" cy="637920"/>
              <a:chOff x="1382760" y="1069920"/>
              <a:chExt cx="6378480" cy="637920"/>
            </a:xfrm>
          </p:grpSpPr>
          <p:sp>
            <p:nvSpPr>
              <p:cNvPr id="120" name=""/>
              <p:cNvSpPr/>
              <p:nvPr/>
            </p:nvSpPr>
            <p:spPr>
              <a:xfrm>
                <a:off x="1382760" y="1069920"/>
                <a:ext cx="6378480" cy="637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7414d"/>
                  </a:gs>
                  <a:gs pos="50000">
                    <a:srgbClr val="2a7288"/>
                  </a:gs>
                  <a:gs pos="100000">
                    <a:srgbClr val="17414d"/>
                  </a:gs>
                </a:gsLst>
                <a:lin ang="10800000"/>
              </a:gradFill>
              <a:ln w="0">
                <a:noFill/>
              </a:ln>
              <a:effectLst>
                <a:outerShdw dist="12600" dir="54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091760" y="1126800"/>
                <a:ext cx="975960" cy="4878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HY헤드라인M"/>
                    <a:ea typeface="HY헤드라인M"/>
                  </a:rPr>
                  <a:t>상품무역</a:t>
                </a:r>
                <a:endParaRPr b="0" lang="en-US" sz="3200" spc="-1" strike="noStrike">
                  <a:solidFill>
                    <a:srgbClr val="333333"/>
                  </a:solidFill>
                  <a:latin typeface="굴림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1042920" y="1989000"/>
            <a:ext cx="705816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</a:t>
            </a:r>
            <a:r>
              <a:rPr b="0" lang="ko-KR" sz="2200" spc="-1" strike="noStrike">
                <a:solidFill>
                  <a:srgbClr val="990000"/>
                </a:solidFill>
                <a:latin typeface="HY헤드라인M"/>
                <a:ea typeface="HY헤드라인M"/>
              </a:rPr>
              <a:t>상품양허 및 원산지기준 협상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ko-KR" sz="2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상품양허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의약품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화장품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의료기기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식품 등 보건복지부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소관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00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여개 품목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HS 10digt)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에 대한 관세철폐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/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감축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lang="ko-KR" sz="20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원산지기준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수출시 무관세 등 특혜관세를 적용받기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위한 상품의 국적인정 조건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1835280" y="3716280"/>
            <a:ext cx="5473440" cy="1513080"/>
          </a:xfrm>
          <a:prstGeom prst="roundRect">
            <a:avLst>
              <a:gd name="adj" fmla="val 6861"/>
            </a:avLst>
          </a:prstGeom>
          <a:solidFill>
            <a:srgbClr val="8df2fd">
              <a:alpha val="55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8723160" y="4689360"/>
            <a:ext cx="32846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3933720"/>
            <a:ext cx="2789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45016"/>
                </a:solidFill>
                <a:latin typeface="HY헤드라인M"/>
                <a:ea typeface="HY헤드라인M"/>
              </a:rPr>
              <a:t>&lt;</a:t>
            </a:r>
            <a:r>
              <a:rPr b="0" lang="ko-KR" sz="2200" spc="-1" strike="noStrike">
                <a:solidFill>
                  <a:srgbClr val="f45016"/>
                </a:solidFill>
                <a:latin typeface="HY헤드라인M"/>
                <a:ea typeface="HY헤드라인M"/>
              </a:rPr>
              <a:t>보건산업 분야별 품목수</a:t>
            </a:r>
            <a:r>
              <a:rPr b="0" lang="ko-KR" sz="2200" spc="-1" strike="noStrike">
                <a:solidFill>
                  <a:srgbClr val="f45016"/>
                </a:solidFill>
                <a:latin typeface="HY헤드라인M"/>
                <a:ea typeface="HY헤드라인M"/>
              </a:rPr>
              <a:t>&gt;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365720"/>
            <a:ext cx="451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* </a:t>
            </a: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의약품 </a:t>
            </a: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460</a:t>
            </a: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개</a:t>
            </a: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      * </a:t>
            </a: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화장품 </a:t>
            </a: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33</a:t>
            </a: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개</a:t>
            </a: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* </a:t>
            </a: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의료기기</a:t>
            </a: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135</a:t>
            </a: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개</a:t>
            </a: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    * </a:t>
            </a: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식품 </a:t>
            </a: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1,017</a:t>
            </a: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개</a:t>
            </a: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1865160"/>
            <a:ext cx="7626240" cy="2716200"/>
          </a:xfrm>
          <a:prstGeom prst="roundRect">
            <a:avLst>
              <a:gd name="adj" fmla="val 4333"/>
            </a:avLst>
          </a:prstGeom>
          <a:solidFill>
            <a:srgbClr val="000000">
              <a:alpha val="30000"/>
            </a:srgbClr>
          </a:solidFill>
          <a:ln w="28440">
            <a:solidFill>
              <a:srgbClr val="33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379520" y="1557360"/>
            <a:ext cx="6378480" cy="644040"/>
            <a:chOff x="1379520" y="1557360"/>
            <a:chExt cx="6378480" cy="644040"/>
          </a:xfrm>
        </p:grpSpPr>
        <p:sp>
          <p:nvSpPr>
            <p:cNvPr id="129" name=""/>
            <p:cNvSpPr/>
            <p:nvPr/>
          </p:nvSpPr>
          <p:spPr>
            <a:xfrm>
              <a:off x="1379520" y="1557360"/>
              <a:ext cx="6378480" cy="64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7414d"/>
                </a:gs>
                <a:gs pos="50000">
                  <a:srgbClr val="2a7288"/>
                </a:gs>
                <a:gs pos="100000">
                  <a:srgbClr val="17414d"/>
                </a:gs>
              </a:gsLst>
              <a:lin ang="10800000"/>
            </a:gradFill>
            <a:ln w="0">
              <a:noFill/>
            </a:ln>
            <a:effectLst>
              <a:outerShdw dist="12600" dir="54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08040" y="1614600"/>
              <a:ext cx="2540520" cy="487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지식재산권</a:t>
              </a:r>
              <a:r>
                <a:rPr b="0" lang="en-US" sz="32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/</a:t>
              </a:r>
              <a:r>
                <a:rPr b="0" lang="zh-CN" sz="32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상호인정</a:t>
              </a:r>
              <a:endParaRPr b="0" lang="en-US" sz="32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039680" y="2486160"/>
            <a:ext cx="727740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HY헤드라인M"/>
                <a:ea typeface="HY헤드라인M"/>
              </a:rPr>
              <a:t> </a:t>
            </a:r>
            <a:r>
              <a:rPr b="0" lang="zh-CN" sz="2200" spc="-1" strike="noStrike">
                <a:solidFill>
                  <a:srgbClr val="990000"/>
                </a:solidFill>
                <a:latin typeface="HY헤드라인M"/>
                <a:ea typeface="HY헤드라인M"/>
              </a:rPr>
              <a:t>최근 이슈로 제기되고 있는 의약품 관련 정보보호 논의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HY헤드라인M"/>
                <a:ea typeface="HY헤드라인M"/>
              </a:rPr>
              <a:t> </a:t>
            </a:r>
            <a:r>
              <a:rPr b="0" lang="zh-CN" sz="2200" spc="-1" strike="noStrike">
                <a:solidFill>
                  <a:srgbClr val="990000"/>
                </a:solidFill>
                <a:latin typeface="HY헤드라인M"/>
                <a:ea typeface="HY헤드라인M"/>
              </a:rPr>
              <a:t>우수제조시설 및 우수시험기관에 대한 상호인정</a:t>
            </a:r>
            <a:r>
              <a:rPr b="0" lang="en-US" sz="2200" spc="-1" strike="noStrike">
                <a:solidFill>
                  <a:srgbClr val="990000"/>
                </a:solidFill>
                <a:latin typeface="HY헤드라인M"/>
                <a:ea typeface="HY헤드라인M"/>
              </a:rPr>
              <a:t>(MRA)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HY헤드라인M"/>
                <a:ea typeface="HY헤드라인M"/>
              </a:rPr>
              <a:t>   </a:t>
            </a:r>
            <a:r>
              <a:rPr b="0" lang="zh-CN" sz="2200" spc="-1" strike="noStrike">
                <a:solidFill>
                  <a:srgbClr val="990000"/>
                </a:solidFill>
                <a:latin typeface="HY헤드라인M"/>
                <a:ea typeface="HY헤드라인M"/>
              </a:rPr>
              <a:t>논의</a:t>
            </a:r>
            <a:r>
              <a:rPr b="0" lang="en-US" sz="22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 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50440" y="1268280"/>
            <a:ext cx="4786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HY견고딕"/>
                <a:ea typeface="HY견고딕"/>
              </a:rPr>
              <a:t>II. </a:t>
            </a:r>
            <a:r>
              <a:rPr b="0" lang="zh-CN" sz="4000" spc="-1" strike="noStrike">
                <a:solidFill>
                  <a:srgbClr val="003399"/>
                </a:solidFill>
                <a:latin typeface="HY견고딕"/>
                <a:ea typeface="HY견고딕"/>
              </a:rPr>
              <a:t>제약산업분야 대응현황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06760" y="2209680"/>
            <a:ext cx="6537240" cy="0"/>
          </a:xfrm>
          <a:prstGeom prst="line">
            <a:avLst/>
          </a:prstGeom>
          <a:ln w="28440">
            <a:solidFill>
              <a:srgbClr val="277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2209680"/>
            <a:ext cx="0" cy="3810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2286000"/>
            <a:ext cx="529128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한</a:t>
            </a:r>
            <a:r>
              <a:rPr b="0" lang="en-US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-</a:t>
            </a:r>
            <a:r>
              <a:rPr b="0" lang="zh-CN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칠레 </a:t>
            </a:r>
            <a:r>
              <a:rPr b="0" lang="en-US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FTA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한</a:t>
            </a:r>
            <a:r>
              <a:rPr b="0" lang="en-US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-</a:t>
            </a:r>
            <a:r>
              <a:rPr b="0" lang="zh-CN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싱가포르 </a:t>
            </a:r>
            <a:r>
              <a:rPr b="0" lang="en-US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FTA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한</a:t>
            </a:r>
            <a:r>
              <a:rPr b="0" lang="en-US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-</a:t>
            </a:r>
            <a:r>
              <a:rPr b="0" lang="zh-CN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아세안 </a:t>
            </a:r>
            <a:r>
              <a:rPr b="0" lang="en-US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FTA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한</a:t>
            </a:r>
            <a:r>
              <a:rPr b="0" lang="en-US" sz="2200" spc="-1" strike="noStrike">
                <a:solidFill>
                  <a:srgbClr val="3399ff"/>
                </a:solidFill>
                <a:latin typeface="HY헤드라인M"/>
                <a:ea typeface="HY헤드라인M"/>
              </a:rPr>
              <a:t>-EFTA FTA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</p:txBody>
      </p:sp>
    </p:spTree>
  </p:cSld>
  <p:transition advTm="12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694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고딕"/>
              </a:rPr>
              <a:t>II. </a:t>
            </a:r>
            <a:r>
              <a:rPr b="0" lang="zh-CN" sz="3600" spc="-1" strike="noStrike">
                <a:solidFill>
                  <a:srgbClr val="000000"/>
                </a:solidFill>
                <a:latin typeface="HY견고딕"/>
              </a:rPr>
              <a:t>제약산업 분야 대응현황 </a:t>
            </a:r>
            <a:endParaRPr b="0" lang="en-US" sz="3600" spc="-1" strike="noStrike">
              <a:solidFill>
                <a:srgbClr val="000000"/>
              </a:solidFill>
              <a:latin typeface="HY견고딕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419120" y="1066680"/>
            <a:ext cx="6248520" cy="633600"/>
            <a:chOff x="1419120" y="1066680"/>
            <a:chExt cx="6248520" cy="633600"/>
          </a:xfrm>
        </p:grpSpPr>
        <p:sp>
          <p:nvSpPr>
            <p:cNvPr id="138" name=""/>
            <p:cNvSpPr/>
            <p:nvPr/>
          </p:nvSpPr>
          <p:spPr>
            <a:xfrm>
              <a:off x="1542960" y="1066680"/>
              <a:ext cx="6000840" cy="633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19120" y="1074600"/>
              <a:ext cx="6248520" cy="59076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99"/>
                  </a:solidFill>
                  <a:latin typeface="HY견고딕"/>
                  <a:ea typeface="HY견고딕"/>
                </a:rPr>
                <a:t>한</a:t>
              </a:r>
              <a:r>
                <a:rPr b="0" lang="en-US" sz="2300" spc="-1" strike="noStrike">
                  <a:solidFill>
                    <a:srgbClr val="000099"/>
                  </a:solidFill>
                  <a:latin typeface="HY견고딕"/>
                  <a:ea typeface="HY견고딕"/>
                </a:rPr>
                <a:t>-</a:t>
              </a:r>
              <a:r>
                <a:rPr b="0" lang="zh-CN" sz="2300" spc="-1" strike="noStrike">
                  <a:solidFill>
                    <a:srgbClr val="000099"/>
                  </a:solidFill>
                  <a:latin typeface="HY견고딕"/>
                  <a:ea typeface="HY견고딕"/>
                </a:rPr>
                <a:t>칠레 </a:t>
              </a:r>
              <a:r>
                <a:rPr b="0" lang="en-US" sz="2300" spc="-1" strike="noStrike">
                  <a:solidFill>
                    <a:srgbClr val="000099"/>
                  </a:solidFill>
                  <a:latin typeface="HY견고딕"/>
                  <a:ea typeface="HY견고딕"/>
                </a:rPr>
                <a:t>FTA</a:t>
              </a:r>
              <a:endParaRPr b="0" lang="en-US" sz="23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24000" y="1916280"/>
            <a:ext cx="8496000" cy="2089080"/>
          </a:xfrm>
          <a:prstGeom prst="roundRect">
            <a:avLst>
              <a:gd name="adj" fmla="val 6861"/>
            </a:avLst>
          </a:prstGeom>
          <a:gradFill rotWithShape="0">
            <a:gsLst>
              <a:gs pos="0">
                <a:srgbClr val="fefefe">
                  <a:alpha val="27058"/>
                </a:srgbClr>
              </a:gs>
              <a:gs pos="100000">
                <a:srgbClr val="ffffff">
                  <a:alpha val="71372"/>
                </a:srgbClr>
              </a:gs>
            </a:gsLst>
            <a:lin ang="10800000"/>
          </a:gra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590920"/>
            <a:ext cx="763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903320"/>
            <a:ext cx="8515080" cy="522360"/>
          </a:xfrm>
          <a:prstGeom prst="roundRect">
            <a:avLst>
              <a:gd name="adj" fmla="val 18995"/>
            </a:avLst>
          </a:prstGeom>
          <a:gradFill rotWithShape="0">
            <a:gsLst>
              <a:gs pos="0">
                <a:srgbClr val="99ccff"/>
              </a:gs>
              <a:gs pos="100000">
                <a:srgbClr val="0066ff"/>
              </a:gs>
            </a:gsLst>
            <a:lin ang="108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산돌고딕B"/>
                <a:ea typeface="산돌고딕B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1981080"/>
            <a:ext cx="6480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협상경과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565360"/>
            <a:ext cx="806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’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99.12~’02.10 : 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공식협상 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6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회 개최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’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03. 2 : 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협상 타결 및 공식서명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’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04. 4 : </a:t>
            </a:r>
            <a:r>
              <a:rPr b="0" lang="zh-CN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국회비준동의 및 발효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343080" y="4233960"/>
            <a:ext cx="8496000" cy="2363760"/>
          </a:xfrm>
          <a:prstGeom prst="roundRect">
            <a:avLst>
              <a:gd name="adj" fmla="val 6861"/>
            </a:avLst>
          </a:prstGeom>
          <a:gradFill rotWithShape="0">
            <a:gsLst>
              <a:gs pos="0">
                <a:srgbClr val="fefefe">
                  <a:alpha val="27058"/>
                </a:srgbClr>
              </a:gs>
              <a:gs pos="100000">
                <a:srgbClr val="ffffff">
                  <a:alpha val="71372"/>
                </a:srgbClr>
              </a:gs>
            </a:gsLst>
            <a:lin ang="10800000"/>
          </a:gra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3440" y="4902120"/>
            <a:ext cx="7632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4221000"/>
            <a:ext cx="8515080" cy="517680"/>
          </a:xfrm>
          <a:prstGeom prst="roundRect">
            <a:avLst>
              <a:gd name="adj" fmla="val 18995"/>
            </a:avLst>
          </a:prstGeom>
          <a:gradFill rotWithShape="0">
            <a:gsLst>
              <a:gs pos="0">
                <a:srgbClr val="99ccff"/>
              </a:gs>
              <a:gs pos="100000">
                <a:srgbClr val="0066ff"/>
              </a:gs>
            </a:gsLst>
            <a:lin ang="108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산돌고딕B"/>
                <a:ea typeface="산돌고딕B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630360" y="4299120"/>
            <a:ext cx="648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한</a:t>
            </a:r>
            <a:r>
              <a:rPr b="0" lang="ko-KR" sz="22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-</a:t>
            </a:r>
            <a:r>
              <a:rPr b="0" lang="ko-KR" sz="22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칠레 </a:t>
            </a:r>
            <a:r>
              <a:rPr b="0" lang="ko-KR" sz="22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FTA </a:t>
            </a:r>
            <a:r>
              <a:rPr b="0" lang="ko-KR" sz="22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의약품 양허 현황</a:t>
            </a:r>
            <a:endParaRPr b="0" lang="en-US" sz="22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4797360"/>
            <a:ext cx="7993080" cy="16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우리측 </a:t>
            </a:r>
            <a:r>
              <a:rPr b="0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: </a:t>
            </a:r>
            <a:r>
              <a:rPr b="0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의약품 전품목 즉시철폐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칠레측 </a:t>
            </a:r>
            <a:r>
              <a:rPr b="0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: </a:t>
            </a:r>
            <a:r>
              <a:rPr b="0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즉시철폐</a:t>
            </a:r>
            <a:r>
              <a:rPr b="0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(30</a:t>
            </a:r>
            <a:r>
              <a:rPr b="0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개</a:t>
            </a:r>
            <a:r>
              <a:rPr b="0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), 5</a:t>
            </a:r>
            <a:r>
              <a:rPr b="0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년유예</a:t>
            </a:r>
            <a:r>
              <a:rPr b="0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(140</a:t>
            </a:r>
            <a:r>
              <a:rPr b="0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개</a:t>
            </a:r>
            <a:r>
              <a:rPr b="0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), 10</a:t>
            </a:r>
            <a:r>
              <a:rPr b="0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년유예</a:t>
            </a:r>
            <a:r>
              <a:rPr b="0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(49</a:t>
            </a:r>
            <a:r>
              <a:rPr b="0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개</a:t>
            </a:r>
            <a:r>
              <a:rPr b="0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 </a:t>
            </a:r>
            <a:r>
              <a:rPr b="0" lang="ko-KR" sz="16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* </a:t>
            </a:r>
            <a:r>
              <a:rPr b="0" lang="ko-KR" sz="16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칠레는 의약품 교역규모가 적고 </a:t>
            </a:r>
            <a:r>
              <a:rPr b="0" lang="ko-KR" sz="16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(</a:t>
            </a:r>
            <a:r>
              <a:rPr b="0" lang="ko-KR" sz="16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대세계 교역량 </a:t>
            </a:r>
            <a:r>
              <a:rPr b="0" lang="ko-KR" sz="16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0.2% </a:t>
            </a:r>
            <a:r>
              <a:rPr b="0" lang="ko-KR" sz="16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수준</a:t>
            </a:r>
            <a:r>
              <a:rPr b="0" lang="ko-KR" sz="16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)</a:t>
            </a:r>
            <a:r>
              <a:rPr b="0" lang="ko-KR" sz="16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이며 우리나라와의</a:t>
            </a:r>
            <a:endParaRPr b="0" lang="en-US" sz="1600" spc="-1" strike="noStrike">
              <a:solidFill>
                <a:srgbClr val="333333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    </a:t>
            </a:r>
            <a:r>
              <a:rPr b="0" lang="ko-KR" sz="16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교역도 미미한 수준이므로 개방을 유도하기 위해 </a:t>
            </a:r>
            <a:r>
              <a:rPr b="0" lang="ko-KR" sz="1600" spc="-1" strike="noStrike">
                <a:solidFill>
                  <a:srgbClr val="f45016"/>
                </a:solidFill>
                <a:latin typeface="HY헤드라인M"/>
                <a:ea typeface="HY헤드라인M"/>
              </a:rPr>
              <a:t>전향적으로 관세를 철폐</a:t>
            </a:r>
            <a:r>
              <a:rPr b="0" lang="ko-KR" sz="1600" spc="-1" strike="noStrike">
                <a:solidFill>
                  <a:srgbClr val="003399"/>
                </a:solidFill>
                <a:latin typeface="HY헤드라인M"/>
                <a:ea typeface="HY헤드라인M"/>
              </a:rPr>
              <a:t>하였음</a:t>
            </a:r>
            <a:endParaRPr b="0" lang="en-US" sz="1600" spc="-1" strike="noStrike">
              <a:solidFill>
                <a:srgbClr val="333333"/>
              </a:solidFill>
              <a:latin typeface="굴림"/>
            </a:endParaRPr>
          </a:p>
        </p:txBody>
      </p:sp>
    </p:spTree>
  </p:cSld>
  <p:transition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324000" y="1628640"/>
            <a:ext cx="8515080" cy="2950920"/>
            <a:chOff x="324000" y="1628640"/>
            <a:chExt cx="8515080" cy="2950920"/>
          </a:xfrm>
        </p:grpSpPr>
        <p:sp>
          <p:nvSpPr>
            <p:cNvPr id="151" name=""/>
            <p:cNvSpPr/>
            <p:nvPr/>
          </p:nvSpPr>
          <p:spPr>
            <a:xfrm>
              <a:off x="684360" y="2085840"/>
              <a:ext cx="7632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3080" y="1641240"/>
              <a:ext cx="8496000" cy="2938320"/>
            </a:xfrm>
            <a:prstGeom prst="roundRect">
              <a:avLst>
                <a:gd name="adj" fmla="val 6861"/>
              </a:avLst>
            </a:prstGeom>
            <a:gradFill rotWithShape="0">
              <a:gsLst>
                <a:gs pos="0">
                  <a:srgbClr val="fefefe">
                    <a:alpha val="27058"/>
                  </a:srgbClr>
                </a:gs>
                <a:gs pos="100000">
                  <a:srgbClr val="ffffff">
                    <a:alpha val="71372"/>
                  </a:srgbClr>
                </a:gs>
              </a:gsLst>
              <a:lin ang="10800000"/>
            </a:gra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3440" y="2309400"/>
              <a:ext cx="7632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00" y="1628640"/>
              <a:ext cx="8515080" cy="517320"/>
            </a:xfrm>
            <a:prstGeom prst="roundRect">
              <a:avLst>
                <a:gd name="adj" fmla="val 1899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66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산돌고딕B"/>
                  <a:ea typeface="산돌고딕B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0360" y="1706400"/>
              <a:ext cx="648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1280" y="2349360"/>
              <a:ext cx="7993080" cy="21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우회수입 방지 등을 목적으로 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4</a:t>
              </a:r>
              <a:r>
                <a:rPr b="0" lang="zh-CN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단위 세번변경기준을 적용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  </a:t>
              </a:r>
              <a:r>
                <a:rPr b="0" lang="en-US" sz="18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* 4</a:t>
              </a:r>
              <a:r>
                <a:rPr b="0" lang="zh-CN" sz="18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단위 세번변경</a:t>
              </a:r>
              <a:r>
                <a:rPr b="0" lang="en-US" sz="18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(CTH, Change of Tariff Heading)</a:t>
              </a: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    </a:t>
              </a:r>
              <a:r>
                <a:rPr b="0" lang="en-US" sz="18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: </a:t>
              </a:r>
              <a:r>
                <a:rPr b="0" lang="zh-CN" sz="18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수입재료로 완제품을 생산할 경우 </a:t>
              </a:r>
              <a:r>
                <a:rPr b="0" lang="en-US" sz="18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4</a:t>
              </a:r>
              <a:r>
                <a:rPr b="0" lang="zh-CN" sz="18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단위의 세번이 변경되면</a:t>
              </a:r>
              <a:endParaRPr b="0" lang="en-US" sz="18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      </a:t>
              </a:r>
              <a:r>
                <a:rPr b="0" lang="zh-CN" sz="18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원산지를 인정</a:t>
              </a:r>
              <a:r>
                <a:rPr b="0" lang="en-US" sz="18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(</a:t>
              </a:r>
              <a:r>
                <a:rPr b="0" lang="zh-CN" sz="18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의약품의 경우 엄격한 기준임</a:t>
              </a:r>
              <a:r>
                <a:rPr b="0" lang="en-US" sz="18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)</a:t>
              </a:r>
              <a:endParaRPr b="0" lang="en-US" sz="18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9640" y="1699920"/>
              <a:ext cx="6480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한</a:t>
              </a:r>
              <a:r>
                <a:rPr b="0" lang="en-US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-</a:t>
              </a:r>
              <a:r>
                <a:rPr b="0" lang="zh-CN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칠레 </a:t>
              </a:r>
              <a:r>
                <a:rPr b="0" lang="en-US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FTA </a:t>
              </a:r>
              <a:r>
                <a:rPr b="0" lang="zh-CN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원산지 기준</a:t>
              </a:r>
              <a:endParaRPr b="0" lang="en-US" sz="22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324000" y="1700280"/>
            <a:ext cx="8515080" cy="3959280"/>
            <a:chOff x="324000" y="1700280"/>
            <a:chExt cx="8515080" cy="3959280"/>
          </a:xfrm>
        </p:grpSpPr>
        <p:sp>
          <p:nvSpPr>
            <p:cNvPr id="159" name=""/>
            <p:cNvSpPr/>
            <p:nvPr/>
          </p:nvSpPr>
          <p:spPr>
            <a:xfrm>
              <a:off x="684360" y="2157480"/>
              <a:ext cx="7632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080" y="1712880"/>
              <a:ext cx="8496000" cy="3946680"/>
            </a:xfrm>
            <a:prstGeom prst="roundRect">
              <a:avLst>
                <a:gd name="adj" fmla="val 6861"/>
              </a:avLst>
            </a:prstGeom>
            <a:gradFill rotWithShape="0">
              <a:gsLst>
                <a:gs pos="0">
                  <a:srgbClr val="fefefe">
                    <a:alpha val="27058"/>
                  </a:srgbClr>
                </a:gs>
                <a:gs pos="100000">
                  <a:srgbClr val="ffffff">
                    <a:alpha val="71372"/>
                  </a:srgbClr>
                </a:gs>
              </a:gsLst>
              <a:lin ang="10800000"/>
            </a:gra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3440" y="2381040"/>
              <a:ext cx="7632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1700280"/>
              <a:ext cx="8515080" cy="517320"/>
            </a:xfrm>
            <a:prstGeom prst="roundRect">
              <a:avLst>
                <a:gd name="adj" fmla="val 1899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66ff"/>
                </a:gs>
              </a:gsLst>
              <a:lin ang="108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산돌고딕B"/>
                  <a:ea typeface="산돌고딕B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0360" y="1778040"/>
              <a:ext cx="648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한</a:t>
              </a:r>
              <a:r>
                <a:rPr b="0" lang="en-US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-</a:t>
              </a:r>
              <a:r>
                <a:rPr b="0" lang="zh-CN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칠레 </a:t>
              </a:r>
              <a:r>
                <a:rPr b="0" lang="en-US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FTA</a:t>
              </a:r>
              <a:r>
                <a:rPr b="0" lang="zh-CN" sz="2200" spc="-1" strike="noStrike">
                  <a:solidFill>
                    <a:srgbClr val="ffcc00"/>
                  </a:solidFill>
                  <a:latin typeface="HY헤드라인M"/>
                  <a:ea typeface="HY헤드라인M"/>
                </a:rPr>
                <a:t>협정 체결 이후 교역량 추이</a:t>
              </a:r>
              <a:endParaRPr b="0" lang="en-US" sz="2200" spc="-1" strike="noStrike">
                <a:solidFill>
                  <a:srgbClr val="333333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1280" y="2421000"/>
              <a:ext cx="79930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2004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년도에 약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200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만불 수출을 기록했으며 </a:t>
              </a:r>
              <a:r>
                <a:rPr b="0" lang="ko-KR" sz="2000" spc="-1" strike="noStrike">
                  <a:solidFill>
                    <a:srgbClr val="f45016"/>
                  </a:solidFill>
                  <a:latin typeface="HY헤드라인M"/>
                  <a:ea typeface="HY헤드라인M"/>
                </a:rPr>
                <a:t>전년대비 </a:t>
              </a:r>
              <a:r>
                <a:rPr b="0" lang="ko-KR" sz="2000" spc="-1" strike="noStrike">
                  <a:solidFill>
                    <a:srgbClr val="f45016"/>
                  </a:solidFill>
                  <a:latin typeface="HY헤드라인M"/>
                  <a:ea typeface="HY헤드라인M"/>
                </a:rPr>
                <a:t>19% </a:t>
              </a:r>
              <a:r>
                <a:rPr b="0" lang="ko-KR" sz="2000" spc="-1" strike="noStrike">
                  <a:solidFill>
                    <a:srgbClr val="f45016"/>
                  </a:solidFill>
                  <a:latin typeface="HY헤드라인M"/>
                  <a:ea typeface="HY헤드라인M"/>
                </a:rPr>
                <a:t>증가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주요 수출품목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: 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기타 의약품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(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소매용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)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항결핵제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/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구충제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/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항암제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산소관능의 카르복시산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 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-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박테리아물품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,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리신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,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혈액조제품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, </a:t>
              </a:r>
              <a:r>
                <a:rPr b="0" lang="ko-KR" sz="2000" spc="-1" strike="noStrike">
                  <a:solidFill>
                    <a:srgbClr val="003399"/>
                  </a:solidFill>
                  <a:latin typeface="HY헤드라인M"/>
                  <a:ea typeface="HY헤드라인M"/>
                </a:rPr>
                <a:t>백신 등  </a:t>
              </a:r>
              <a:endParaRPr b="0" lang="en-US" sz="2000" spc="-1" strike="noStrike">
                <a:solidFill>
                  <a:srgbClr val="333333"/>
                </a:solidFill>
                <a:latin typeface="굴림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3T05:08:17Z</dcterms:created>
  <dc:creator>SEC</dc:creator>
  <dc:description/>
  <dc:language>en-US</dc:language>
  <cp:lastModifiedBy>SEC</cp:lastModifiedBy>
  <dcterms:modified xsi:type="dcterms:W3CDTF">2005-07-11T07:28:46Z</dcterms:modified>
  <cp:revision>787</cp:revision>
  <dc:subject/>
  <dc:title>2만달러를 향한  기업의 기술혁신역량 강화:  10대 과제와 대책</dc:title>
</cp:coreProperties>
</file>