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48F-EC71-4BA7-9F1D-0A7B63ED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7640" y="244512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2CF-7FE3-4E20-AF8E-C3C480BA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2200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65B-2E4A-429E-840C-9B50843E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56852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2976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764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56852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02976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C3-695A-40CB-B008-5157C12A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7640" y="2157480"/>
            <a:ext cx="4321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432108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2130120"/>
            <a:ext cx="9144000" cy="68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7640" y="2157480"/>
            <a:ext cx="4321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247-5BB5-4C16-A199-CC73388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2200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7640" y="244512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32200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6852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29760" y="215748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764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56852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029760" y="2445120"/>
            <a:ext cx="139104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432108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F96-AD4A-433C-B16F-4469FB13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097-19E5-469F-97E1-12FDE4E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4B3-C8AB-4752-9282-925A4FD4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130120"/>
            <a:ext cx="9144000" cy="68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BAF-4DB0-425A-BF12-6C5C8DEC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F94-529A-48B8-A021-AFE99C7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22000" y="244512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326-C72B-4E21-8FDA-3CA4191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764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22000" y="2157480"/>
            <a:ext cx="210852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7640" y="2445120"/>
            <a:ext cx="4321080" cy="2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97C-52D3-44CA-8E76-6326E33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99ff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2D4-4C02-4A0A-9D89-C9E28444AA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400" y="6364440"/>
            <a:ext cx="1866600" cy="449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75960"/>
            <a:ext cx="9109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헤드라인M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HY헤드라인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cccc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cccc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058840"/>
            <a:ext cx="9144000" cy="1441440"/>
          </a:xfrm>
          <a:prstGeom prst="rect">
            <a:avLst/>
          </a:prstGeom>
          <a:gradFill rotWithShape="0">
            <a:gsLst>
              <a:gs pos="0">
                <a:srgbClr val="0099ff">
                  <a:alpha val="50196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17720"/>
            <a:ext cx="914400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333399"/>
                </a:solidFill>
                <a:latin typeface="Verdana"/>
                <a:ea typeface="굴림체"/>
              </a:rPr>
              <a:t>무역조정 지원법</a:t>
            </a:r>
            <a:r>
              <a:rPr b="1" lang="ko-KR" sz="4500" spc="-1" strike="noStrike">
                <a:solidFill>
                  <a:srgbClr val="333399"/>
                </a:solidFill>
                <a:latin typeface="Verdana"/>
                <a:ea typeface="굴림체"/>
              </a:rPr>
              <a:t>(</a:t>
            </a:r>
            <a:r>
              <a:rPr b="1" lang="ko-KR" sz="4500" spc="-1" strike="noStrike">
                <a:solidFill>
                  <a:srgbClr val="333399"/>
                </a:solidFill>
                <a:latin typeface="Verdana"/>
                <a:ea typeface="굴림체"/>
              </a:rPr>
              <a:t>안</a:t>
            </a:r>
            <a:r>
              <a:rPr b="1" lang="ko-KR" sz="4500" spc="-1" strike="noStrike">
                <a:solidFill>
                  <a:srgbClr val="333399"/>
                </a:solidFill>
                <a:latin typeface="Verdana"/>
                <a:ea typeface="굴림체"/>
              </a:rPr>
              <a:t>) </a:t>
            </a:r>
            <a:r>
              <a:rPr b="1" lang="ko-KR" sz="4500" spc="-1" strike="noStrike">
                <a:solidFill>
                  <a:srgbClr val="333399"/>
                </a:solidFill>
                <a:latin typeface="Verdana"/>
                <a:ea typeface="굴림체"/>
              </a:rPr>
              <a:t>제정계획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5392800"/>
            <a:ext cx="2736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Y헤드라인M"/>
              </a:rPr>
              <a:t>2005. 7.1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Y헤드라인M"/>
              </a:rPr>
              <a:t>국제협력과장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김  학  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572000"/>
            <a:ext cx="2496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산업자원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588120" y="1628640"/>
            <a:ext cx="2007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FTA </a:t>
            </a:r>
            <a:r>
              <a:rPr b="0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등 개방에 대비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향 후 추 진 일 정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752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05. 7, 8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월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: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공청회 개최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,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관계부처 협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,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입법 예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895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05. 9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월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: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차관회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,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국무회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962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05. 10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월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: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국회 제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‘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06. 1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월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(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예정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) :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법 시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4984920"/>
            <a:ext cx="35053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cc"/>
                </a:solidFill>
                <a:latin typeface="Verdana"/>
              </a:rPr>
              <a:t>감사합니다</a:t>
            </a: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2680"/>
            <a:ext cx="9144000" cy="116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Verdana"/>
              </a:rPr>
              <a:t>발 표  순 서</a:t>
            </a:r>
            <a:endParaRPr b="1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311120"/>
            <a:ext cx="72010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굴림체"/>
              </a:rPr>
              <a:t>추진 배경 및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028880" y="2157480"/>
            <a:ext cx="72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Verdana"/>
                <a:ea typeface="굴림체"/>
              </a:rPr>
              <a:t>무역조정지원관련 해외입법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3016080"/>
            <a:ext cx="72010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굴림체"/>
              </a:rPr>
              <a:t>추진 기본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895560"/>
            <a:ext cx="72010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굴림체"/>
              </a:rPr>
              <a:t>기 업 지 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16080" y="116676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16080" y="200484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16080" y="286236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16080" y="375768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767120"/>
            <a:ext cx="72010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굴림체"/>
              </a:rPr>
              <a:t>근 로 자 지 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462924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605560"/>
            <a:ext cx="720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33ccff"/>
              </a:gs>
            </a:gsLst>
            <a:lin ang="10800000"/>
          </a:gradFill>
          <a:ln w="38160">
            <a:solidFill>
              <a:srgbClr val="0ea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굴림체"/>
              </a:rPr>
              <a:t>향 후 추 진 일 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16080" y="5467320"/>
            <a:ext cx="704520" cy="70488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추 진 배 경  및  필 요 성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최근 동시다발적인 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FTA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추진에 따른 단기간의 급격한</a:t>
            </a:r>
            <a:br>
              <a:rPr sz="2400"/>
            </a:b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국내시장 개방 예상</a:t>
            </a:r>
            <a:endParaRPr b="1" lang="en-US" sz="2400" spc="-1" strike="noStrike">
              <a:solidFill>
                <a:srgbClr val="99ffcc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* ‘05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년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FTA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추진 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일본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ASEAN,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캐나다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EFTA  (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협상진행 중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)</a:t>
            </a:r>
            <a:br>
              <a:rPr sz="1800"/>
            </a:b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미국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러시아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인도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멕시코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, Mercosur  (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공동연구 중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2767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특히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,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일부 제조업 분야에서는 급격한 구조조정이 예상되나</a:t>
            </a:r>
            <a:br>
              <a:rPr sz="2400"/>
            </a:b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농수산 분야와는 달리 지원법령 부재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114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* 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자유무역협정체결에따른농어업인등의지원에관한특별법 제정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(‘04.3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월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6483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따라서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,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제조업 분야에서도 시장기능을 보완하는 적극적</a:t>
            </a:r>
            <a:br>
              <a:rPr sz="2400"/>
            </a:b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역할이 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486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체"/>
              </a:rPr>
              <a:t>*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  <a:ea typeface="굴림체"/>
              </a:rPr>
              <a:t>미국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체"/>
              </a:rPr>
              <a:t>: 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  <a:ea typeface="굴림체"/>
              </a:rPr>
              <a:t>무역조정지원법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체"/>
              </a:rPr>
              <a:t>(TAA : Trade Adjustment Assistance, 1962</a:t>
            </a:r>
            <a:r>
              <a:rPr b="1" lang="zh-CN" sz="1800" spc="-1" strike="noStrike">
                <a:solidFill>
                  <a:srgbClr val="ffff99"/>
                </a:solidFill>
                <a:latin typeface="Arial"/>
                <a:ea typeface="굴림체"/>
              </a:rPr>
              <a:t>년 제정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867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*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일본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산업활력재생법  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(1999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년 제정</a:t>
            </a:r>
            <a:r>
              <a:rPr b="1" lang="ko-KR" sz="1800" spc="-1" strike="noStrike">
                <a:solidFill>
                  <a:srgbClr val="ffff99"/>
                </a:solidFill>
                <a:latin typeface="Arial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91520" cy="4824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109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3366"/>
                </a:solidFill>
                <a:latin typeface="Verdana"/>
              </a:rPr>
              <a:t>무역조정지원관련 해외 입법례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125000"/>
            <a:ext cx="403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99ffcc"/>
                </a:solidFill>
                <a:latin typeface="Arial"/>
              </a:rPr>
              <a:t>미국</a:t>
            </a:r>
            <a:endParaRPr b="1" lang="en-US" sz="2000" spc="-1" strike="noStrike">
              <a:solidFill>
                <a:srgbClr val="99ffcc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06600"/>
            <a:ext cx="8991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1962 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년부터 무역조정지원제도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(TAA)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를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ff"/>
                </a:solidFill>
                <a:latin typeface="Arial"/>
                <a:ea typeface="굴림체"/>
              </a:rPr>
              <a:t>자유무역을 추진하는 과정에서  피해를 입은 자국 산업과 실업노동자를 보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276640"/>
            <a:ext cx="8458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757600"/>
            <a:ext cx="851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1957 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년 유럽구조기금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(ESF : Europe Structure Fund)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을  창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유럽통합 이후 역내 국가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지역간 균형있는 발전 도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05320"/>
            <a:ext cx="8458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일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3962520"/>
            <a:ext cx="851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1999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년 </a:t>
            </a:r>
            <a:r>
              <a:rPr b="1" lang="ko-KR" sz="2000" spc="-1" strike="noStrike">
                <a:solidFill>
                  <a:srgbClr val="ffff99"/>
                </a:solidFill>
                <a:latin typeface="바탕"/>
                <a:ea typeface="바탕"/>
              </a:rPr>
              <a:t>『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산업활력재생법』제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국내외 경제적 환경의 변화에 따른 생산성 저하에 대응하기 위해  세제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상법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ccff"/>
                </a:solidFill>
                <a:latin typeface="Arial"/>
                <a:ea typeface="굴림체"/>
              </a:rPr>
              <a:t>금융지원 등을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924440"/>
            <a:ext cx="8458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5349960"/>
            <a:ext cx="851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멕시코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(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농업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제조업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)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캐나다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(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섬유산업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)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체코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(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제조업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)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폴란드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(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에너지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철강산업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)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등이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FTA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등 개방관련 각종 지원대책을 수립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운영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417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추진 기본 방향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524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실질적 지원효과의 극대화를 위한 도덕적 해이 방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332160"/>
            <a:ext cx="88390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현행 기업 및 근로자 지원관련 유사제도와의 중복은 사전 배제</a:t>
            </a:r>
            <a:br>
              <a:rPr sz="2400"/>
            </a:b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8006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WTO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보조금 협정 등 국제 규범에 일치시킴으로써</a:t>
            </a:r>
            <a:br>
              <a:rPr sz="2400"/>
            </a:b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불필요한 통상마찰 사전방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48080"/>
            <a:ext cx="3609720" cy="4305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기 업 지 원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자격 요건</a:t>
            </a:r>
            <a:endParaRPr b="1" lang="en-US" sz="2400" spc="-1" strike="noStrike">
              <a:solidFill>
                <a:srgbClr val="99ffcc"/>
              </a:solidFill>
              <a:latin typeface="Verdana"/>
            </a:endParaRPr>
          </a:p>
          <a:p>
            <a:pPr lvl="1" marL="356400" indent="-1371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무역자유화 조치 및 개방에 따른 급격한 수입증가로 인해 매출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생산이 현저하게 감소한 기업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  <a:p>
            <a:pPr lvl="2" marL="548640" indent="-1094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ccccff"/>
                </a:solidFill>
                <a:latin typeface="Arial"/>
              </a:rPr>
              <a:t>특정 무역협정으로 인한 수입증가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zh-CN" sz="1800" spc="-1" strike="noStrike">
                <a:solidFill>
                  <a:srgbClr val="ccccff"/>
                </a:solidFill>
                <a:latin typeface="Arial"/>
              </a:rPr>
              <a:t>피해의 존재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zh-CN" sz="1800" spc="-1" strike="noStrike">
                <a:solidFill>
                  <a:srgbClr val="ccccff"/>
                </a:solidFill>
                <a:latin typeface="Arial"/>
              </a:rPr>
              <a:t>양자의 인과관계 및</a:t>
            </a:r>
            <a:br>
              <a:rPr sz="1800"/>
            </a:b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자구계획 제출</a:t>
            </a:r>
            <a:endParaRPr b="1" lang="en-US" sz="18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2767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ko-KR" sz="2400" spc="-1" strike="noStrike">
                <a:solidFill>
                  <a:srgbClr val="99ffcc"/>
                </a:solidFill>
                <a:latin typeface="Arial"/>
                <a:ea typeface="굴림체"/>
              </a:rPr>
              <a:t>지원 절차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피해 여부에 대해서는 무역위원회가 판정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기업자구계획의 타당성</a:t>
            </a:r>
            <a:br>
              <a:rPr sz="2000"/>
            </a:b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 에 대해서는 민간 전문가가 주축이 된 위원회에서 판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지원 내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단기경영안정자금 및 경영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기술 컨설팅 자금지원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조세특례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사업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 전환 및 폐업지원 등 구조조정 지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048120" y="4152960"/>
            <a:ext cx="1675440" cy="2324160"/>
            <a:chOff x="3048120" y="4152960"/>
            <a:chExt cx="1675440" cy="2324160"/>
          </a:xfrm>
        </p:grpSpPr>
        <p:grpSp>
          <p:nvGrpSpPr>
            <p:cNvPr id="129" name=""/>
            <p:cNvGrpSpPr/>
            <p:nvPr/>
          </p:nvGrpSpPr>
          <p:grpSpPr>
            <a:xfrm>
              <a:off x="3048120" y="4172040"/>
              <a:ext cx="1675440" cy="2305080"/>
              <a:chOff x="3048120" y="4172040"/>
              <a:chExt cx="1675440" cy="2305080"/>
            </a:xfrm>
          </p:grpSpPr>
          <p:sp>
            <p:nvSpPr>
              <p:cNvPr id="130" name=""/>
              <p:cNvSpPr/>
              <p:nvPr/>
            </p:nvSpPr>
            <p:spPr>
              <a:xfrm>
                <a:off x="3048120" y="4648320"/>
                <a:ext cx="158724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4172040"/>
                <a:ext cx="167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굴림체"/>
                  </a:rPr>
                  <a:t>기  업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048120" y="4152960"/>
              <a:ext cx="158760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81480" y="1371600"/>
            <a:ext cx="3505320" cy="1230840"/>
            <a:chOff x="5181480" y="1371600"/>
            <a:chExt cx="3505320" cy="1230840"/>
          </a:xfrm>
        </p:grpSpPr>
        <p:sp>
          <p:nvSpPr>
            <p:cNvPr id="134" name=""/>
            <p:cNvSpPr/>
            <p:nvPr/>
          </p:nvSpPr>
          <p:spPr>
            <a:xfrm>
              <a:off x="5181480" y="1371600"/>
              <a:ext cx="350532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1480" y="1828800"/>
              <a:ext cx="350532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7360" y="1905120"/>
              <a:ext cx="25322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굴림체"/>
                </a:rPr>
                <a:t>  </a:t>
              </a:r>
              <a:r>
                <a:rPr b="1" lang="zh-CN" sz="1800" spc="-1" strike="noStrike">
                  <a:solidFill>
                    <a:srgbClr val="000066"/>
                  </a:solidFill>
                  <a:latin typeface="Arial"/>
                  <a:ea typeface="굴림체"/>
                </a:rPr>
                <a:t>무  역  피  해   심   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09480" y="1295280"/>
            <a:ext cx="1447920" cy="2305080"/>
            <a:chOff x="609480" y="1295280"/>
            <a:chExt cx="1447920" cy="2305080"/>
          </a:xfrm>
        </p:grpSpPr>
        <p:sp>
          <p:nvSpPr>
            <p:cNvPr id="138" name=""/>
            <p:cNvSpPr/>
            <p:nvPr/>
          </p:nvSpPr>
          <p:spPr>
            <a:xfrm>
              <a:off x="609480" y="1295280"/>
              <a:ext cx="1371600" cy="5331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09480" y="1295280"/>
              <a:ext cx="1447920" cy="2305080"/>
              <a:chOff x="609480" y="1295280"/>
              <a:chExt cx="1447920" cy="2305080"/>
            </a:xfrm>
          </p:grpSpPr>
          <p:sp>
            <p:nvSpPr>
              <p:cNvPr id="140" name=""/>
              <p:cNvSpPr/>
              <p:nvPr/>
            </p:nvSpPr>
            <p:spPr>
              <a:xfrm>
                <a:off x="609480" y="1771560"/>
                <a:ext cx="137160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609480" y="1295280"/>
                <a:ext cx="1447920" cy="1314720"/>
                <a:chOff x="609480" y="1295280"/>
                <a:chExt cx="1447920" cy="1314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09480" y="1295280"/>
                  <a:ext cx="144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굴림체"/>
                    </a:rPr>
                    <a:t>기  업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09480" y="261000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기 업 지 원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4724280"/>
            <a:ext cx="9144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무   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조   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기   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판   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43200"/>
            <a:ext cx="1676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체"/>
              </a:rPr>
              <a:t>②  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기업자구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체"/>
              </a:rPr>
              <a:t>      계획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25909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295280"/>
            <a:ext cx="1066680" cy="2286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1371600"/>
            <a:ext cx="1447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무 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조 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지 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센 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371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무  역   위 원 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590920"/>
            <a:ext cx="3505320" cy="53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048120"/>
            <a:ext cx="3505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124080"/>
            <a:ext cx="298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체"/>
              </a:rPr>
              <a:t>  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기 업 자 구 계  획  심 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민간   평 가 위 원 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잠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594360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8769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4952880"/>
            <a:ext cx="457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6083280"/>
            <a:ext cx="381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19051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981080"/>
            <a:ext cx="457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111480"/>
            <a:ext cx="38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895400"/>
            <a:ext cx="1295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①   </a:t>
            </a: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자 격</a:t>
            </a:r>
            <a:br>
              <a:rPr sz="1800"/>
            </a:b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       신 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42512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산업 자원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41008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610160"/>
            <a:ext cx="1447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무 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조 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72200" y="4095720"/>
            <a:ext cx="1447920" cy="2324160"/>
            <a:chOff x="6172200" y="4095720"/>
            <a:chExt cx="1447920" cy="2324160"/>
          </a:xfrm>
        </p:grpSpPr>
        <p:grpSp>
          <p:nvGrpSpPr>
            <p:cNvPr id="168" name=""/>
            <p:cNvGrpSpPr/>
            <p:nvPr/>
          </p:nvGrpSpPr>
          <p:grpSpPr>
            <a:xfrm>
              <a:off x="6172200" y="4114800"/>
              <a:ext cx="1447920" cy="2305080"/>
              <a:chOff x="6172200" y="4114800"/>
              <a:chExt cx="1447920" cy="2305080"/>
            </a:xfrm>
          </p:grpSpPr>
          <p:sp>
            <p:nvSpPr>
              <p:cNvPr id="169" name=""/>
              <p:cNvSpPr/>
              <p:nvPr/>
            </p:nvSpPr>
            <p:spPr>
              <a:xfrm>
                <a:off x="6172200" y="4591080"/>
                <a:ext cx="137160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72200" y="41148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굴림체"/>
                  </a:rPr>
                  <a:t>기  업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172200" y="4095720"/>
              <a:ext cx="137160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5880" y="4822920"/>
            <a:ext cx="15242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기  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자 구 계 획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실 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175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기  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5686560"/>
            <a:ext cx="14475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지 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근 로 자 지 원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자격 요건</a:t>
            </a:r>
            <a:endParaRPr b="1" lang="en-US" sz="2400" spc="-1" strike="noStrike">
              <a:solidFill>
                <a:srgbClr val="99ffcc"/>
              </a:solidFill>
              <a:latin typeface="Verdana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무역자유화 조치 및 개방에 따른 급격한 수입증가로 인해 실업에 이르거나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실업에 이를 우려가 있는 근로자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9718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ko-KR" sz="2400" spc="-1" strike="noStrike">
                <a:solidFill>
                  <a:srgbClr val="99ffcc"/>
                </a:solidFill>
                <a:latin typeface="Arial"/>
                <a:ea typeface="굴림체"/>
              </a:rPr>
              <a:t>지원 절차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피해 여부에 대해서는 무역위원회가 판정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전직계획의 실현가능성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,</a:t>
            </a:r>
            <a:br>
              <a:rPr sz="2000"/>
            </a:b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ko-KR" sz="2000" spc="-1" strike="noStrike">
                <a:solidFill>
                  <a:srgbClr val="ffff99"/>
                </a:solidFill>
                <a:latin typeface="Arial"/>
                <a:ea typeface="굴림체"/>
              </a:rPr>
              <a:t>적정성 등에 대해서는 민간전문가가 주축이 된 위원회에서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99ff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  <a:ea typeface="굴림체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  <a:ea typeface="굴림체"/>
              </a:rPr>
              <a:t>지원 내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전직계획 이행비용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굴림체"/>
              </a:rPr>
              <a:t>, 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굴림체"/>
              </a:rPr>
              <a:t>전직수당 지급 등 전직지원에 주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429000" y="4152960"/>
            <a:ext cx="1599480" cy="2324160"/>
            <a:chOff x="3429000" y="4152960"/>
            <a:chExt cx="1599480" cy="2324160"/>
          </a:xfrm>
        </p:grpSpPr>
        <p:grpSp>
          <p:nvGrpSpPr>
            <p:cNvPr id="180" name=""/>
            <p:cNvGrpSpPr/>
            <p:nvPr/>
          </p:nvGrpSpPr>
          <p:grpSpPr>
            <a:xfrm>
              <a:off x="3429000" y="4172040"/>
              <a:ext cx="1599480" cy="2305080"/>
              <a:chOff x="3429000" y="4172040"/>
              <a:chExt cx="1599480" cy="230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3429000" y="4648320"/>
                <a:ext cx="151524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29000" y="4172040"/>
                <a:ext cx="159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굴림체"/>
                  </a:rPr>
                  <a:t>기  업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429000" y="4152960"/>
              <a:ext cx="151560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81480" y="1371600"/>
            <a:ext cx="3505320" cy="1230840"/>
            <a:chOff x="5181480" y="1371600"/>
            <a:chExt cx="3505320" cy="1230840"/>
          </a:xfrm>
        </p:grpSpPr>
        <p:sp>
          <p:nvSpPr>
            <p:cNvPr id="185" name=""/>
            <p:cNvSpPr/>
            <p:nvPr/>
          </p:nvSpPr>
          <p:spPr>
            <a:xfrm>
              <a:off x="5181480" y="1371600"/>
              <a:ext cx="350532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1828800"/>
              <a:ext cx="350532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97360" y="1905120"/>
              <a:ext cx="25322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굴림체"/>
                </a:rPr>
                <a:t>  </a:t>
              </a:r>
              <a:r>
                <a:rPr b="1" lang="zh-CN" sz="1800" spc="-1" strike="noStrike">
                  <a:solidFill>
                    <a:srgbClr val="000066"/>
                  </a:solidFill>
                  <a:latin typeface="Arial"/>
                  <a:ea typeface="굴림체"/>
                </a:rPr>
                <a:t>무  역  피  해   심   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1295280"/>
            <a:ext cx="1447920" cy="2305080"/>
            <a:chOff x="609480" y="1295280"/>
            <a:chExt cx="1447920" cy="2305080"/>
          </a:xfrm>
        </p:grpSpPr>
        <p:sp>
          <p:nvSpPr>
            <p:cNvPr id="189" name=""/>
            <p:cNvSpPr/>
            <p:nvPr/>
          </p:nvSpPr>
          <p:spPr>
            <a:xfrm>
              <a:off x="609480" y="1295280"/>
              <a:ext cx="1371600" cy="5331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09480" y="1295280"/>
              <a:ext cx="1447920" cy="2305080"/>
              <a:chOff x="609480" y="1295280"/>
              <a:chExt cx="1447920" cy="2305080"/>
            </a:xfrm>
          </p:grpSpPr>
          <p:sp>
            <p:nvSpPr>
              <p:cNvPr id="191" name=""/>
              <p:cNvSpPr/>
              <p:nvPr/>
            </p:nvSpPr>
            <p:spPr>
              <a:xfrm>
                <a:off x="609480" y="1771560"/>
                <a:ext cx="137160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609480" y="1295280"/>
                <a:ext cx="1447920" cy="1314720"/>
                <a:chOff x="609480" y="1295280"/>
                <a:chExt cx="1447920" cy="13147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09480" y="1295280"/>
                  <a:ext cx="144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굴림체"/>
                    </a:rPr>
                    <a:t>근 로 자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09480" y="261000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10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근 로 자  지 원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4724280"/>
            <a:ext cx="9144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무   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조   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근로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확   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743200"/>
            <a:ext cx="1676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②  </a:t>
            </a: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전직 계획</a:t>
            </a:r>
            <a:br>
              <a:rPr sz="1800"/>
            </a:b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     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25909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1295280"/>
            <a:ext cx="1066680" cy="2286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1371600"/>
            <a:ext cx="1447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무 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조 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지 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센 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137160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무  역   위  원  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2590920"/>
            <a:ext cx="3505320" cy="53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048120"/>
            <a:ext cx="3505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6002280" y="3124080"/>
            <a:ext cx="298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전 직 계 획   심 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594360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48769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952880"/>
            <a:ext cx="457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6083280"/>
            <a:ext cx="381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1905120"/>
            <a:ext cx="60948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1981080"/>
            <a:ext cx="457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3111480"/>
            <a:ext cx="38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895400"/>
            <a:ext cx="1295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①   </a:t>
            </a: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자 격</a:t>
            </a:r>
            <a:br>
              <a:rPr sz="1800"/>
            </a:br>
            <a:r>
              <a:rPr b="1" lang="ko-KR" sz="1800" spc="-1" strike="noStrike">
                <a:solidFill>
                  <a:srgbClr val="000066"/>
                </a:solidFill>
                <a:latin typeface="Arial"/>
                <a:ea typeface="굴림체"/>
              </a:rPr>
              <a:t>       신 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41911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산 업자 원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34320" y="4095720"/>
            <a:ext cx="1447560" cy="2324160"/>
            <a:chOff x="6934320" y="4095720"/>
            <a:chExt cx="1447560" cy="2324160"/>
          </a:xfrm>
        </p:grpSpPr>
        <p:grpSp>
          <p:nvGrpSpPr>
            <p:cNvPr id="216" name=""/>
            <p:cNvGrpSpPr/>
            <p:nvPr/>
          </p:nvGrpSpPr>
          <p:grpSpPr>
            <a:xfrm>
              <a:off x="6934320" y="4114800"/>
              <a:ext cx="1447560" cy="2305080"/>
              <a:chOff x="6934320" y="4114800"/>
              <a:chExt cx="1447560" cy="2305080"/>
            </a:xfrm>
          </p:grpSpPr>
          <p:sp>
            <p:nvSpPr>
              <p:cNvPr id="217" name=""/>
              <p:cNvSpPr/>
              <p:nvPr/>
            </p:nvSpPr>
            <p:spPr>
              <a:xfrm>
                <a:off x="6934320" y="4591080"/>
                <a:ext cx="1371240" cy="182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4320" y="41148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굴림체"/>
                  </a:rPr>
                  <a:t>기  업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6934320" y="4095720"/>
              <a:ext cx="1371240" cy="533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238880" y="4876920"/>
            <a:ext cx="9144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전   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계   획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굴림체"/>
              </a:rPr>
              <a:t>실   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근 로 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10080"/>
            <a:ext cx="60984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572000"/>
            <a:ext cx="144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무 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조 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686560"/>
            <a:ext cx="14479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굴림체"/>
              </a:rPr>
              <a:t>지 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굴림체"/>
              </a:rPr>
              <a:t>민간   평 가 위 원 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굴림체"/>
              </a:rPr>
              <a:t>잠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5:53:29Z</dcterms:created>
  <dc:creator>mapark</dc:creator>
  <dc:description/>
  <dc:language>en-US</dc:language>
  <cp:lastModifiedBy>SEC</cp:lastModifiedBy>
  <cp:lastPrinted>2004-08-16T05:08:25Z</cp:lastPrinted>
  <dcterms:modified xsi:type="dcterms:W3CDTF">2005-07-11T08:19:51Z</dcterms:modified>
  <cp:revision>504</cp:revision>
  <dc:subject/>
  <dc:title>내용을 입력하세요</dc:title>
</cp:coreProperties>
</file>