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2484360" y="1447920"/>
            <a:ext cx="43686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제약산업 관세 및 비관세분야 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FTA </a:t>
            </a:r>
            <a:r>
              <a:rPr b="0" lang="zh-CN" sz="40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대응현황 및 전략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7" name=""/>
          <p:cNvGrpSpPr/>
          <p:nvPr/>
        </p:nvGrpSpPr>
        <p:grpSpPr>
          <a:xfrm>
            <a:off x="3303720" y="5410080"/>
            <a:ext cx="2743200" cy="560880"/>
            <a:chOff x="3303720" y="5410080"/>
            <a:chExt cx="2743200" cy="560880"/>
          </a:xfrm>
        </p:grpSpPr>
        <p:sp>
          <p:nvSpPr>
            <p:cNvPr id="38" name=""/>
            <p:cNvSpPr/>
            <p:nvPr/>
          </p:nvSpPr>
          <p:spPr>
            <a:xfrm>
              <a:off x="3669120" y="5410080"/>
              <a:ext cx="1873800" cy="381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 </a:t>
              </a:r>
              <a:r>
                <a:rPr b="0" lang="zh-CN" sz="2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한국보건산업진흥원</a:t>
              </a:r>
              <a:endParaRPr b="0" lang="en-US" sz="25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3303720" y="5818320"/>
              <a:ext cx="2743200" cy="1526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HY헤드라인M"/>
                  <a:ea typeface=""/>
                </a:rPr>
                <a:t>Korea Health Industry De</a:t>
              </a:r>
              <a:r>
                <a:rPr b="0" lang="en-US" sz="1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velopment Institute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0" name=""/>
          <p:cNvSpPr/>
          <p:nvPr/>
        </p:nvSpPr>
        <p:spPr>
          <a:xfrm>
            <a:off x="3717000" y="3621240"/>
            <a:ext cx="1579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HY헤드라인M"/>
              </a:rPr>
              <a:t>2005. 7. 13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"/>
          <p:cNvSpPr/>
          <p:nvPr/>
        </p:nvSpPr>
        <p:spPr>
          <a:xfrm>
            <a:off x="3843000" y="4876920"/>
            <a:ext cx="1376640" cy="42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장   경   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158480" y="119160"/>
            <a:ext cx="2746800" cy="56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ffcc00"/>
                </a:solidFill>
                <a:latin typeface="HY헤드라인M"/>
                <a:ea typeface="HY헤드라인M"/>
              </a:rPr>
              <a:t>의약품 주요</a:t>
            </a:r>
            <a:r>
              <a:rPr b="0" lang="zh-CN" sz="3100" spc="-1" strike="noStrike">
                <a:solidFill>
                  <a:srgbClr val="ff3300"/>
                </a:solidFill>
                <a:latin typeface="HY헤드라인M"/>
                <a:ea typeface="HY헤드라인M"/>
              </a:rPr>
              <a:t>수출</a:t>
            </a:r>
            <a:r>
              <a:rPr b="0" lang="en-US" sz="3100" spc="-1" strike="noStrike">
                <a:solidFill>
                  <a:srgbClr val="ffcc00"/>
                </a:solidFill>
                <a:latin typeface="HY헤드라인M"/>
                <a:ea typeface="HY헤드라인M"/>
              </a:rPr>
              <a:t> 대상국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969840" y="5365800"/>
            <a:ext cx="7131240" cy="287280"/>
          </a:xfrm>
          <a:prstGeom prst="parallelogram">
            <a:avLst>
              <a:gd name="adj" fmla="val 132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>
            <a:off x="4140360" y="4653000"/>
            <a:ext cx="433080" cy="984240"/>
          </a:xfrm>
          <a:prstGeom prst="cube">
            <a:avLst>
              <a:gd name="adj" fmla="val 57875"/>
            </a:avLst>
          </a:prstGeom>
          <a:gradFill rotWithShape="0">
            <a:gsLst>
              <a:gs pos="0">
                <a:srgbClr val="99cc00"/>
              </a:gs>
              <a:gs pos="100000">
                <a:srgbClr val="c1f5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HY헤드라인M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>
            <a:off x="2843280" y="2492280"/>
            <a:ext cx="433440" cy="3181320"/>
          </a:xfrm>
          <a:prstGeom prst="cube">
            <a:avLst>
              <a:gd name="adj" fmla="val 57875"/>
            </a:avLst>
          </a:prstGeom>
          <a:gradFill rotWithShape="0">
            <a:gsLst>
              <a:gs pos="0">
                <a:srgbClr val="99cc00"/>
              </a:gs>
              <a:gs pos="100000">
                <a:srgbClr val="c1f5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HY헤드라인M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3492360" y="4076640"/>
            <a:ext cx="433440" cy="1554120"/>
          </a:xfrm>
          <a:prstGeom prst="cube">
            <a:avLst>
              <a:gd name="adj" fmla="val 57875"/>
            </a:avLst>
          </a:prstGeom>
          <a:gradFill rotWithShape="0">
            <a:gsLst>
              <a:gs pos="0">
                <a:srgbClr val="99cc00"/>
              </a:gs>
              <a:gs pos="100000">
                <a:srgbClr val="c1f5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HY헤드라인M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1341360" y="1658880"/>
            <a:ext cx="6769080" cy="3744720"/>
            <a:chOff x="1341360" y="1658880"/>
            <a:chExt cx="6769080" cy="3744720"/>
          </a:xfrm>
        </p:grpSpPr>
        <p:sp>
          <p:nvSpPr>
            <p:cNvPr id="297" name=""/>
            <p:cNvSpPr/>
            <p:nvPr/>
          </p:nvSpPr>
          <p:spPr>
            <a:xfrm>
              <a:off x="8070840" y="1658880"/>
              <a:ext cx="0" cy="37447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341360" y="1658880"/>
              <a:ext cx="0" cy="37447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299" name=""/>
            <p:cNvGrpSpPr/>
            <p:nvPr/>
          </p:nvGrpSpPr>
          <p:grpSpPr>
            <a:xfrm>
              <a:off x="1347480" y="1665000"/>
              <a:ext cx="6762960" cy="3097440"/>
              <a:chOff x="1347480" y="1665000"/>
              <a:chExt cx="6762960" cy="3097440"/>
            </a:xfrm>
          </p:grpSpPr>
          <p:sp>
            <p:nvSpPr>
              <p:cNvPr id="300" name=""/>
              <p:cNvSpPr/>
              <p:nvPr/>
            </p:nvSpPr>
            <p:spPr>
              <a:xfrm>
                <a:off x="1347480" y="4762440"/>
                <a:ext cx="6762960" cy="0"/>
              </a:xfrm>
              <a:prstGeom prst="line">
                <a:avLst/>
              </a:prstGeom>
              <a:ln w="1260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347480" y="4141440"/>
                <a:ext cx="6762960" cy="0"/>
              </a:xfrm>
              <a:prstGeom prst="line">
                <a:avLst/>
              </a:prstGeom>
              <a:ln w="1260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347480" y="3522600"/>
                <a:ext cx="6762960" cy="0"/>
              </a:xfrm>
              <a:prstGeom prst="line">
                <a:avLst/>
              </a:prstGeom>
              <a:ln w="1260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347480" y="2903400"/>
                <a:ext cx="6762960" cy="0"/>
              </a:xfrm>
              <a:prstGeom prst="line">
                <a:avLst/>
              </a:prstGeom>
              <a:ln w="1260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347480" y="2284200"/>
                <a:ext cx="6762960" cy="0"/>
              </a:xfrm>
              <a:prstGeom prst="line">
                <a:avLst/>
              </a:prstGeom>
              <a:ln w="1260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347480" y="1665000"/>
                <a:ext cx="6762960" cy="0"/>
              </a:xfrm>
              <a:prstGeom prst="line">
                <a:avLst/>
              </a:prstGeom>
              <a:ln w="1260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306" name=""/>
          <p:cNvGrpSpPr/>
          <p:nvPr/>
        </p:nvGrpSpPr>
        <p:grpSpPr>
          <a:xfrm>
            <a:off x="468360" y="1484280"/>
            <a:ext cx="807480" cy="3466080"/>
            <a:chOff x="468360" y="1484280"/>
            <a:chExt cx="807480" cy="3466080"/>
          </a:xfrm>
        </p:grpSpPr>
        <p:sp>
          <p:nvSpPr>
            <p:cNvPr id="307" name=""/>
            <p:cNvSpPr/>
            <p:nvPr/>
          </p:nvSpPr>
          <p:spPr>
            <a:xfrm>
              <a:off x="468360" y="4614840"/>
              <a:ext cx="807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 Narrow"/>
                  <a:ea typeface="HY헤드라인M"/>
                </a:rPr>
                <a:t>20</a:t>
              </a:r>
              <a:endParaRPr b="0" lang="en-US" sz="2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68360" y="3961080"/>
              <a:ext cx="807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 Narrow"/>
                  <a:ea typeface="HY헤드라인M"/>
                </a:rPr>
                <a:t>70</a:t>
              </a:r>
              <a:endParaRPr b="0" lang="en-US" sz="2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68360" y="3351240"/>
              <a:ext cx="807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 Narrow"/>
                  <a:ea typeface="HY헤드라인M"/>
                </a:rPr>
                <a:t>80</a:t>
              </a:r>
              <a:endParaRPr b="0" lang="en-US" sz="2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68360" y="2737080"/>
              <a:ext cx="807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 Narrow"/>
                  <a:ea typeface="HY헤드라인M"/>
                </a:rPr>
                <a:t>90</a:t>
              </a:r>
              <a:endParaRPr b="0" lang="en-US" sz="2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68360" y="1484280"/>
              <a:ext cx="807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ffffff"/>
                  </a:solidFill>
                  <a:latin typeface="Arial Narrow"/>
                  <a:ea typeface="HY헤드라인M"/>
                </a:rPr>
                <a:t>(</a:t>
              </a:r>
              <a:r>
                <a:rPr b="0" lang="ko-KR" sz="1600" spc="-1" strike="noStrike">
                  <a:solidFill>
                    <a:srgbClr val="ffffff"/>
                  </a:solidFill>
                  <a:latin typeface="Arial Narrow"/>
                  <a:ea typeface="HY헤드라인M"/>
                </a:rPr>
                <a:t>백만불</a:t>
              </a:r>
              <a:r>
                <a:rPr b="0" lang="ko-KR" sz="2200" spc="-1" strike="noStrike">
                  <a:solidFill>
                    <a:srgbClr val="ffffff"/>
                  </a:solidFill>
                  <a:latin typeface="Arial Narrow"/>
                  <a:ea typeface="HY헤드라인M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68360" y="2124360"/>
              <a:ext cx="807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 Narrow"/>
                  <a:ea typeface="HY헤드라인M"/>
                </a:rPr>
                <a:t>100</a:t>
              </a:r>
              <a:endParaRPr b="0" lang="en-US" sz="2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"/>
          <p:cNvSpPr/>
          <p:nvPr/>
        </p:nvSpPr>
        <p:spPr>
          <a:xfrm rot="18790200">
            <a:off x="1141200" y="5871240"/>
            <a:ext cx="457920" cy="36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일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 rot="18792600">
            <a:off x="5894640" y="5871240"/>
            <a:ext cx="457920" cy="36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홍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 rot="18798600">
            <a:off x="6341400" y="5868360"/>
            <a:ext cx="732240" cy="36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HY헤드라인M"/>
              </a:rPr>
              <a:t>이탈리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1619640" y="1628640"/>
            <a:ext cx="508320" cy="45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HY헤드라인M"/>
              </a:rPr>
              <a:t>128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5292720" y="1773360"/>
            <a:ext cx="2044800" cy="455040"/>
            <a:chOff x="5292720" y="1773360"/>
            <a:chExt cx="2044800" cy="455040"/>
          </a:xfrm>
        </p:grpSpPr>
        <p:sp>
          <p:nvSpPr>
            <p:cNvPr id="318" name=""/>
            <p:cNvSpPr/>
            <p:nvPr/>
          </p:nvSpPr>
          <p:spPr>
            <a:xfrm>
              <a:off x="5979240" y="1773360"/>
              <a:ext cx="6714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99cc00"/>
                  </a:solidFill>
                  <a:latin typeface="Arial"/>
                  <a:ea typeface="HY견고딕"/>
                </a:rPr>
                <a:t>수출규모</a:t>
              </a:r>
              <a:endParaRPr b="0" lang="en-US" sz="2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292720" y="1782720"/>
              <a:ext cx="2044800" cy="44568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20" name=""/>
          <p:cNvSpPr/>
          <p:nvPr/>
        </p:nvSpPr>
        <p:spPr>
          <a:xfrm rot="18796800">
            <a:off x="3161880" y="5841360"/>
            <a:ext cx="595080" cy="36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베트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 rot="18796800">
            <a:off x="4597560" y="5798520"/>
            <a:ext cx="457920" cy="36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인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 rot="18790200">
            <a:off x="5246640" y="5871240"/>
            <a:ext cx="457920" cy="36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독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 rot="18790200">
            <a:off x="3949200" y="5798520"/>
            <a:ext cx="457920" cy="36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대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 rot="18790200">
            <a:off x="2509920" y="5871240"/>
            <a:ext cx="457920" cy="36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미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 rot="18790200">
            <a:off x="1863720" y="5871240"/>
            <a:ext cx="457920" cy="36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중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>
            <a:off x="2124720" y="1773360"/>
            <a:ext cx="508320" cy="45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HY헤드라인M"/>
              </a:rPr>
              <a:t>112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 rot="18792600">
            <a:off x="7050240" y="5871240"/>
            <a:ext cx="457920" cy="36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이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2856240" y="2060640"/>
            <a:ext cx="339120" cy="45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HY헤드라인M"/>
              </a:rPr>
              <a:t>93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3635640" y="3573360"/>
            <a:ext cx="339120" cy="45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HY헤드라인M"/>
              </a:rPr>
              <a:t>56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4285080" y="4076640"/>
            <a:ext cx="339120" cy="45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HY헤드라인M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>
            <a:off x="6012000" y="4292640"/>
            <a:ext cx="339120" cy="45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HY헤드라인M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5364360" y="4292640"/>
            <a:ext cx="339120" cy="45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HY헤드라인M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7309080" y="4365720"/>
            <a:ext cx="339120" cy="45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HY헤드라인M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4859640" y="4149720"/>
            <a:ext cx="339120" cy="45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HY헤드라인M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6659640" y="4292640"/>
            <a:ext cx="339120" cy="45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HY헤드라인M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4716360" y="4724280"/>
            <a:ext cx="433440" cy="911520"/>
          </a:xfrm>
          <a:prstGeom prst="cube">
            <a:avLst>
              <a:gd name="adj" fmla="val 57875"/>
            </a:avLst>
          </a:prstGeom>
          <a:gradFill rotWithShape="0">
            <a:gsLst>
              <a:gs pos="0">
                <a:srgbClr val="99cc00"/>
              </a:gs>
              <a:gs pos="100000">
                <a:srgbClr val="c1f5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HY헤드라인M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5292720" y="4797360"/>
            <a:ext cx="433440" cy="838440"/>
          </a:xfrm>
          <a:prstGeom prst="cube">
            <a:avLst>
              <a:gd name="adj" fmla="val 57875"/>
            </a:avLst>
          </a:prstGeom>
          <a:gradFill rotWithShape="0">
            <a:gsLst>
              <a:gs pos="0">
                <a:srgbClr val="99cc00"/>
              </a:gs>
              <a:gs pos="100000">
                <a:srgbClr val="c1f5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HY헤드라인M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5940360" y="4797360"/>
            <a:ext cx="433440" cy="838440"/>
          </a:xfrm>
          <a:prstGeom prst="cube">
            <a:avLst>
              <a:gd name="adj" fmla="val 57875"/>
            </a:avLst>
          </a:prstGeom>
          <a:gradFill rotWithShape="0">
            <a:gsLst>
              <a:gs pos="0">
                <a:srgbClr val="99cc00"/>
              </a:gs>
              <a:gs pos="100000">
                <a:srgbClr val="c1f5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HY헤드라인M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>
            <a:off x="6588000" y="4797360"/>
            <a:ext cx="433440" cy="838440"/>
          </a:xfrm>
          <a:prstGeom prst="cube">
            <a:avLst>
              <a:gd name="adj" fmla="val 57875"/>
            </a:avLst>
          </a:prstGeom>
          <a:gradFill rotWithShape="0">
            <a:gsLst>
              <a:gs pos="0">
                <a:srgbClr val="99cc00"/>
              </a:gs>
              <a:gs pos="100000">
                <a:srgbClr val="c1f5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HY헤드라인M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7236000" y="4869000"/>
            <a:ext cx="433080" cy="766800"/>
          </a:xfrm>
          <a:prstGeom prst="cube">
            <a:avLst>
              <a:gd name="adj" fmla="val 57875"/>
            </a:avLst>
          </a:prstGeom>
          <a:gradFill rotWithShape="0">
            <a:gsLst>
              <a:gs pos="0">
                <a:srgbClr val="99cc00"/>
              </a:gs>
              <a:gs pos="100000">
                <a:srgbClr val="c1f5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HY헤드라인M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2195640" y="2133720"/>
            <a:ext cx="433440" cy="3539880"/>
          </a:xfrm>
          <a:prstGeom prst="cube">
            <a:avLst>
              <a:gd name="adj" fmla="val 57875"/>
            </a:avLst>
          </a:prstGeom>
          <a:gradFill rotWithShape="0">
            <a:gsLst>
              <a:gs pos="0">
                <a:srgbClr val="99cc00"/>
              </a:gs>
              <a:gs pos="100000">
                <a:srgbClr val="c1f5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HY헤드라인M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1547640" y="1989000"/>
            <a:ext cx="433440" cy="3684600"/>
          </a:xfrm>
          <a:prstGeom prst="cube">
            <a:avLst>
              <a:gd name="adj" fmla="val 57875"/>
            </a:avLst>
          </a:prstGeom>
          <a:gradFill rotWithShape="0">
            <a:gsLst>
              <a:gs pos="0">
                <a:srgbClr val="99cc00"/>
              </a:gs>
              <a:gs pos="100000">
                <a:srgbClr val="c1f5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HY헤드라인M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1158480" y="119160"/>
            <a:ext cx="2746800" cy="56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ffcc00"/>
                </a:solidFill>
                <a:latin typeface="HY헤드라인M"/>
                <a:ea typeface="HY헤드라인M"/>
              </a:rPr>
              <a:t>의약품 주요</a:t>
            </a:r>
            <a:r>
              <a:rPr b="0" lang="zh-CN" sz="3100" spc="-1" strike="noStrike">
                <a:solidFill>
                  <a:srgbClr val="ff3300"/>
                </a:solidFill>
                <a:latin typeface="HY헤드라인M"/>
                <a:ea typeface="HY헤드라인M"/>
              </a:rPr>
              <a:t>수입</a:t>
            </a:r>
            <a:r>
              <a:rPr b="0" lang="en-US" sz="3100" spc="-1" strike="noStrike">
                <a:solidFill>
                  <a:srgbClr val="ffcc00"/>
                </a:solidFill>
                <a:latin typeface="HY헤드라인M"/>
                <a:ea typeface="HY헤드라인M"/>
              </a:rPr>
              <a:t> 대상국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955800" y="5327640"/>
            <a:ext cx="7130880" cy="287280"/>
          </a:xfrm>
          <a:prstGeom prst="parallelogram">
            <a:avLst>
              <a:gd name="adj" fmla="val 1329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>
            <a:off x="4125960" y="3174840"/>
            <a:ext cx="433440" cy="2424240"/>
          </a:xfrm>
          <a:prstGeom prst="cube">
            <a:avLst>
              <a:gd name="adj" fmla="val 57875"/>
            </a:avLst>
          </a:prstGeom>
          <a:gradFill rotWithShape="0">
            <a:gsLst>
              <a:gs pos="0">
                <a:srgbClr val="99cc00"/>
              </a:gs>
              <a:gs pos="100000">
                <a:srgbClr val="c1f5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HY헤드라인M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>
            <a:off x="2828880" y="2670120"/>
            <a:ext cx="433440" cy="2965680"/>
          </a:xfrm>
          <a:prstGeom prst="cube">
            <a:avLst>
              <a:gd name="adj" fmla="val 57875"/>
            </a:avLst>
          </a:prstGeom>
          <a:gradFill rotWithShape="0">
            <a:gsLst>
              <a:gs pos="0">
                <a:srgbClr val="99cc00"/>
              </a:gs>
              <a:gs pos="100000">
                <a:srgbClr val="c1f5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HY헤드라인M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>
            <a:off x="3478320" y="3030480"/>
            <a:ext cx="433440" cy="2562120"/>
          </a:xfrm>
          <a:prstGeom prst="cube">
            <a:avLst>
              <a:gd name="adj" fmla="val 57875"/>
            </a:avLst>
          </a:prstGeom>
          <a:gradFill rotWithShape="0">
            <a:gsLst>
              <a:gs pos="0">
                <a:srgbClr val="99cc00"/>
              </a:gs>
              <a:gs pos="100000">
                <a:srgbClr val="c1f5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HY헤드라인M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1327320" y="1620720"/>
            <a:ext cx="6769080" cy="3744720"/>
            <a:chOff x="1327320" y="1620720"/>
            <a:chExt cx="6769080" cy="3744720"/>
          </a:xfrm>
        </p:grpSpPr>
        <p:sp>
          <p:nvSpPr>
            <p:cNvPr id="349" name=""/>
            <p:cNvSpPr/>
            <p:nvPr/>
          </p:nvSpPr>
          <p:spPr>
            <a:xfrm>
              <a:off x="8056800" y="1620720"/>
              <a:ext cx="0" cy="37447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327320" y="1620720"/>
              <a:ext cx="0" cy="37447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351" name=""/>
            <p:cNvGrpSpPr/>
            <p:nvPr/>
          </p:nvGrpSpPr>
          <p:grpSpPr>
            <a:xfrm>
              <a:off x="1333440" y="1626840"/>
              <a:ext cx="6762960" cy="3097440"/>
              <a:chOff x="1333440" y="1626840"/>
              <a:chExt cx="6762960" cy="3097440"/>
            </a:xfrm>
          </p:grpSpPr>
          <p:sp>
            <p:nvSpPr>
              <p:cNvPr id="352" name=""/>
              <p:cNvSpPr/>
              <p:nvPr/>
            </p:nvSpPr>
            <p:spPr>
              <a:xfrm>
                <a:off x="1333440" y="4724280"/>
                <a:ext cx="6762960" cy="0"/>
              </a:xfrm>
              <a:prstGeom prst="line">
                <a:avLst/>
              </a:prstGeom>
              <a:ln w="1260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333440" y="4103280"/>
                <a:ext cx="6762960" cy="0"/>
              </a:xfrm>
              <a:prstGeom prst="line">
                <a:avLst/>
              </a:prstGeom>
              <a:ln w="1260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333440" y="3484440"/>
                <a:ext cx="6762960" cy="0"/>
              </a:xfrm>
              <a:prstGeom prst="line">
                <a:avLst/>
              </a:prstGeom>
              <a:ln w="1260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333440" y="2865240"/>
                <a:ext cx="6762960" cy="0"/>
              </a:xfrm>
              <a:prstGeom prst="line">
                <a:avLst/>
              </a:prstGeom>
              <a:ln w="1260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333440" y="2246040"/>
                <a:ext cx="6762960" cy="0"/>
              </a:xfrm>
              <a:prstGeom prst="line">
                <a:avLst/>
              </a:prstGeom>
              <a:ln w="1260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333440" y="1626840"/>
                <a:ext cx="6762960" cy="0"/>
              </a:xfrm>
              <a:prstGeom prst="line">
                <a:avLst/>
              </a:prstGeom>
              <a:ln w="1260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358" name=""/>
          <p:cNvGrpSpPr/>
          <p:nvPr/>
        </p:nvGrpSpPr>
        <p:grpSpPr>
          <a:xfrm>
            <a:off x="453960" y="1446120"/>
            <a:ext cx="807840" cy="3466080"/>
            <a:chOff x="453960" y="1446120"/>
            <a:chExt cx="807840" cy="3466080"/>
          </a:xfrm>
        </p:grpSpPr>
        <p:sp>
          <p:nvSpPr>
            <p:cNvPr id="359" name=""/>
            <p:cNvSpPr/>
            <p:nvPr/>
          </p:nvSpPr>
          <p:spPr>
            <a:xfrm>
              <a:off x="453960" y="4576680"/>
              <a:ext cx="8078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 Narrow"/>
                  <a:ea typeface="HY헤드라인M"/>
                </a:rPr>
                <a:t>50</a:t>
              </a:r>
              <a:endParaRPr b="0" lang="en-US" sz="2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53960" y="3922920"/>
              <a:ext cx="8078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 Narrow"/>
                  <a:ea typeface="HY헤드라인M"/>
                </a:rPr>
                <a:t>100</a:t>
              </a:r>
              <a:endParaRPr b="0" lang="en-US" sz="2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53960" y="3313080"/>
              <a:ext cx="8078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 Narrow"/>
                  <a:ea typeface="HY헤드라인M"/>
                </a:rPr>
                <a:t>200</a:t>
              </a:r>
              <a:endParaRPr b="0" lang="en-US" sz="2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53960" y="2698920"/>
              <a:ext cx="8078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 Narrow"/>
                  <a:ea typeface="HY헤드라인M"/>
                </a:rPr>
                <a:t>300</a:t>
              </a:r>
              <a:endParaRPr b="0" lang="en-US" sz="2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53960" y="1446120"/>
              <a:ext cx="8078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ffffff"/>
                  </a:solidFill>
                  <a:latin typeface="Arial Narrow"/>
                  <a:ea typeface="HY헤드라인M"/>
                </a:rPr>
                <a:t>(</a:t>
              </a:r>
              <a:r>
                <a:rPr b="0" lang="ko-KR" sz="1600" spc="-1" strike="noStrike">
                  <a:solidFill>
                    <a:srgbClr val="ffffff"/>
                  </a:solidFill>
                  <a:latin typeface="Arial Narrow"/>
                  <a:ea typeface="HY헤드라인M"/>
                </a:rPr>
                <a:t>백만불</a:t>
              </a:r>
              <a:r>
                <a:rPr b="0" lang="ko-KR" sz="2200" spc="-1" strike="noStrike">
                  <a:solidFill>
                    <a:srgbClr val="ffffff"/>
                  </a:solidFill>
                  <a:latin typeface="Arial Narrow"/>
                  <a:ea typeface="HY헤드라인M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53960" y="2086200"/>
              <a:ext cx="8078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 Narrow"/>
                  <a:ea typeface="HY헤드라인M"/>
                </a:rPr>
                <a:t>400</a:t>
              </a:r>
              <a:endParaRPr b="0" lang="en-US" sz="2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65" name=""/>
          <p:cNvSpPr/>
          <p:nvPr/>
        </p:nvSpPr>
        <p:spPr>
          <a:xfrm rot="18790200">
            <a:off x="1126800" y="5833440"/>
            <a:ext cx="457920" cy="36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일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"/>
          <p:cNvSpPr/>
          <p:nvPr/>
        </p:nvSpPr>
        <p:spPr>
          <a:xfrm rot="18792600">
            <a:off x="5813280" y="5833440"/>
            <a:ext cx="595080" cy="36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스위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"/>
          <p:cNvSpPr/>
          <p:nvPr/>
        </p:nvSpPr>
        <p:spPr>
          <a:xfrm rot="18798600">
            <a:off x="6319800" y="5913720"/>
            <a:ext cx="595080" cy="36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HY헤드라인M"/>
              </a:rPr>
              <a:t>벨지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"/>
          <p:cNvSpPr/>
          <p:nvPr/>
        </p:nvSpPr>
        <p:spPr>
          <a:xfrm>
            <a:off x="1605600" y="1590840"/>
            <a:ext cx="508320" cy="45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HY헤드라인M"/>
              </a:rPr>
              <a:t>39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5278320" y="1735200"/>
            <a:ext cx="2044800" cy="455040"/>
            <a:chOff x="5278320" y="1735200"/>
            <a:chExt cx="2044800" cy="455040"/>
          </a:xfrm>
        </p:grpSpPr>
        <p:sp>
          <p:nvSpPr>
            <p:cNvPr id="370" name=""/>
            <p:cNvSpPr/>
            <p:nvPr/>
          </p:nvSpPr>
          <p:spPr>
            <a:xfrm>
              <a:off x="5964840" y="1735200"/>
              <a:ext cx="6714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99cc00"/>
                  </a:solidFill>
                  <a:latin typeface="Arial"/>
                  <a:ea typeface="HY견고딕"/>
                </a:rPr>
                <a:t>수입규모</a:t>
              </a:r>
              <a:endParaRPr b="0" lang="en-US" sz="2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278320" y="1744560"/>
              <a:ext cx="2044800" cy="44568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72" name=""/>
          <p:cNvSpPr/>
          <p:nvPr/>
        </p:nvSpPr>
        <p:spPr>
          <a:xfrm rot="18796800">
            <a:off x="3140280" y="5887440"/>
            <a:ext cx="457920" cy="36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독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"/>
          <p:cNvSpPr/>
          <p:nvPr/>
        </p:nvSpPr>
        <p:spPr>
          <a:xfrm rot="18796800">
            <a:off x="4584960" y="5760360"/>
            <a:ext cx="457920" cy="36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영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4" name=""/>
          <p:cNvSpPr/>
          <p:nvPr/>
        </p:nvSpPr>
        <p:spPr>
          <a:xfrm rot="18790200">
            <a:off x="5233680" y="5833440"/>
            <a:ext cx="457920" cy="36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중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5" name=""/>
          <p:cNvSpPr/>
          <p:nvPr/>
        </p:nvSpPr>
        <p:spPr>
          <a:xfrm rot="18790200">
            <a:off x="3486600" y="5811120"/>
            <a:ext cx="1241280" cy="36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이탈리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6" name=""/>
          <p:cNvSpPr/>
          <p:nvPr/>
        </p:nvSpPr>
        <p:spPr>
          <a:xfrm rot="18790200">
            <a:off x="2505960" y="5752440"/>
            <a:ext cx="595080" cy="36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프랑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7" name=""/>
          <p:cNvSpPr/>
          <p:nvPr/>
        </p:nvSpPr>
        <p:spPr>
          <a:xfrm rot="18790200">
            <a:off x="1850760" y="5833440"/>
            <a:ext cx="457920" cy="36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미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8" name=""/>
          <p:cNvSpPr/>
          <p:nvPr/>
        </p:nvSpPr>
        <p:spPr>
          <a:xfrm>
            <a:off x="2196000" y="1700280"/>
            <a:ext cx="508320" cy="45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HY헤드라인M"/>
              </a:rPr>
              <a:t>386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9" name=""/>
          <p:cNvSpPr/>
          <p:nvPr/>
        </p:nvSpPr>
        <p:spPr>
          <a:xfrm rot="18792600">
            <a:off x="6901560" y="5833440"/>
            <a:ext cx="732240" cy="36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아일랜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0" name=""/>
          <p:cNvSpPr/>
          <p:nvPr/>
        </p:nvSpPr>
        <p:spPr>
          <a:xfrm>
            <a:off x="2829600" y="2166840"/>
            <a:ext cx="508320" cy="45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HY헤드라인M"/>
              </a:rPr>
              <a:t>337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1" name=""/>
          <p:cNvSpPr/>
          <p:nvPr/>
        </p:nvSpPr>
        <p:spPr>
          <a:xfrm>
            <a:off x="3478680" y="2598840"/>
            <a:ext cx="508320" cy="45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HY헤드라인M"/>
              </a:rPr>
              <a:t>272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2" name=""/>
          <p:cNvSpPr/>
          <p:nvPr/>
        </p:nvSpPr>
        <p:spPr>
          <a:xfrm>
            <a:off x="4197960" y="2743200"/>
            <a:ext cx="508320" cy="45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HY헤드라인M"/>
              </a:rPr>
              <a:t>222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3" name=""/>
          <p:cNvSpPr/>
          <p:nvPr/>
        </p:nvSpPr>
        <p:spPr>
          <a:xfrm>
            <a:off x="5926680" y="3246480"/>
            <a:ext cx="508320" cy="45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HY헤드라인M"/>
              </a:rPr>
              <a:t>119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4" name=""/>
          <p:cNvSpPr/>
          <p:nvPr/>
        </p:nvSpPr>
        <p:spPr>
          <a:xfrm>
            <a:off x="5279040" y="3246480"/>
            <a:ext cx="508320" cy="45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HY헤드라인M"/>
              </a:rPr>
              <a:t>144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5" name=""/>
          <p:cNvSpPr/>
          <p:nvPr/>
        </p:nvSpPr>
        <p:spPr>
          <a:xfrm>
            <a:off x="7294680" y="3535200"/>
            <a:ext cx="339120" cy="45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HY헤드라인M"/>
              </a:rPr>
              <a:t>95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6" name=""/>
          <p:cNvSpPr/>
          <p:nvPr/>
        </p:nvSpPr>
        <p:spPr>
          <a:xfrm>
            <a:off x="4702680" y="3030480"/>
            <a:ext cx="508320" cy="45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HY헤드라인M"/>
              </a:rPr>
              <a:t>167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7" name=""/>
          <p:cNvSpPr/>
          <p:nvPr/>
        </p:nvSpPr>
        <p:spPr>
          <a:xfrm>
            <a:off x="6574320" y="3319560"/>
            <a:ext cx="508320" cy="45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HY헤드라인M"/>
              </a:rPr>
              <a:t>114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8" name=""/>
          <p:cNvSpPr/>
          <p:nvPr/>
        </p:nvSpPr>
        <p:spPr>
          <a:xfrm>
            <a:off x="4702320" y="3462480"/>
            <a:ext cx="433080" cy="2135160"/>
          </a:xfrm>
          <a:prstGeom prst="cube">
            <a:avLst>
              <a:gd name="adj" fmla="val 57875"/>
            </a:avLst>
          </a:prstGeom>
          <a:gradFill rotWithShape="0">
            <a:gsLst>
              <a:gs pos="0">
                <a:srgbClr val="99cc00"/>
              </a:gs>
              <a:gs pos="100000">
                <a:srgbClr val="c1f5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HY헤드라인M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9" name=""/>
          <p:cNvSpPr/>
          <p:nvPr/>
        </p:nvSpPr>
        <p:spPr>
          <a:xfrm>
            <a:off x="5278320" y="3678120"/>
            <a:ext cx="433440" cy="1919520"/>
          </a:xfrm>
          <a:prstGeom prst="cube">
            <a:avLst>
              <a:gd name="adj" fmla="val 57875"/>
            </a:avLst>
          </a:prstGeom>
          <a:gradFill rotWithShape="0">
            <a:gsLst>
              <a:gs pos="0">
                <a:srgbClr val="99cc00"/>
              </a:gs>
              <a:gs pos="100000">
                <a:srgbClr val="c1f5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HY헤드라인M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0" name=""/>
          <p:cNvSpPr/>
          <p:nvPr/>
        </p:nvSpPr>
        <p:spPr>
          <a:xfrm>
            <a:off x="5925960" y="3751200"/>
            <a:ext cx="433440" cy="1846440"/>
          </a:xfrm>
          <a:prstGeom prst="cube">
            <a:avLst>
              <a:gd name="adj" fmla="val 57875"/>
            </a:avLst>
          </a:prstGeom>
          <a:gradFill rotWithShape="0">
            <a:gsLst>
              <a:gs pos="0">
                <a:srgbClr val="99cc00"/>
              </a:gs>
              <a:gs pos="100000">
                <a:srgbClr val="c1f5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HY헤드라인M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1" name=""/>
          <p:cNvSpPr/>
          <p:nvPr/>
        </p:nvSpPr>
        <p:spPr>
          <a:xfrm>
            <a:off x="6573960" y="3822840"/>
            <a:ext cx="433440" cy="1774800"/>
          </a:xfrm>
          <a:prstGeom prst="cube">
            <a:avLst>
              <a:gd name="adj" fmla="val 57875"/>
            </a:avLst>
          </a:prstGeom>
          <a:gradFill rotWithShape="0">
            <a:gsLst>
              <a:gs pos="0">
                <a:srgbClr val="99cc00"/>
              </a:gs>
              <a:gs pos="100000">
                <a:srgbClr val="c1f5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HY헤드라인M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2" name=""/>
          <p:cNvSpPr/>
          <p:nvPr/>
        </p:nvSpPr>
        <p:spPr>
          <a:xfrm>
            <a:off x="7221600" y="4038480"/>
            <a:ext cx="433440" cy="1559160"/>
          </a:xfrm>
          <a:prstGeom prst="cube">
            <a:avLst>
              <a:gd name="adj" fmla="val 57875"/>
            </a:avLst>
          </a:prstGeom>
          <a:gradFill rotWithShape="0">
            <a:gsLst>
              <a:gs pos="0">
                <a:srgbClr val="99cc00"/>
              </a:gs>
              <a:gs pos="100000">
                <a:srgbClr val="c1f5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HY헤드라인M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3" name=""/>
          <p:cNvSpPr/>
          <p:nvPr/>
        </p:nvSpPr>
        <p:spPr>
          <a:xfrm>
            <a:off x="2124000" y="2133720"/>
            <a:ext cx="433440" cy="3468600"/>
          </a:xfrm>
          <a:prstGeom prst="cube">
            <a:avLst>
              <a:gd name="adj" fmla="val 57875"/>
            </a:avLst>
          </a:prstGeom>
          <a:gradFill rotWithShape="0">
            <a:gsLst>
              <a:gs pos="0">
                <a:srgbClr val="99cc00"/>
              </a:gs>
              <a:gs pos="100000">
                <a:srgbClr val="c1f5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HY헤드라인M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4" name=""/>
          <p:cNvSpPr/>
          <p:nvPr/>
        </p:nvSpPr>
        <p:spPr>
          <a:xfrm>
            <a:off x="1476360" y="1989000"/>
            <a:ext cx="433440" cy="3613320"/>
          </a:xfrm>
          <a:prstGeom prst="cube">
            <a:avLst>
              <a:gd name="adj" fmla="val 57875"/>
            </a:avLst>
          </a:prstGeom>
          <a:gradFill rotWithShape="0">
            <a:gsLst>
              <a:gs pos="0">
                <a:srgbClr val="99cc00"/>
              </a:gs>
              <a:gs pos="100000">
                <a:srgbClr val="c1f5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HY헤드라인M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3015000" y="1219320"/>
            <a:ext cx="4348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HY견고딕"/>
                <a:ea typeface="HY견고딕"/>
              </a:rPr>
              <a:t>III. </a:t>
            </a:r>
            <a:r>
              <a:rPr b="0" lang="zh-CN" sz="4000" spc="-1" strike="noStrike">
                <a:solidFill>
                  <a:srgbClr val="ffff00"/>
                </a:solidFill>
                <a:latin typeface="HY견고딕"/>
                <a:ea typeface="HY견고딕"/>
              </a:rPr>
              <a:t>관세분야 대응현황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6" name=""/>
          <p:cNvSpPr/>
          <p:nvPr/>
        </p:nvSpPr>
        <p:spPr>
          <a:xfrm>
            <a:off x="2606760" y="2209680"/>
            <a:ext cx="6537240" cy="0"/>
          </a:xfrm>
          <a:prstGeom prst="line">
            <a:avLst/>
          </a:prstGeom>
          <a:ln w="28440">
            <a:solidFill>
              <a:srgbClr val="277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7" name=""/>
          <p:cNvSpPr/>
          <p:nvPr/>
        </p:nvSpPr>
        <p:spPr>
          <a:xfrm>
            <a:off x="3200400" y="2209680"/>
            <a:ext cx="0" cy="38102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8" name=""/>
          <p:cNvSpPr/>
          <p:nvPr/>
        </p:nvSpPr>
        <p:spPr>
          <a:xfrm>
            <a:off x="3429000" y="2286000"/>
            <a:ext cx="52912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제약산업 관세율 현황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9" name=""/>
          <p:cNvSpPr/>
          <p:nvPr/>
        </p:nvSpPr>
        <p:spPr>
          <a:xfrm>
            <a:off x="3419640" y="2924280"/>
            <a:ext cx="52909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상품양허안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0" name=""/>
          <p:cNvSpPr/>
          <p:nvPr/>
        </p:nvSpPr>
        <p:spPr>
          <a:xfrm>
            <a:off x="3419640" y="3573360"/>
            <a:ext cx="52909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원산지기준안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1339200" y="119160"/>
            <a:ext cx="4404960" cy="56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ffcc00"/>
                </a:solidFill>
                <a:latin typeface="HY헤드라인M"/>
                <a:ea typeface="HY헤드라인M"/>
              </a:rPr>
              <a:t>제약산업 관세율 현황</a:t>
            </a:r>
            <a:r>
              <a:rPr b="0" lang="en-US" sz="3100" spc="-1" strike="noStrike">
                <a:solidFill>
                  <a:srgbClr val="ffcc00"/>
                </a:solidFill>
                <a:latin typeface="HY헤드라인M"/>
                <a:ea typeface="HY헤드라인M"/>
              </a:rPr>
              <a:t>-</a:t>
            </a:r>
            <a:r>
              <a:rPr b="0" lang="en-US" sz="3100" spc="-1" strike="noStrike">
                <a:solidFill>
                  <a:srgbClr val="99cc00"/>
                </a:solidFill>
                <a:latin typeface="HY헤드라인M"/>
                <a:ea typeface="HY헤드라인M"/>
              </a:rPr>
              <a:t>UR </a:t>
            </a:r>
            <a:r>
              <a:rPr b="0" lang="zh-CN" sz="3100" spc="-1" strike="noStrike">
                <a:solidFill>
                  <a:srgbClr val="99cc00"/>
                </a:solidFill>
                <a:latin typeface="HY헤드라인M"/>
                <a:ea typeface="HY헤드라인M"/>
              </a:rPr>
              <a:t>양허결과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2" name=""/>
          <p:cNvSpPr/>
          <p:nvPr/>
        </p:nvSpPr>
        <p:spPr>
          <a:xfrm>
            <a:off x="1914480" y="5661000"/>
            <a:ext cx="484668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UR</a:t>
            </a:r>
            <a:r>
              <a:rPr b="0" lang="ko-KR" sz="25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협상 당시 의약품 무세화 및 화학제품 관세조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협정에 참여하였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611280" y="981000"/>
            <a:ext cx="7273440" cy="4537080"/>
            <a:chOff x="611280" y="981000"/>
            <a:chExt cx="7273440" cy="4537080"/>
          </a:xfrm>
        </p:grpSpPr>
        <p:grpSp>
          <p:nvGrpSpPr>
            <p:cNvPr id="404" name=""/>
            <p:cNvGrpSpPr/>
            <p:nvPr/>
          </p:nvGrpSpPr>
          <p:grpSpPr>
            <a:xfrm>
              <a:off x="611280" y="981000"/>
              <a:ext cx="7272360" cy="719280"/>
              <a:chOff x="611280" y="981000"/>
              <a:chExt cx="7272360" cy="719280"/>
            </a:xfrm>
          </p:grpSpPr>
          <p:sp>
            <p:nvSpPr>
              <p:cNvPr id="405" name=""/>
              <p:cNvSpPr/>
              <p:nvPr/>
            </p:nvSpPr>
            <p:spPr>
              <a:xfrm>
                <a:off x="611280" y="981000"/>
                <a:ext cx="5689800" cy="379440"/>
              </a:xfrm>
              <a:prstGeom prst="rect">
                <a:avLst/>
              </a:prstGeom>
              <a:solidFill>
                <a:srgbClr val="00ccff">
                  <a:alpha val="20000"/>
                </a:srgbClr>
              </a:solidFill>
              <a:ln w="1260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UR </a:t>
                </a:r>
                <a:r>
                  <a:rPr b="0" lang="zh-CN" sz="18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양허결과</a:t>
                </a: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299280" y="981000"/>
                <a:ext cx="1584360" cy="719280"/>
              </a:xfrm>
              <a:prstGeom prst="rect">
                <a:avLst/>
              </a:prstGeom>
              <a:solidFill>
                <a:srgbClr val="00ccff">
                  <a:alpha val="20000"/>
                </a:srgbClr>
              </a:solidFill>
              <a:ln w="1260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비고</a:t>
                </a: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11280" y="1339920"/>
                <a:ext cx="1150920" cy="360360"/>
              </a:xfrm>
              <a:prstGeom prst="rect">
                <a:avLst/>
              </a:prstGeom>
              <a:solidFill>
                <a:srgbClr val="00ccff">
                  <a:alpha val="20000"/>
                </a:srgbClr>
              </a:solidFill>
              <a:ln w="1260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양허구분</a:t>
                </a: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764000" y="1339920"/>
                <a:ext cx="1152360" cy="360360"/>
              </a:xfrm>
              <a:prstGeom prst="rect">
                <a:avLst/>
              </a:prstGeom>
              <a:solidFill>
                <a:srgbClr val="00ccff">
                  <a:alpha val="20000"/>
                </a:srgbClr>
              </a:solidFill>
              <a:ln w="1260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품목수</a:t>
                </a: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916360" y="1339920"/>
                <a:ext cx="3384720" cy="360360"/>
              </a:xfrm>
              <a:prstGeom prst="rect">
                <a:avLst/>
              </a:prstGeom>
              <a:solidFill>
                <a:srgbClr val="00ccff">
                  <a:alpha val="20000"/>
                </a:srgbClr>
              </a:solidFill>
              <a:ln w="1260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주요 품목</a:t>
                </a: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410" name=""/>
            <p:cNvGrpSpPr/>
            <p:nvPr/>
          </p:nvGrpSpPr>
          <p:grpSpPr>
            <a:xfrm>
              <a:off x="611280" y="1700280"/>
              <a:ext cx="1150920" cy="3817800"/>
              <a:chOff x="611280" y="1700280"/>
              <a:chExt cx="1150920" cy="3817800"/>
            </a:xfrm>
          </p:grpSpPr>
          <p:sp>
            <p:nvSpPr>
              <p:cNvPr id="411" name=""/>
              <p:cNvSpPr/>
              <p:nvPr/>
            </p:nvSpPr>
            <p:spPr>
              <a:xfrm>
                <a:off x="611280" y="1700280"/>
                <a:ext cx="1150920" cy="1944720"/>
              </a:xfrm>
              <a:prstGeom prst="rect">
                <a:avLst/>
              </a:prstGeom>
              <a:solidFill>
                <a:srgbClr val="00ccff">
                  <a:alpha val="20000"/>
                </a:srgbClr>
              </a:solidFill>
              <a:ln w="1260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무세화</a:t>
                </a: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11280" y="3645000"/>
                <a:ext cx="1150920" cy="792000"/>
              </a:xfrm>
              <a:prstGeom prst="rect">
                <a:avLst/>
              </a:prstGeom>
              <a:solidFill>
                <a:srgbClr val="00ccff">
                  <a:alpha val="20000"/>
                </a:srgbClr>
              </a:solidFill>
              <a:ln w="1260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관세인하</a:t>
                </a: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및 조화</a:t>
                </a: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11280" y="4437000"/>
                <a:ext cx="1150920" cy="1081080"/>
              </a:xfrm>
              <a:prstGeom prst="rect">
                <a:avLst/>
              </a:prstGeom>
              <a:solidFill>
                <a:srgbClr val="00ccff">
                  <a:alpha val="20000"/>
                </a:srgbClr>
              </a:solidFill>
              <a:ln w="1260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미양허</a:t>
                </a: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1762200" y="1700280"/>
              <a:ext cx="6122520" cy="3817800"/>
              <a:chOff x="1762200" y="1700280"/>
              <a:chExt cx="6122520" cy="3817800"/>
            </a:xfrm>
          </p:grpSpPr>
          <p:sp>
            <p:nvSpPr>
              <p:cNvPr id="415" name=""/>
              <p:cNvSpPr/>
              <p:nvPr/>
            </p:nvSpPr>
            <p:spPr>
              <a:xfrm>
                <a:off x="1763640" y="1700280"/>
                <a:ext cx="1152000" cy="1944720"/>
              </a:xfrm>
              <a:prstGeom prst="rect">
                <a:avLst/>
              </a:prstGeom>
              <a:solidFill>
                <a:srgbClr val="00ccff">
                  <a:alpha val="20000"/>
                </a:srgbClr>
              </a:solidFill>
              <a:ln w="1260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96</a:t>
                </a: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916000" y="1700280"/>
                <a:ext cx="3384360" cy="1944720"/>
              </a:xfrm>
              <a:prstGeom prst="rect">
                <a:avLst/>
              </a:prstGeom>
              <a:solidFill>
                <a:srgbClr val="00ccff">
                  <a:alpha val="20000"/>
                </a:srgbClr>
              </a:solidFill>
              <a:ln w="1260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2937(</a:t>
                </a:r>
                <a:r>
                  <a:rPr b="0" lang="ko-KR" sz="16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호르몬제재</a:t>
                </a:r>
                <a:r>
                  <a:rPr b="0" lang="ko-KR" sz="16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굴림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2939(</a:t>
                </a:r>
                <a:r>
                  <a:rPr b="0" lang="ko-KR" sz="16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마약류</a:t>
                </a:r>
                <a:r>
                  <a:rPr b="0" lang="ko-KR" sz="16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굴림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3001(</a:t>
                </a:r>
                <a:r>
                  <a:rPr b="0" lang="ko-KR" sz="16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장기요법용 선과기관</a:t>
                </a:r>
                <a:r>
                  <a:rPr b="0" lang="ko-KR" sz="16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굴림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3002(</a:t>
                </a:r>
                <a:r>
                  <a:rPr b="0" lang="ko-KR" sz="16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혈액제제</a:t>
                </a:r>
                <a:r>
                  <a:rPr b="0" lang="ko-KR" sz="16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굴림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3005(</a:t>
                </a:r>
                <a:r>
                  <a:rPr b="0" lang="ko-KR" sz="16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붕대등 의약외품</a:t>
                </a:r>
                <a:r>
                  <a:rPr b="0" lang="ko-KR" sz="16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굴림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3006(</a:t>
                </a:r>
                <a:r>
                  <a:rPr b="0" lang="ko-KR" sz="16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기타 의료용품</a:t>
                </a:r>
                <a:r>
                  <a:rPr b="0" lang="ko-KR" sz="16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300720" y="1700280"/>
                <a:ext cx="1584000" cy="1944720"/>
              </a:xfrm>
              <a:prstGeom prst="rect">
                <a:avLst/>
              </a:prstGeom>
              <a:solidFill>
                <a:srgbClr val="00ccff">
                  <a:alpha val="20000"/>
                </a:srgbClr>
              </a:solidFill>
              <a:ln w="1260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’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04</a:t>
                </a:r>
                <a:r>
                  <a:rPr b="0" lang="zh-CN" sz="18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년까지</a:t>
                </a: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이행완료</a:t>
                </a: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763640" y="3645000"/>
                <a:ext cx="1152000" cy="792000"/>
              </a:xfrm>
              <a:prstGeom prst="rect">
                <a:avLst/>
              </a:prstGeom>
              <a:solidFill>
                <a:srgbClr val="00ccff">
                  <a:alpha val="20000"/>
                </a:srgbClr>
              </a:solidFill>
              <a:ln w="1260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258</a:t>
                </a: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916000" y="3645000"/>
                <a:ext cx="3384360" cy="792000"/>
              </a:xfrm>
              <a:prstGeom prst="rect">
                <a:avLst/>
              </a:prstGeom>
              <a:solidFill>
                <a:srgbClr val="00ccff">
                  <a:alpha val="20000"/>
                </a:srgbClr>
              </a:solidFill>
              <a:ln w="1260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2915(</a:t>
                </a:r>
                <a:r>
                  <a:rPr b="0" lang="ko-KR" sz="16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스테아르산</a:t>
                </a:r>
                <a:r>
                  <a:rPr b="0" lang="ko-KR" sz="16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) </a:t>
                </a:r>
                <a:r>
                  <a:rPr b="0" lang="ko-KR" sz="16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등</a:t>
                </a:r>
                <a:endParaRPr b="0" lang="en-US" sz="1600" spc="-1" strike="noStrike">
                  <a:solidFill>
                    <a:srgbClr val="000000"/>
                  </a:solidFill>
                  <a:latin typeface="굴림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대부분의 의약품</a:t>
                </a:r>
                <a:endParaRPr b="0" lang="en-US" sz="1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762200" y="4437000"/>
                <a:ext cx="1152360" cy="1081080"/>
              </a:xfrm>
              <a:prstGeom prst="rect">
                <a:avLst/>
              </a:prstGeom>
              <a:solidFill>
                <a:srgbClr val="00ccff">
                  <a:alpha val="20000"/>
                </a:srgbClr>
              </a:solidFill>
              <a:ln w="1260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99</a:t>
                </a: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300720" y="4292640"/>
                <a:ext cx="1584000" cy="1224000"/>
              </a:xfrm>
              <a:prstGeom prst="rect">
                <a:avLst/>
              </a:prstGeom>
              <a:solidFill>
                <a:srgbClr val="00ccff">
                  <a:alpha val="20000"/>
                </a:srgbClr>
              </a:solidFill>
              <a:ln w="1260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2914560" y="4437000"/>
                <a:ext cx="3384000" cy="1081080"/>
              </a:xfrm>
              <a:prstGeom prst="rect">
                <a:avLst/>
              </a:prstGeom>
              <a:solidFill>
                <a:srgbClr val="00ccff">
                  <a:alpha val="20000"/>
                </a:srgbClr>
              </a:solidFill>
              <a:ln w="1260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3003(</a:t>
                </a:r>
                <a:r>
                  <a:rPr b="0" lang="ko-KR" sz="16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기타의약품</a:t>
                </a:r>
                <a:r>
                  <a:rPr b="0" lang="ko-KR" sz="16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;</a:t>
                </a:r>
                <a:r>
                  <a:rPr b="0" lang="ko-KR" sz="16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벌크</a:t>
                </a:r>
                <a:r>
                  <a:rPr b="0" lang="ko-KR" sz="16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굴림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3004(</a:t>
                </a:r>
                <a:r>
                  <a:rPr b="0" lang="ko-KR" sz="16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기타의약품</a:t>
                </a:r>
                <a:r>
                  <a:rPr b="0" lang="ko-KR" sz="16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;</a:t>
                </a:r>
                <a:r>
                  <a:rPr b="0" lang="ko-KR" sz="16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소분</a:t>
                </a:r>
                <a:r>
                  <a:rPr b="0" lang="ko-KR" sz="16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굴림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3822(</a:t>
                </a:r>
                <a:r>
                  <a:rPr b="0" lang="ko-KR" sz="16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진단용시약</a:t>
                </a:r>
                <a:r>
                  <a:rPr b="0" lang="ko-KR" sz="16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굴림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9602(</a:t>
                </a:r>
                <a:r>
                  <a:rPr b="0" lang="ko-KR" sz="16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젤라틴 캡슐</a:t>
                </a:r>
                <a:r>
                  <a:rPr b="0" lang="ko-KR" sz="16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300720" y="3645000"/>
                <a:ext cx="1584000" cy="792000"/>
              </a:xfrm>
              <a:prstGeom prst="rect">
                <a:avLst/>
              </a:prstGeom>
              <a:solidFill>
                <a:srgbClr val="00ccff">
                  <a:alpha val="20000"/>
                </a:srgbClr>
              </a:solidFill>
              <a:ln w="1260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멘톨등 </a:t>
                </a:r>
                <a:r>
                  <a:rPr b="0" lang="ko-KR" sz="16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19</a:t>
                </a:r>
                <a:r>
                  <a:rPr b="0" lang="ko-KR" sz="16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개 품목 ’</a:t>
                </a:r>
                <a:r>
                  <a:rPr b="0" lang="ko-KR" sz="16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09</a:t>
                </a:r>
                <a:r>
                  <a:rPr b="0" lang="ko-KR" sz="16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년까지 이행완료</a:t>
                </a:r>
                <a:endParaRPr b="0" lang="en-US" sz="1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1445760" y="119160"/>
            <a:ext cx="4109040" cy="56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ffcc00"/>
                </a:solidFill>
                <a:latin typeface="HY헤드라인M"/>
                <a:ea typeface="HY헤드라인M"/>
              </a:rPr>
              <a:t>제약산업 관세율 현황</a:t>
            </a:r>
            <a:r>
              <a:rPr b="0" lang="en-US" sz="3100" spc="-1" strike="noStrike">
                <a:solidFill>
                  <a:srgbClr val="ffcc00"/>
                </a:solidFill>
                <a:latin typeface="HY헤드라인M"/>
                <a:ea typeface="HY헤드라인M"/>
              </a:rPr>
              <a:t>-</a:t>
            </a:r>
            <a:r>
              <a:rPr b="0" lang="zh-CN" sz="3100" spc="-1" strike="noStrike">
                <a:solidFill>
                  <a:srgbClr val="99cc00"/>
                </a:solidFill>
                <a:latin typeface="HY헤드라인M"/>
                <a:ea typeface="HY헤드라인M"/>
              </a:rPr>
              <a:t>현행 관세율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5" name=""/>
          <p:cNvSpPr/>
          <p:nvPr/>
        </p:nvSpPr>
        <p:spPr>
          <a:xfrm>
            <a:off x="900000" y="3500280"/>
            <a:ext cx="73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</a:t>
            </a:r>
            <a:r>
              <a:rPr b="0" lang="zh-CN" sz="25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실행세율 </a:t>
            </a:r>
            <a:r>
              <a:rPr b="0" lang="en-US" sz="25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8% </a:t>
            </a:r>
            <a:r>
              <a:rPr b="0" lang="zh-CN" sz="25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이하의 관세율을 유지하고 있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</a:t>
            </a:r>
            <a:r>
              <a:rPr b="0" lang="zh-CN" sz="25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다수의 미양허 품목에 대한 유예기간 확보필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755640" y="1197000"/>
            <a:ext cx="7632720" cy="1584360"/>
            <a:chOff x="755640" y="1197000"/>
            <a:chExt cx="7632720" cy="1584360"/>
          </a:xfrm>
        </p:grpSpPr>
        <p:sp>
          <p:nvSpPr>
            <p:cNvPr id="427" name=""/>
            <p:cNvSpPr/>
            <p:nvPr/>
          </p:nvSpPr>
          <p:spPr>
            <a:xfrm>
              <a:off x="755640" y="1197000"/>
              <a:ext cx="1150920" cy="792000"/>
            </a:xfrm>
            <a:prstGeom prst="rect">
              <a:avLst/>
            </a:prstGeom>
            <a:solidFill>
              <a:srgbClr val="00ffff">
                <a:alpha val="20000"/>
              </a:srgbClr>
            </a:solidFill>
            <a:ln w="1260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구분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908000" y="1197000"/>
              <a:ext cx="1152720" cy="792000"/>
            </a:xfrm>
            <a:prstGeom prst="rect">
              <a:avLst/>
            </a:prstGeom>
            <a:solidFill>
              <a:srgbClr val="00ffff">
                <a:alpha val="20000"/>
              </a:srgbClr>
            </a:solidFill>
            <a:ln w="1260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총품목수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(HS10)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059280" y="1197000"/>
              <a:ext cx="2663640" cy="360360"/>
            </a:xfrm>
            <a:prstGeom prst="rect">
              <a:avLst/>
            </a:prstGeom>
            <a:solidFill>
              <a:srgbClr val="00ffff">
                <a:alpha val="20000"/>
              </a:srgbClr>
            </a:solidFill>
            <a:ln w="1260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양허세율</a:t>
              </a:r>
              <a:r>
                <a:rPr b="0" lang="ko-KR" sz="18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(UR</a:t>
              </a:r>
              <a:r>
                <a:rPr b="0" lang="ko-KR" sz="18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최종</a:t>
              </a:r>
              <a:r>
                <a:rPr b="0" lang="ko-KR" sz="18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059280" y="1557360"/>
              <a:ext cx="865080" cy="431640"/>
            </a:xfrm>
            <a:prstGeom prst="rect">
              <a:avLst/>
            </a:prstGeom>
            <a:solidFill>
              <a:srgbClr val="00ffff">
                <a:alpha val="20000"/>
              </a:srgbClr>
            </a:solidFill>
            <a:ln w="1260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평균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924360" y="1557360"/>
              <a:ext cx="865080" cy="431640"/>
            </a:xfrm>
            <a:prstGeom prst="rect">
              <a:avLst/>
            </a:prstGeom>
            <a:solidFill>
              <a:srgbClr val="00ffff">
                <a:alpha val="20000"/>
              </a:srgbClr>
            </a:solidFill>
            <a:ln w="1260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최대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788000" y="1557360"/>
              <a:ext cx="936360" cy="431640"/>
            </a:xfrm>
            <a:prstGeom prst="rect">
              <a:avLst/>
            </a:prstGeom>
            <a:solidFill>
              <a:srgbClr val="00ffff">
                <a:alpha val="20000"/>
              </a:srgbClr>
            </a:solidFill>
            <a:ln w="1260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최소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722920" y="1197000"/>
              <a:ext cx="2664000" cy="360360"/>
            </a:xfrm>
            <a:prstGeom prst="rect">
              <a:avLst/>
            </a:prstGeom>
            <a:solidFill>
              <a:srgbClr val="00ffff">
                <a:alpha val="20000"/>
              </a:srgbClr>
            </a:solidFill>
            <a:ln w="1260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실행세율</a:t>
              </a:r>
              <a:r>
                <a:rPr b="0" lang="en-US" sz="18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(2005)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722920" y="1557360"/>
              <a:ext cx="865080" cy="431640"/>
            </a:xfrm>
            <a:prstGeom prst="rect">
              <a:avLst/>
            </a:prstGeom>
            <a:solidFill>
              <a:srgbClr val="00ffff">
                <a:alpha val="20000"/>
              </a:srgbClr>
            </a:solidFill>
            <a:ln w="1260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평균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588000" y="1557360"/>
              <a:ext cx="865440" cy="431640"/>
            </a:xfrm>
            <a:prstGeom prst="rect">
              <a:avLst/>
            </a:prstGeom>
            <a:solidFill>
              <a:srgbClr val="00ffff">
                <a:alpha val="20000"/>
              </a:srgbClr>
            </a:solidFill>
            <a:ln w="1260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최대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451640" y="1557360"/>
              <a:ext cx="936720" cy="431640"/>
            </a:xfrm>
            <a:prstGeom prst="rect">
              <a:avLst/>
            </a:prstGeom>
            <a:solidFill>
              <a:srgbClr val="00ffff">
                <a:alpha val="20000"/>
              </a:srgbClr>
            </a:solidFill>
            <a:ln w="1260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최소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55640" y="1989000"/>
              <a:ext cx="1150920" cy="792360"/>
            </a:xfrm>
            <a:prstGeom prst="rect">
              <a:avLst/>
            </a:prstGeom>
            <a:solidFill>
              <a:srgbClr val="00ffff">
                <a:alpha val="20000"/>
              </a:srgbClr>
            </a:solidFill>
            <a:ln w="1260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의약품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908000" y="1989000"/>
              <a:ext cx="1152720" cy="792360"/>
            </a:xfrm>
            <a:prstGeom prst="rect">
              <a:avLst/>
            </a:prstGeom>
            <a:solidFill>
              <a:srgbClr val="00ffff">
                <a:alpha val="20000"/>
              </a:srgbClr>
            </a:solidFill>
            <a:ln w="1260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54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059280" y="1989000"/>
              <a:ext cx="865080" cy="792360"/>
            </a:xfrm>
            <a:prstGeom prst="rect">
              <a:avLst/>
            </a:prstGeom>
            <a:solidFill>
              <a:srgbClr val="00ffff">
                <a:alpha val="20000"/>
              </a:srgbClr>
            </a:solidFill>
            <a:ln w="1260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.0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924360" y="1989000"/>
              <a:ext cx="865080" cy="792360"/>
            </a:xfrm>
            <a:prstGeom prst="rect">
              <a:avLst/>
            </a:prstGeom>
            <a:solidFill>
              <a:srgbClr val="00ffff">
                <a:alpha val="20000"/>
              </a:srgbClr>
            </a:solidFill>
            <a:ln w="1260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9.7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788000" y="1989000"/>
              <a:ext cx="936360" cy="792360"/>
            </a:xfrm>
            <a:prstGeom prst="rect">
              <a:avLst/>
            </a:prstGeom>
            <a:solidFill>
              <a:srgbClr val="00ffff">
                <a:alpha val="20000"/>
              </a:srgbClr>
            </a:solidFill>
            <a:ln w="1260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722920" y="1989000"/>
              <a:ext cx="865080" cy="792360"/>
            </a:xfrm>
            <a:prstGeom prst="rect">
              <a:avLst/>
            </a:prstGeom>
            <a:solidFill>
              <a:srgbClr val="00ffff">
                <a:alpha val="20000"/>
              </a:srgbClr>
            </a:solidFill>
            <a:ln w="1260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.4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588000" y="1989000"/>
              <a:ext cx="865440" cy="792360"/>
            </a:xfrm>
            <a:prstGeom prst="rect">
              <a:avLst/>
            </a:prstGeom>
            <a:solidFill>
              <a:srgbClr val="00ffff">
                <a:alpha val="20000"/>
              </a:srgbClr>
            </a:solidFill>
            <a:ln w="1260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8.0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51640" y="1989000"/>
              <a:ext cx="936720" cy="792360"/>
            </a:xfrm>
            <a:prstGeom prst="rect">
              <a:avLst/>
            </a:prstGeom>
            <a:solidFill>
              <a:srgbClr val="00ffff">
                <a:alpha val="20000"/>
              </a:srgbClr>
            </a:solidFill>
            <a:ln w="1260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1007640" y="119160"/>
            <a:ext cx="2621880" cy="56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ffcc00"/>
                </a:solidFill>
                <a:latin typeface="HY헤드라인M"/>
                <a:ea typeface="HY헤드라인M"/>
              </a:rPr>
              <a:t>상품양허안</a:t>
            </a:r>
            <a:r>
              <a:rPr b="0" lang="en-US" sz="3100" spc="-1" strike="noStrike">
                <a:solidFill>
                  <a:srgbClr val="ffcc00"/>
                </a:solidFill>
                <a:latin typeface="HY헤드라인M"/>
                <a:ea typeface="HY헤드라인M"/>
              </a:rPr>
              <a:t>-</a:t>
            </a:r>
            <a:r>
              <a:rPr b="0" lang="zh-CN" sz="3100" spc="-1" strike="noStrike">
                <a:solidFill>
                  <a:srgbClr val="99cc00"/>
                </a:solidFill>
                <a:latin typeface="HY헤드라인M"/>
                <a:ea typeface="HY헤드라인M"/>
              </a:rPr>
              <a:t>작성개요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95280" y="1413000"/>
            <a:ext cx="8412120" cy="4489200"/>
            <a:chOff x="395280" y="1413000"/>
            <a:chExt cx="8412120" cy="4489200"/>
          </a:xfrm>
        </p:grpSpPr>
        <p:sp>
          <p:nvSpPr>
            <p:cNvPr id="447" name=""/>
            <p:cNvSpPr/>
            <p:nvPr/>
          </p:nvSpPr>
          <p:spPr>
            <a:xfrm>
              <a:off x="395280" y="1700280"/>
              <a:ext cx="8412120" cy="420192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2410560" y="1413000"/>
              <a:ext cx="4421160" cy="574560"/>
            </a:xfrm>
            <a:prstGeom prst="roundRect">
              <a:avLst>
                <a:gd name="adj" fmla="val 50000"/>
              </a:avLst>
            </a:prstGeom>
            <a:solidFill>
              <a:srgbClr val="377fb5"/>
            </a:solidFill>
            <a:ln w="0">
              <a:noFill/>
            </a:ln>
            <a:effectLst>
              <a:outerShdw dist="12600" dir="54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136760" y="1484280"/>
              <a:ext cx="854280" cy="4269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작성개요</a:t>
              </a:r>
              <a:endParaRPr b="0" lang="en-US" sz="2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55640" y="2133720"/>
              <a:ext cx="7920000" cy="3526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862"/>
                </a:spcBef>
                <a:buClr>
                  <a:srgbClr val="cc33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3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 </a:t>
              </a:r>
              <a:r>
                <a:rPr b="0" lang="ko-KR" sz="23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품목별 </a:t>
              </a:r>
              <a:r>
                <a:rPr b="0" lang="ko-KR" sz="2300" spc="-1" strike="noStrike">
                  <a:solidFill>
                    <a:srgbClr val="ff3300"/>
                  </a:solidFill>
                  <a:latin typeface="Arial"/>
                  <a:ea typeface="HY헤드라인M"/>
                </a:rPr>
                <a:t>민감도 분석</a:t>
              </a:r>
              <a:r>
                <a:rPr b="0" lang="ko-KR" sz="2300" spc="-1" strike="noStrike">
                  <a:solidFill>
                    <a:srgbClr val="ffff00"/>
                  </a:solidFill>
                  <a:latin typeface="Arial"/>
                  <a:ea typeface="HY헤드라인M"/>
                </a:rPr>
                <a:t> </a:t>
              </a:r>
              <a:r>
                <a:rPr b="0" lang="ko-KR" sz="23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을 통한 상품양허안 작성</a:t>
              </a:r>
              <a:r>
                <a:rPr b="0" lang="ko-KR" sz="23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(HS10digt)</a:t>
              </a:r>
              <a:endParaRPr b="0" lang="en-US" sz="23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3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  </a:t>
              </a:r>
              <a:r>
                <a:rPr b="0" lang="ko-KR" sz="20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-  </a:t>
              </a:r>
              <a:r>
                <a:rPr b="0" lang="ko-KR" sz="20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품목별 관세율</a:t>
              </a:r>
              <a:r>
                <a:rPr b="0" lang="ko-KR" sz="20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, </a:t>
              </a:r>
              <a:r>
                <a:rPr b="0" lang="ko-KR" sz="20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교역량</a:t>
              </a:r>
              <a:r>
                <a:rPr b="0" lang="ko-KR" sz="20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, </a:t>
              </a:r>
              <a:r>
                <a:rPr b="0" lang="ko-KR" sz="20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수입의존도</a:t>
              </a:r>
              <a:r>
                <a:rPr b="0" lang="ko-KR" sz="20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, </a:t>
              </a:r>
              <a:r>
                <a:rPr b="0" lang="ko-KR" sz="20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무역특화지수</a:t>
              </a:r>
              <a:r>
                <a:rPr b="0" lang="ko-KR" sz="20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, </a:t>
              </a:r>
              <a:r>
                <a:rPr b="0" lang="ko-KR" sz="20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현시비교우위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     </a:t>
              </a:r>
              <a:r>
                <a:rPr b="0" lang="ko-KR" sz="20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지수 등 </a:t>
              </a:r>
              <a:r>
                <a:rPr b="0" lang="ko-KR" sz="2000" spc="-1" strike="noStrike">
                  <a:solidFill>
                    <a:srgbClr val="ffff00"/>
                  </a:solidFill>
                  <a:latin typeface="Arial"/>
                  <a:ea typeface="HY헤드라인M"/>
                </a:rPr>
                <a:t>각종 지수를 활용</a:t>
              </a:r>
              <a:r>
                <a:rPr b="0" lang="ko-KR" sz="20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한 민감분석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0000"/>
                </a:lnSpc>
                <a:spcBef>
                  <a:spcPts val="862"/>
                </a:spcBef>
                <a:buClr>
                  <a:srgbClr val="cc33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3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 </a:t>
              </a:r>
              <a:r>
                <a:rPr b="0" lang="ko-KR" sz="23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관련 협회 및 업계와의 </a:t>
              </a:r>
              <a:r>
                <a:rPr b="0" lang="ko-KR" sz="2300" spc="-1" strike="noStrike">
                  <a:solidFill>
                    <a:srgbClr val="ff3300"/>
                  </a:solidFill>
                  <a:latin typeface="Arial"/>
                  <a:ea typeface="HY헤드라인M"/>
                </a:rPr>
                <a:t>정책협의회</a:t>
              </a:r>
              <a:r>
                <a:rPr b="0" lang="ko-KR" sz="23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를 통한 정책변수 반영</a:t>
              </a:r>
              <a:endParaRPr b="0" lang="en-US" sz="23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3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  </a:t>
              </a:r>
              <a:r>
                <a:rPr b="0" lang="ko-KR" sz="20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- </a:t>
              </a:r>
              <a:r>
                <a:rPr b="0" lang="ko-KR" sz="20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산업별 분야별 정책협의회 개최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0000"/>
                </a:lnSpc>
                <a:spcBef>
                  <a:spcPts val="8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  </a:t>
              </a:r>
              <a:r>
                <a:rPr b="0" lang="ko-KR" sz="20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- </a:t>
              </a:r>
              <a:r>
                <a:rPr b="0" lang="ko-KR" sz="2000" spc="-1" strike="noStrike">
                  <a:solidFill>
                    <a:srgbClr val="ffff00"/>
                  </a:solidFill>
                  <a:latin typeface="Arial"/>
                  <a:ea typeface="HY헤드라인M"/>
                </a:rPr>
                <a:t>무역자유화협상 대응 </a:t>
              </a:r>
              <a:r>
                <a:rPr b="0" lang="ko-KR" sz="2000" spc="-1" strike="noStrike">
                  <a:solidFill>
                    <a:srgbClr val="ffff00"/>
                  </a:solidFill>
                  <a:latin typeface="Arial"/>
                  <a:ea typeface="HY헤드라인M"/>
                </a:rPr>
                <a:t>T/F</a:t>
              </a:r>
              <a:r>
                <a:rPr b="0" lang="ko-KR" sz="2000" spc="-1" strike="noStrike">
                  <a:solidFill>
                    <a:srgbClr val="ffff00"/>
                  </a:solidFill>
                  <a:latin typeface="Arial"/>
                  <a:ea typeface="HY헤드라인M"/>
                </a:rPr>
                <a:t>팀</a:t>
              </a:r>
              <a:r>
                <a:rPr b="0" lang="ko-KR" sz="20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 구성</a:t>
              </a:r>
              <a:r>
                <a:rPr b="0" lang="ko-KR" sz="20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(’05.4.12)</a:t>
              </a:r>
              <a:r>
                <a:rPr b="0" lang="ko-KR" sz="23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 </a:t>
              </a:r>
              <a:endParaRPr b="0" lang="en-US" sz="23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1007640" y="119160"/>
            <a:ext cx="2621880" cy="56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ffcc00"/>
                </a:solidFill>
                <a:latin typeface="HY헤드라인M"/>
                <a:ea typeface="HY헤드라인M"/>
              </a:rPr>
              <a:t>상품양허안</a:t>
            </a:r>
            <a:r>
              <a:rPr b="0" lang="en-US" sz="3100" spc="-1" strike="noStrike">
                <a:solidFill>
                  <a:srgbClr val="ffcc00"/>
                </a:solidFill>
                <a:latin typeface="HY헤드라인M"/>
                <a:ea typeface="HY헤드라인M"/>
              </a:rPr>
              <a:t>-</a:t>
            </a:r>
            <a:r>
              <a:rPr b="0" lang="zh-CN" sz="3100" spc="-1" strike="noStrike">
                <a:solidFill>
                  <a:srgbClr val="99cc00"/>
                </a:solidFill>
                <a:latin typeface="HY헤드라인M"/>
                <a:ea typeface="HY헤드라인M"/>
              </a:rPr>
              <a:t>작성단계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251000" y="1916280"/>
            <a:ext cx="7583400" cy="649080"/>
            <a:chOff x="1251000" y="1916280"/>
            <a:chExt cx="7583400" cy="649080"/>
          </a:xfrm>
        </p:grpSpPr>
        <p:sp>
          <p:nvSpPr>
            <p:cNvPr id="453" name=""/>
            <p:cNvSpPr/>
            <p:nvPr/>
          </p:nvSpPr>
          <p:spPr>
            <a:xfrm>
              <a:off x="1251000" y="1916280"/>
              <a:ext cx="7583400" cy="649080"/>
            </a:xfrm>
            <a:prstGeom prst="roundRect">
              <a:avLst>
                <a:gd name="adj" fmla="val 7542"/>
              </a:avLst>
            </a:prstGeom>
            <a:solidFill>
              <a:srgbClr val="006666">
                <a:alpha val="60000"/>
              </a:srgbClr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050920" y="1989000"/>
              <a:ext cx="6624720" cy="474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5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대세계 무역특화지수 등에 의한 품목군 분류</a:t>
              </a:r>
              <a:endParaRPr b="0" lang="en-US" sz="25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246600" y="1860120"/>
            <a:ext cx="1626480" cy="831240"/>
            <a:chOff x="246600" y="1860120"/>
            <a:chExt cx="1626480" cy="831240"/>
          </a:xfrm>
        </p:grpSpPr>
        <p:grpSp>
          <p:nvGrpSpPr>
            <p:cNvPr id="456" name=""/>
            <p:cNvGrpSpPr/>
            <p:nvPr/>
          </p:nvGrpSpPr>
          <p:grpSpPr>
            <a:xfrm>
              <a:off x="246600" y="1860120"/>
              <a:ext cx="1626480" cy="831240"/>
              <a:chOff x="246600" y="1860120"/>
              <a:chExt cx="1626480" cy="831240"/>
            </a:xfrm>
          </p:grpSpPr>
          <p:sp>
            <p:nvSpPr>
              <p:cNvPr id="457" name=""/>
              <p:cNvSpPr/>
              <p:nvPr/>
            </p:nvSpPr>
            <p:spPr>
              <a:xfrm rot="21020400">
                <a:off x="284040" y="1986120"/>
                <a:ext cx="1551240" cy="57924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31640" y="2005200"/>
                <a:ext cx="1260720" cy="532800"/>
              </a:xfrm>
              <a:prstGeom prst="ellipse">
                <a:avLst/>
              </a:prstGeom>
              <a:solidFill>
                <a:srgbClr val="ead0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459" name=""/>
            <p:cNvSpPr/>
            <p:nvPr/>
          </p:nvSpPr>
          <p:spPr>
            <a:xfrm>
              <a:off x="744120" y="2075040"/>
              <a:ext cx="608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HY헤드라인M"/>
                </a:rPr>
                <a:t>1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HY헤드라인M"/>
                </a:rPr>
                <a:t>단계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1258920" y="2852640"/>
            <a:ext cx="7583400" cy="649080"/>
            <a:chOff x="1258920" y="2852640"/>
            <a:chExt cx="7583400" cy="649080"/>
          </a:xfrm>
        </p:grpSpPr>
        <p:sp>
          <p:nvSpPr>
            <p:cNvPr id="461" name=""/>
            <p:cNvSpPr/>
            <p:nvPr/>
          </p:nvSpPr>
          <p:spPr>
            <a:xfrm>
              <a:off x="1258920" y="2852640"/>
              <a:ext cx="7583400" cy="649080"/>
            </a:xfrm>
            <a:prstGeom prst="roundRect">
              <a:avLst>
                <a:gd name="adj" fmla="val 7542"/>
              </a:avLst>
            </a:prstGeom>
            <a:solidFill>
              <a:srgbClr val="006666">
                <a:alpha val="60000"/>
              </a:srgbClr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058840" y="2925360"/>
              <a:ext cx="6624720" cy="474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수출증가율</a:t>
              </a:r>
              <a:r>
                <a:rPr b="0" lang="en-US" sz="25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(</a:t>
              </a:r>
              <a:r>
                <a:rPr b="0" lang="zh-CN" sz="25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장래 경쟁력 확보 가능성</a:t>
              </a:r>
              <a:r>
                <a:rPr b="0" lang="en-US" sz="25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)</a:t>
              </a:r>
              <a:r>
                <a:rPr b="0" lang="zh-CN" sz="25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로 보완</a:t>
              </a:r>
              <a:endParaRPr b="0" lang="en-US" sz="25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1258920" y="3860640"/>
            <a:ext cx="7583400" cy="649080"/>
            <a:chOff x="1258920" y="3860640"/>
            <a:chExt cx="7583400" cy="649080"/>
          </a:xfrm>
        </p:grpSpPr>
        <p:sp>
          <p:nvSpPr>
            <p:cNvPr id="464" name=""/>
            <p:cNvSpPr/>
            <p:nvPr/>
          </p:nvSpPr>
          <p:spPr>
            <a:xfrm>
              <a:off x="1258920" y="3860640"/>
              <a:ext cx="7583400" cy="649080"/>
            </a:xfrm>
            <a:prstGeom prst="roundRect">
              <a:avLst>
                <a:gd name="adj" fmla="val 7542"/>
              </a:avLst>
            </a:prstGeom>
            <a:solidFill>
              <a:srgbClr val="006666">
                <a:alpha val="60000"/>
              </a:srgbClr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058840" y="3933360"/>
              <a:ext cx="6624720" cy="474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대상대국 무역특화지수로 보완</a:t>
              </a:r>
              <a:endParaRPr b="0" lang="en-US" sz="25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1332000" y="4797360"/>
            <a:ext cx="7583400" cy="649080"/>
            <a:chOff x="1332000" y="4797360"/>
            <a:chExt cx="7583400" cy="649080"/>
          </a:xfrm>
        </p:grpSpPr>
        <p:sp>
          <p:nvSpPr>
            <p:cNvPr id="467" name=""/>
            <p:cNvSpPr/>
            <p:nvPr/>
          </p:nvSpPr>
          <p:spPr>
            <a:xfrm>
              <a:off x="1332000" y="4797360"/>
              <a:ext cx="7583400" cy="649080"/>
            </a:xfrm>
            <a:prstGeom prst="roundRect">
              <a:avLst>
                <a:gd name="adj" fmla="val 7542"/>
              </a:avLst>
            </a:prstGeom>
            <a:solidFill>
              <a:srgbClr val="006666">
                <a:alpha val="60000"/>
              </a:srgbClr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131920" y="4870080"/>
              <a:ext cx="6624720" cy="474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현시비교우위 지수를 통한 보완</a:t>
              </a:r>
              <a:endParaRPr b="0" lang="en-US" sz="25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1332000" y="5734080"/>
            <a:ext cx="7583400" cy="649080"/>
            <a:chOff x="1332000" y="5734080"/>
            <a:chExt cx="7583400" cy="649080"/>
          </a:xfrm>
        </p:grpSpPr>
        <p:sp>
          <p:nvSpPr>
            <p:cNvPr id="470" name=""/>
            <p:cNvSpPr/>
            <p:nvPr/>
          </p:nvSpPr>
          <p:spPr>
            <a:xfrm>
              <a:off x="1332000" y="5734080"/>
              <a:ext cx="7583400" cy="649080"/>
            </a:xfrm>
            <a:prstGeom prst="roundRect">
              <a:avLst>
                <a:gd name="adj" fmla="val 7542"/>
              </a:avLst>
            </a:prstGeom>
            <a:solidFill>
              <a:srgbClr val="006666">
                <a:alpha val="60000"/>
              </a:srgbClr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131920" y="5806800"/>
              <a:ext cx="6624720" cy="474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비계량적 요소를 고려한 전략적 조정</a:t>
              </a:r>
              <a:endParaRPr b="0" lang="en-US" sz="25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209880" y="2801880"/>
            <a:ext cx="1594800" cy="861120"/>
            <a:chOff x="209880" y="2801880"/>
            <a:chExt cx="1594800" cy="861120"/>
          </a:xfrm>
        </p:grpSpPr>
        <p:grpSp>
          <p:nvGrpSpPr>
            <p:cNvPr id="473" name=""/>
            <p:cNvGrpSpPr/>
            <p:nvPr/>
          </p:nvGrpSpPr>
          <p:grpSpPr>
            <a:xfrm>
              <a:off x="209880" y="2801880"/>
              <a:ext cx="1594800" cy="861120"/>
              <a:chOff x="209880" y="2801880"/>
              <a:chExt cx="1594800" cy="861120"/>
            </a:xfrm>
          </p:grpSpPr>
          <p:sp>
            <p:nvSpPr>
              <p:cNvPr id="474" name=""/>
              <p:cNvSpPr/>
              <p:nvPr/>
            </p:nvSpPr>
            <p:spPr>
              <a:xfrm rot="21020400">
                <a:off x="250560" y="2924280"/>
                <a:ext cx="1512720" cy="615960"/>
              </a:xfrm>
              <a:prstGeom prst="ellipse">
                <a:avLst/>
              </a:prstGeom>
              <a:solidFill>
                <a:srgbClr val="85a8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95280" y="2944440"/>
                <a:ext cx="1229040" cy="566640"/>
              </a:xfrm>
              <a:prstGeom prst="ellipse">
                <a:avLst/>
              </a:prstGeom>
              <a:solidFill>
                <a:srgbClr val="d1d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476" name=""/>
            <p:cNvSpPr/>
            <p:nvPr/>
          </p:nvSpPr>
          <p:spPr>
            <a:xfrm>
              <a:off x="696600" y="2997360"/>
              <a:ext cx="608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HY헤드라인M"/>
                </a:rPr>
                <a:t>2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HY헤드라인M"/>
                </a:rPr>
                <a:t>단계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207360" y="3811320"/>
            <a:ext cx="1599840" cy="892080"/>
            <a:chOff x="207360" y="3811320"/>
            <a:chExt cx="1599840" cy="892080"/>
          </a:xfrm>
        </p:grpSpPr>
        <p:sp>
          <p:nvSpPr>
            <p:cNvPr id="478" name=""/>
            <p:cNvSpPr/>
            <p:nvPr/>
          </p:nvSpPr>
          <p:spPr>
            <a:xfrm rot="21020400">
              <a:off x="250920" y="3933360"/>
              <a:ext cx="1512720" cy="647640"/>
            </a:xfrm>
            <a:prstGeom prst="ellipse">
              <a:avLst/>
            </a:prstGeom>
            <a:solidFill>
              <a:srgbClr val="208c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95280" y="3954960"/>
              <a:ext cx="1229040" cy="595440"/>
            </a:xfrm>
            <a:prstGeom prst="ellipse">
              <a:avLst/>
            </a:prstGeom>
            <a:solidFill>
              <a:srgbClr val="d4eb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80" name=""/>
          <p:cNvSpPr/>
          <p:nvPr/>
        </p:nvSpPr>
        <p:spPr>
          <a:xfrm>
            <a:off x="624960" y="4076640"/>
            <a:ext cx="608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헤드라인M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Y헤드라인M"/>
              </a:rPr>
              <a:t>단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213480" y="5679360"/>
            <a:ext cx="1626120" cy="831240"/>
            <a:chOff x="213480" y="5679360"/>
            <a:chExt cx="1626120" cy="831240"/>
          </a:xfrm>
        </p:grpSpPr>
        <p:grpSp>
          <p:nvGrpSpPr>
            <p:cNvPr id="482" name=""/>
            <p:cNvGrpSpPr/>
            <p:nvPr/>
          </p:nvGrpSpPr>
          <p:grpSpPr>
            <a:xfrm>
              <a:off x="213480" y="5679360"/>
              <a:ext cx="1626120" cy="831240"/>
              <a:chOff x="213480" y="5679360"/>
              <a:chExt cx="1626120" cy="831240"/>
            </a:xfrm>
          </p:grpSpPr>
          <p:sp>
            <p:nvSpPr>
              <p:cNvPr id="483" name=""/>
              <p:cNvSpPr/>
              <p:nvPr/>
            </p:nvSpPr>
            <p:spPr>
              <a:xfrm rot="21020400">
                <a:off x="250920" y="5805360"/>
                <a:ext cx="1550880" cy="57924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398520" y="5824440"/>
                <a:ext cx="1260360" cy="532800"/>
              </a:xfrm>
              <a:prstGeom prst="ellipse">
                <a:avLst/>
              </a:prstGeom>
              <a:solidFill>
                <a:srgbClr val="ead0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485" name=""/>
            <p:cNvSpPr/>
            <p:nvPr/>
          </p:nvSpPr>
          <p:spPr>
            <a:xfrm>
              <a:off x="710280" y="5894280"/>
              <a:ext cx="608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HY헤드라인M"/>
                </a:rPr>
                <a:t>5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HY헤드라인M"/>
                </a:rPr>
                <a:t>단계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209880" y="4746600"/>
            <a:ext cx="1594800" cy="861120"/>
            <a:chOff x="209880" y="4746600"/>
            <a:chExt cx="1594800" cy="861120"/>
          </a:xfrm>
        </p:grpSpPr>
        <p:grpSp>
          <p:nvGrpSpPr>
            <p:cNvPr id="487" name=""/>
            <p:cNvGrpSpPr/>
            <p:nvPr/>
          </p:nvGrpSpPr>
          <p:grpSpPr>
            <a:xfrm>
              <a:off x="209880" y="4746600"/>
              <a:ext cx="1594800" cy="861120"/>
              <a:chOff x="209880" y="4746600"/>
              <a:chExt cx="1594800" cy="861120"/>
            </a:xfrm>
          </p:grpSpPr>
          <p:sp>
            <p:nvSpPr>
              <p:cNvPr id="488" name=""/>
              <p:cNvSpPr/>
              <p:nvPr/>
            </p:nvSpPr>
            <p:spPr>
              <a:xfrm rot="21020400">
                <a:off x="250560" y="4869000"/>
                <a:ext cx="1512720" cy="615960"/>
              </a:xfrm>
              <a:prstGeom prst="ellipse">
                <a:avLst/>
              </a:prstGeom>
              <a:solidFill>
                <a:srgbClr val="85a8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395280" y="4889160"/>
                <a:ext cx="1229040" cy="566640"/>
              </a:xfrm>
              <a:prstGeom prst="ellipse">
                <a:avLst/>
              </a:prstGeom>
              <a:solidFill>
                <a:srgbClr val="d1d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490" name=""/>
            <p:cNvSpPr/>
            <p:nvPr/>
          </p:nvSpPr>
          <p:spPr>
            <a:xfrm>
              <a:off x="696600" y="4942080"/>
              <a:ext cx="608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HY헤드라인M"/>
                </a:rPr>
                <a:t>4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HY헤드라인M"/>
                </a:rPr>
                <a:t>단계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1086480" y="119160"/>
            <a:ext cx="2858040" cy="56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ffcc00"/>
                </a:solidFill>
                <a:latin typeface="HY헤드라인M"/>
                <a:ea typeface="HY헤드라인M"/>
              </a:rPr>
              <a:t>원산지기준안</a:t>
            </a:r>
            <a:r>
              <a:rPr b="0" lang="en-US" sz="3100" spc="-1" strike="noStrike">
                <a:solidFill>
                  <a:srgbClr val="ffcc00"/>
                </a:solidFill>
                <a:latin typeface="HY헤드라인M"/>
                <a:ea typeface="HY헤드라인M"/>
              </a:rPr>
              <a:t>-</a:t>
            </a:r>
            <a:r>
              <a:rPr b="0" lang="zh-CN" sz="3100" spc="-1" strike="noStrike">
                <a:solidFill>
                  <a:srgbClr val="99cc00"/>
                </a:solidFill>
                <a:latin typeface="HY헤드라인M"/>
                <a:ea typeface="HY헤드라인M"/>
              </a:rPr>
              <a:t>작성개요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2" name=""/>
          <p:cNvSpPr/>
          <p:nvPr/>
        </p:nvSpPr>
        <p:spPr>
          <a:xfrm>
            <a:off x="395280" y="1700280"/>
            <a:ext cx="8412120" cy="4537080"/>
          </a:xfrm>
          <a:prstGeom prst="rect">
            <a:avLst/>
          </a:prstGeom>
          <a:solidFill>
            <a:srgbClr val="000000">
              <a:alpha val="20000"/>
            </a:srgbClr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2410560" y="1413000"/>
            <a:ext cx="4421160" cy="574560"/>
          </a:xfrm>
          <a:prstGeom prst="roundRect">
            <a:avLst>
              <a:gd name="adj" fmla="val 50000"/>
            </a:avLst>
          </a:prstGeom>
          <a:solidFill>
            <a:srgbClr val="377fb5"/>
          </a:solidFill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4" name=""/>
          <p:cNvSpPr/>
          <p:nvPr/>
        </p:nvSpPr>
        <p:spPr>
          <a:xfrm>
            <a:off x="4136760" y="1484280"/>
            <a:ext cx="854280" cy="42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작성개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5" name=""/>
          <p:cNvSpPr/>
          <p:nvPr/>
        </p:nvSpPr>
        <p:spPr>
          <a:xfrm>
            <a:off x="755640" y="2133720"/>
            <a:ext cx="7920000" cy="371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862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  <a:ea typeface="HY헤드라인M"/>
              </a:rPr>
              <a:t> </a:t>
            </a:r>
            <a:r>
              <a:rPr b="0" lang="zh-CN" sz="2300" spc="-1" strike="noStrike">
                <a:solidFill>
                  <a:srgbClr val="ffffff"/>
                </a:solidFill>
                <a:latin typeface="Arial"/>
                <a:ea typeface="HY헤드라인M"/>
              </a:rPr>
              <a:t>상품양허안에서 조사분석된 품목별 경쟁력 우열에 따라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  <a:ea typeface="HY헤드라인M"/>
              </a:rPr>
              <a:t>   </a:t>
            </a:r>
            <a:r>
              <a:rPr b="0" lang="zh-CN" sz="2300" spc="-1" strike="noStrike">
                <a:solidFill>
                  <a:srgbClr val="ffffff"/>
                </a:solidFill>
                <a:latin typeface="Arial"/>
                <a:ea typeface="HY헤드라인M"/>
              </a:rPr>
              <a:t>작성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  <a:ea typeface="HY헤드라인M"/>
              </a:rPr>
              <a:t>(HS 6digt)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  <a:ea typeface="HY헤드라인M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HY헤드라인M"/>
              </a:rPr>
              <a:t>-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HY헤드라인M"/>
              </a:rPr>
              <a:t>경쟁우위품목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HY헤드라인M"/>
              </a:rPr>
              <a:t>: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HY헤드라인M"/>
              </a:rPr>
              <a:t>기준완화로 수출도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HY헤드라인M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HY헤드라인M"/>
              </a:rPr>
              <a:t>-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HY헤드라인M"/>
              </a:rPr>
              <a:t>경쟁열위품목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HY헤드라인M"/>
              </a:rPr>
              <a:t>: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HY헤드라인M"/>
              </a:rPr>
              <a:t>엄격한 기준으로 우회수입 방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862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  <a:ea typeface="HY헤드라인M"/>
              </a:rPr>
              <a:t> </a:t>
            </a:r>
            <a:r>
              <a:rPr b="0" lang="zh-CN" sz="2300" spc="-1" strike="noStrike">
                <a:solidFill>
                  <a:srgbClr val="ffffff"/>
                </a:solidFill>
                <a:latin typeface="Arial"/>
                <a:ea typeface="HY헤드라인M"/>
              </a:rPr>
              <a:t>주요 품목에 대한 생산공정에 대한 기초자료 작성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  <a:ea typeface="HY헤드라인M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HY헤드라인M"/>
              </a:rPr>
              <a:t>-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HY헤드라인M"/>
              </a:rPr>
              <a:t>상당부분의 의약원료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HY헤드라인M"/>
              </a:rPr>
              <a:t>(28, 29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HY헤드라인M"/>
              </a:rPr>
              <a:t>류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HY헤드라인M"/>
              </a:rPr>
              <a:t>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HY헤드라인M"/>
              </a:rPr>
              <a:t>를 수입에 의존하고 있으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HY헤드라인M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HY헤드라인M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HY헤드라인M"/>
              </a:rPr>
              <a:t>- 4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HY헤드라인M"/>
              </a:rPr>
              <a:t>자리 세번변경기준이 사실상 완전생산기준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3126240" y="1219320"/>
            <a:ext cx="46137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HY견고딕"/>
                <a:ea typeface="HY견고딕"/>
              </a:rPr>
              <a:t>IV. </a:t>
            </a:r>
            <a:r>
              <a:rPr b="0" lang="zh-CN" sz="4000" spc="-1" strike="noStrike">
                <a:solidFill>
                  <a:srgbClr val="ffff00"/>
                </a:solidFill>
                <a:latin typeface="HY견고딕"/>
                <a:ea typeface="HY견고딕"/>
              </a:rPr>
              <a:t>비관세분야 대응현황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"/>
          <p:cNvSpPr/>
          <p:nvPr/>
        </p:nvSpPr>
        <p:spPr>
          <a:xfrm>
            <a:off x="2606760" y="2209680"/>
            <a:ext cx="6537240" cy="0"/>
          </a:xfrm>
          <a:prstGeom prst="line">
            <a:avLst/>
          </a:prstGeom>
          <a:ln w="28440">
            <a:solidFill>
              <a:srgbClr val="277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"/>
          <p:cNvSpPr/>
          <p:nvPr/>
        </p:nvSpPr>
        <p:spPr>
          <a:xfrm>
            <a:off x="3200400" y="2209680"/>
            <a:ext cx="0" cy="38102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"/>
          <p:cNvSpPr/>
          <p:nvPr/>
        </p:nvSpPr>
        <p:spPr>
          <a:xfrm>
            <a:off x="3429000" y="2286000"/>
            <a:ext cx="52912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비관세장벽의 개요 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"/>
          <p:cNvSpPr/>
          <p:nvPr/>
        </p:nvSpPr>
        <p:spPr>
          <a:xfrm>
            <a:off x="3419640" y="2924280"/>
            <a:ext cx="52909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주요 비관세분야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"/>
          <p:cNvSpPr/>
          <p:nvPr/>
        </p:nvSpPr>
        <p:spPr>
          <a:xfrm>
            <a:off x="3419640" y="3573360"/>
            <a:ext cx="52909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비관세장벽</a:t>
            </a:r>
            <a:r>
              <a:rPr b="0" lang="en-US" sz="22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(NTB) </a:t>
            </a:r>
            <a:r>
              <a:rPr b="0" lang="zh-CN" sz="22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현황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1282320" y="142920"/>
            <a:ext cx="3877560" cy="56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ffcc00"/>
                </a:solidFill>
                <a:latin typeface="Arial"/>
                <a:ea typeface="HY헤드라인M"/>
              </a:rPr>
              <a:t>비관세장벽의 개요</a:t>
            </a:r>
            <a:r>
              <a:rPr b="0" lang="en-US" sz="3100" spc="-1" strike="noStrike">
                <a:solidFill>
                  <a:srgbClr val="ffcc00"/>
                </a:solidFill>
                <a:latin typeface="Arial"/>
                <a:ea typeface="HY헤드라인M"/>
              </a:rPr>
              <a:t>-</a:t>
            </a:r>
            <a:r>
              <a:rPr b="0" lang="zh-CN" sz="3100" spc="-1" strike="noStrike">
                <a:solidFill>
                  <a:srgbClr val="99cc00"/>
                </a:solidFill>
                <a:latin typeface="Arial"/>
                <a:ea typeface="HY헤드라인M"/>
              </a:rPr>
              <a:t>개념 및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324000" y="1341360"/>
            <a:ext cx="8412120" cy="4679640"/>
            <a:chOff x="324000" y="1341360"/>
            <a:chExt cx="8412120" cy="4679640"/>
          </a:xfrm>
        </p:grpSpPr>
        <p:grpSp>
          <p:nvGrpSpPr>
            <p:cNvPr id="504" name=""/>
            <p:cNvGrpSpPr/>
            <p:nvPr/>
          </p:nvGrpSpPr>
          <p:grpSpPr>
            <a:xfrm>
              <a:off x="324000" y="1341360"/>
              <a:ext cx="8412120" cy="4679640"/>
              <a:chOff x="324000" y="1341360"/>
              <a:chExt cx="8412120" cy="4679640"/>
            </a:xfrm>
          </p:grpSpPr>
          <p:sp>
            <p:nvSpPr>
              <p:cNvPr id="505" name=""/>
              <p:cNvSpPr/>
              <p:nvPr/>
            </p:nvSpPr>
            <p:spPr>
              <a:xfrm>
                <a:off x="324000" y="1640520"/>
                <a:ext cx="8412120" cy="4380480"/>
              </a:xfrm>
              <a:prstGeom prst="rect">
                <a:avLst/>
              </a:prstGeom>
              <a:solidFill>
                <a:srgbClr val="000000">
                  <a:alpha val="20000"/>
                </a:srgbClr>
              </a:solidFill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H="1">
                <a:off x="2339280" y="1341360"/>
                <a:ext cx="4421160" cy="598680"/>
              </a:xfrm>
              <a:prstGeom prst="roundRect">
                <a:avLst>
                  <a:gd name="adj" fmla="val 50000"/>
                </a:avLst>
              </a:prstGeom>
              <a:solidFill>
                <a:srgbClr val="377fb5"/>
              </a:solidFill>
              <a:ln w="0">
                <a:noFill/>
              </a:ln>
              <a:effectLst>
                <a:outerShdw dist="12600" dir="54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3867480" y="1415520"/>
                <a:ext cx="1253520" cy="4269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HY헤드라인M"/>
                    <a:ea typeface="HY헤드라인M"/>
                  </a:rPr>
                  <a:t>개념 및 특징</a:t>
                </a:r>
                <a:endParaRPr b="0" lang="en-US" sz="2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684360" y="2092680"/>
                <a:ext cx="7920000" cy="514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862"/>
                  </a:spcBef>
                  <a:buClr>
                    <a:srgbClr val="cc33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300" spc="-1" strike="noStrike">
                    <a:solidFill>
                      <a:srgbClr val="ffffff"/>
                    </a:solidFill>
                    <a:latin typeface="Arial"/>
                    <a:ea typeface="HY헤드라인M"/>
                  </a:rPr>
                  <a:t> </a:t>
                </a:r>
                <a:endParaRPr b="0" lang="en-US" sz="23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509" name=""/>
            <p:cNvSpPr/>
            <p:nvPr/>
          </p:nvSpPr>
          <p:spPr>
            <a:xfrm>
              <a:off x="755640" y="2060640"/>
              <a:ext cx="7632720" cy="38386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20000"/>
                </a:lnSpc>
                <a:buClr>
                  <a:srgbClr val="cc33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 </a:t>
              </a:r>
              <a:r>
                <a:rPr b="0" lang="en-US" sz="2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970</a:t>
              </a:r>
              <a:r>
                <a:rPr b="0" lang="zh-CN" sz="2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년 이후부터 비관세조치에의 의존도 상승으로</a:t>
              </a:r>
              <a:endParaRPr b="0" lang="en-US" sz="25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   </a:t>
              </a:r>
              <a:r>
                <a:rPr b="0" lang="zh-CN" sz="2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인해 등장한 개념</a:t>
              </a:r>
              <a:endParaRPr b="0" lang="en-US" sz="25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0000"/>
                </a:lnSpc>
                <a:buClr>
                  <a:srgbClr val="cc33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 </a:t>
              </a:r>
              <a:r>
                <a:rPr b="0" lang="zh-CN" sz="2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현대사회에서는 필수적 조치이나 각국의 규정 상이</a:t>
              </a:r>
              <a:endParaRPr b="0" lang="en-US" sz="25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0000"/>
                </a:lnSpc>
                <a:buClr>
                  <a:srgbClr val="cc33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 </a:t>
              </a:r>
              <a:r>
                <a:rPr b="0" lang="zh-CN" sz="2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그 자체로서 무역장벽으로서의 역할 가능</a:t>
              </a:r>
              <a:endParaRPr b="0" lang="en-US" sz="25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0000"/>
                </a:lnSpc>
                <a:buClr>
                  <a:srgbClr val="cc33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 </a:t>
              </a:r>
              <a:r>
                <a:rPr b="0" lang="zh-CN" sz="2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사용추세 파악의 어려움</a:t>
              </a:r>
              <a:endParaRPr b="0" lang="en-US" sz="25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: </a:t>
              </a:r>
              <a:r>
                <a:rPr b="0" lang="zh-CN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국내정책의 일환으로 사용</a:t>
              </a:r>
              <a:r>
                <a:rPr b="0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, </a:t>
              </a:r>
              <a:r>
                <a:rPr b="0" lang="zh-CN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투명성 확보의 어려움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555000" y="1197000"/>
            <a:ext cx="20905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HY견고딕"/>
                <a:ea typeface="HY견고딕"/>
              </a:rPr>
              <a:t>발표순서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1258920" y="1989000"/>
            <a:ext cx="6537240" cy="0"/>
          </a:xfrm>
          <a:prstGeom prst="line">
            <a:avLst/>
          </a:prstGeom>
          <a:ln w="28440">
            <a:solidFill>
              <a:srgbClr val="277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2050920" y="2276640"/>
            <a:ext cx="5616360" cy="763560"/>
            <a:chOff x="2050920" y="2276640"/>
            <a:chExt cx="5616360" cy="763560"/>
          </a:xfrm>
        </p:grpSpPr>
        <p:sp>
          <p:nvSpPr>
            <p:cNvPr id="45" name=""/>
            <p:cNvSpPr/>
            <p:nvPr/>
          </p:nvSpPr>
          <p:spPr>
            <a:xfrm>
              <a:off x="2123640" y="2345040"/>
              <a:ext cx="5400720" cy="576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2050920" y="2276640"/>
              <a:ext cx="763560" cy="7635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sp>
          <p:nvSpPr>
            <p:cNvPr id="47" name=""/>
            <p:cNvSpPr/>
            <p:nvPr/>
          </p:nvSpPr>
          <p:spPr>
            <a:xfrm>
              <a:off x="2098440" y="2281680"/>
              <a:ext cx="668160" cy="6649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HY헤드라인M"/>
                  <a:ea typeface="HY헤드라인M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985840" y="2489400"/>
              <a:ext cx="468144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66ff"/>
                  </a:solidFill>
                  <a:latin typeface="HY견고딕"/>
                  <a:ea typeface="HY견고딕"/>
                </a:rPr>
                <a:t>진흥원의 역할</a:t>
              </a:r>
              <a:endParaRPr b="0" lang="en-US" sz="2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050920" y="3141720"/>
            <a:ext cx="5616360" cy="763560"/>
            <a:chOff x="2050920" y="3141720"/>
            <a:chExt cx="5616360" cy="763560"/>
          </a:xfrm>
        </p:grpSpPr>
        <p:sp>
          <p:nvSpPr>
            <p:cNvPr id="50" name=""/>
            <p:cNvSpPr/>
            <p:nvPr/>
          </p:nvSpPr>
          <p:spPr>
            <a:xfrm>
              <a:off x="2123640" y="3210120"/>
              <a:ext cx="5400720" cy="576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51" name="" descr=""/>
            <p:cNvPicPr/>
            <p:nvPr/>
          </p:nvPicPr>
          <p:blipFill>
            <a:blip r:embed="rId3"/>
            <a:stretch/>
          </p:blipFill>
          <p:spPr>
            <a:xfrm>
              <a:off x="2050920" y="3141720"/>
              <a:ext cx="763560" cy="7635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sp>
          <p:nvSpPr>
            <p:cNvPr id="52" name=""/>
            <p:cNvSpPr/>
            <p:nvPr/>
          </p:nvSpPr>
          <p:spPr>
            <a:xfrm>
              <a:off x="2098440" y="3146760"/>
              <a:ext cx="668160" cy="6649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HY헤드라인M"/>
                  <a:ea typeface="HY헤드라인M"/>
                </a:rPr>
                <a:t>II</a:t>
              </a:r>
              <a:endParaRPr b="0" lang="en-US" sz="3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85840" y="3354480"/>
              <a:ext cx="468144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66ff"/>
                  </a:solidFill>
                  <a:latin typeface="HY견고딕"/>
                  <a:ea typeface="HY견고딕"/>
                </a:rPr>
                <a:t>제약산업현황</a:t>
              </a:r>
              <a:endParaRPr b="0" lang="en-US" sz="2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2050920" y="4076640"/>
            <a:ext cx="5616360" cy="763560"/>
            <a:chOff x="2050920" y="4076640"/>
            <a:chExt cx="5616360" cy="763560"/>
          </a:xfrm>
        </p:grpSpPr>
        <p:sp>
          <p:nvSpPr>
            <p:cNvPr id="55" name=""/>
            <p:cNvSpPr/>
            <p:nvPr/>
          </p:nvSpPr>
          <p:spPr>
            <a:xfrm>
              <a:off x="2123640" y="4145040"/>
              <a:ext cx="5400720" cy="576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56" name="" descr=""/>
            <p:cNvPicPr/>
            <p:nvPr/>
          </p:nvPicPr>
          <p:blipFill>
            <a:blip r:embed="rId4"/>
            <a:stretch/>
          </p:blipFill>
          <p:spPr>
            <a:xfrm>
              <a:off x="2050920" y="4076640"/>
              <a:ext cx="763560" cy="7635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sp>
          <p:nvSpPr>
            <p:cNvPr id="57" name=""/>
            <p:cNvSpPr/>
            <p:nvPr/>
          </p:nvSpPr>
          <p:spPr>
            <a:xfrm>
              <a:off x="2098440" y="4081680"/>
              <a:ext cx="668160" cy="6649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HY헤드라인M"/>
                  <a:ea typeface="HY헤드라인M"/>
                </a:rPr>
                <a:t>III</a:t>
              </a:r>
              <a:endParaRPr b="0" lang="en-US" sz="3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985840" y="4289400"/>
              <a:ext cx="468144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66ff"/>
                  </a:solidFill>
                  <a:latin typeface="HY견고딕"/>
                  <a:ea typeface="HY견고딕"/>
                </a:rPr>
                <a:t>관세분야 대응전략</a:t>
              </a:r>
              <a:endParaRPr b="0" lang="en-US" sz="2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2050920" y="4941720"/>
            <a:ext cx="5616360" cy="763560"/>
            <a:chOff x="2050920" y="4941720"/>
            <a:chExt cx="5616360" cy="763560"/>
          </a:xfrm>
        </p:grpSpPr>
        <p:sp>
          <p:nvSpPr>
            <p:cNvPr id="60" name=""/>
            <p:cNvSpPr/>
            <p:nvPr/>
          </p:nvSpPr>
          <p:spPr>
            <a:xfrm>
              <a:off x="2123640" y="5010120"/>
              <a:ext cx="5400720" cy="576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61" name="" descr=""/>
            <p:cNvPicPr/>
            <p:nvPr/>
          </p:nvPicPr>
          <p:blipFill>
            <a:blip r:embed="rId5"/>
            <a:stretch/>
          </p:blipFill>
          <p:spPr>
            <a:xfrm>
              <a:off x="2050920" y="4941720"/>
              <a:ext cx="763560" cy="7635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sp>
          <p:nvSpPr>
            <p:cNvPr id="62" name=""/>
            <p:cNvSpPr/>
            <p:nvPr/>
          </p:nvSpPr>
          <p:spPr>
            <a:xfrm>
              <a:off x="2098440" y="4946760"/>
              <a:ext cx="668160" cy="6649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HY헤드라인M"/>
                  <a:ea typeface="HY헤드라인M"/>
                </a:rPr>
                <a:t>IV</a:t>
              </a:r>
              <a:endParaRPr b="0" lang="en-US" sz="3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85840" y="5154480"/>
              <a:ext cx="468144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66ff"/>
                  </a:solidFill>
                  <a:latin typeface="HY견고딕"/>
                  <a:ea typeface="HY견고딕"/>
                </a:rPr>
                <a:t>비관세분야 대응전략</a:t>
              </a:r>
              <a:endParaRPr b="0" lang="en-US" sz="2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2050920" y="5805360"/>
            <a:ext cx="5616360" cy="763560"/>
            <a:chOff x="2050920" y="5805360"/>
            <a:chExt cx="5616360" cy="763560"/>
          </a:xfrm>
        </p:grpSpPr>
        <p:sp>
          <p:nvSpPr>
            <p:cNvPr id="65" name=""/>
            <p:cNvSpPr/>
            <p:nvPr/>
          </p:nvSpPr>
          <p:spPr>
            <a:xfrm>
              <a:off x="2123640" y="5873760"/>
              <a:ext cx="5400720" cy="576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66" name="" descr=""/>
            <p:cNvPicPr/>
            <p:nvPr/>
          </p:nvPicPr>
          <p:blipFill>
            <a:blip r:embed="rId6"/>
            <a:stretch/>
          </p:blipFill>
          <p:spPr>
            <a:xfrm>
              <a:off x="2050920" y="5805360"/>
              <a:ext cx="763560" cy="7635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sp>
          <p:nvSpPr>
            <p:cNvPr id="67" name=""/>
            <p:cNvSpPr/>
            <p:nvPr/>
          </p:nvSpPr>
          <p:spPr>
            <a:xfrm>
              <a:off x="2098440" y="5810400"/>
              <a:ext cx="668160" cy="6649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HY헤드라인M"/>
                  <a:ea typeface="HY헤드라인M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985840" y="6018120"/>
              <a:ext cx="468144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66ff"/>
                  </a:solidFill>
                  <a:latin typeface="HY견고딕"/>
                  <a:ea typeface="HY견고딕"/>
                </a:rPr>
                <a:t>정책적 제언</a:t>
              </a:r>
              <a:endParaRPr b="0" lang="en-US" sz="2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1258560" y="119160"/>
            <a:ext cx="3432600" cy="56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ffcc00"/>
                </a:solidFill>
                <a:latin typeface="HY헤드라인M"/>
                <a:ea typeface="HY헤드라인M"/>
              </a:rPr>
              <a:t>비관세장벽의 개요</a:t>
            </a:r>
            <a:r>
              <a:rPr b="0" lang="en-US" sz="3100" spc="-1" strike="noStrike">
                <a:solidFill>
                  <a:srgbClr val="ffcc00"/>
                </a:solidFill>
                <a:latin typeface="HY헤드라인M"/>
                <a:ea typeface="HY헤드라인M"/>
              </a:rPr>
              <a:t>-</a:t>
            </a:r>
            <a:r>
              <a:rPr b="0" lang="zh-CN" sz="3100" spc="-1" strike="noStrike">
                <a:solidFill>
                  <a:srgbClr val="99cc00"/>
                </a:solidFill>
                <a:latin typeface="HY헤드라인M"/>
                <a:ea typeface="HY헤드라인M"/>
              </a:rPr>
              <a:t>대응현황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395280" y="1413000"/>
            <a:ext cx="8412120" cy="4489200"/>
            <a:chOff x="395280" y="1413000"/>
            <a:chExt cx="8412120" cy="4489200"/>
          </a:xfrm>
        </p:grpSpPr>
        <p:sp>
          <p:nvSpPr>
            <p:cNvPr id="512" name=""/>
            <p:cNvSpPr/>
            <p:nvPr/>
          </p:nvSpPr>
          <p:spPr>
            <a:xfrm>
              <a:off x="395280" y="1700280"/>
              <a:ext cx="8412120" cy="420192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>
              <a:off x="2410560" y="1413000"/>
              <a:ext cx="4421160" cy="574560"/>
            </a:xfrm>
            <a:prstGeom prst="roundRect">
              <a:avLst>
                <a:gd name="adj" fmla="val 50000"/>
              </a:avLst>
            </a:prstGeom>
            <a:solidFill>
              <a:srgbClr val="377fb5"/>
            </a:solidFill>
            <a:ln w="0">
              <a:noFill/>
            </a:ln>
            <a:effectLst>
              <a:outerShdw dist="12600" dir="54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136760" y="1484280"/>
              <a:ext cx="854280" cy="4269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대응현황</a:t>
              </a:r>
              <a:endParaRPr b="0" lang="en-US" sz="2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84360" y="2133720"/>
              <a:ext cx="7991280" cy="36381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938"/>
                </a:spcBef>
                <a:buClr>
                  <a:srgbClr val="cc33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 </a:t>
              </a:r>
              <a:r>
                <a:rPr b="0" lang="zh-CN" sz="25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우리나라와 상대국의 보건산업 현황 분석</a:t>
              </a:r>
              <a:endParaRPr b="0" lang="en-US" sz="25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 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-  </a:t>
              </a: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품목별 관세율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, </a:t>
              </a: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교역량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, </a:t>
              </a: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대외의존도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, </a:t>
              </a: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관련 제도 및 규정의 분석을 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     </a:t>
              </a: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통한 경쟁력 및 발전 정도 분석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8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80000"/>
                </a:lnSpc>
                <a:spcBef>
                  <a:spcPts val="938"/>
                </a:spcBef>
                <a:buClr>
                  <a:srgbClr val="cc33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cc00"/>
                  </a:solidFill>
                  <a:latin typeface="HY견고딕"/>
                  <a:ea typeface="HY견고딕"/>
                </a:rPr>
                <a:t> </a:t>
              </a:r>
              <a:r>
                <a:rPr b="0" lang="zh-CN" sz="25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주요 </a:t>
              </a:r>
              <a:r>
                <a:rPr b="0" lang="en-US" sz="25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FTA </a:t>
              </a:r>
              <a:r>
                <a:rPr b="0" lang="zh-CN" sz="25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분석</a:t>
              </a:r>
              <a:endParaRPr b="0" lang="en-US" sz="25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HY견고딕"/>
                  <a:ea typeface="HY견고딕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-</a:t>
              </a:r>
              <a:r>
                <a:rPr b="0" lang="en-US" sz="2500" spc="-1" strike="noStrike">
                  <a:solidFill>
                    <a:srgbClr val="ffcc00"/>
                  </a:solidFill>
                  <a:latin typeface="HY견고딕"/>
                  <a:ea typeface="HY견고딕"/>
                </a:rPr>
                <a:t> </a:t>
              </a:r>
              <a:r>
                <a:rPr b="0" lang="zh-CN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우리나라와 상대국 또는 기체결된 주요 </a:t>
              </a: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FTA </a:t>
              </a:r>
              <a:r>
                <a:rPr b="0" lang="zh-CN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분석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8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80000"/>
                </a:lnSpc>
                <a:spcBef>
                  <a:spcPts val="862"/>
                </a:spcBef>
                <a:buClr>
                  <a:srgbClr val="cc33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 </a:t>
              </a:r>
              <a:r>
                <a:rPr b="0" lang="zh-CN" sz="25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산업계의 의견 수렴</a:t>
              </a:r>
              <a:r>
                <a:rPr b="0" lang="en-US" sz="23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 </a:t>
              </a:r>
              <a:endParaRPr b="0" lang="en-US" sz="23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 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- </a:t>
              </a: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실질적으로 영향을 주는 비관세 장벽 발굴 및 요구사항 파악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   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896400" y="142920"/>
            <a:ext cx="1936440" cy="56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ffcc00"/>
                </a:solidFill>
                <a:latin typeface="Arial"/>
                <a:ea typeface="HY헤드라인M"/>
              </a:rPr>
              <a:t>주요 비관세분야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7" name=""/>
          <p:cNvSpPr/>
          <p:nvPr/>
        </p:nvSpPr>
        <p:spPr>
          <a:xfrm>
            <a:off x="468360" y="1628640"/>
            <a:ext cx="8412120" cy="4202280"/>
          </a:xfrm>
          <a:prstGeom prst="rect">
            <a:avLst/>
          </a:prstGeom>
          <a:solidFill>
            <a:srgbClr val="000000">
              <a:alpha val="20000"/>
            </a:srgbClr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2483640" y="1341360"/>
            <a:ext cx="4421160" cy="574920"/>
          </a:xfrm>
          <a:prstGeom prst="roundRect">
            <a:avLst>
              <a:gd name="adj" fmla="val 50000"/>
            </a:avLst>
          </a:prstGeom>
          <a:solidFill>
            <a:srgbClr val="377fb5"/>
          </a:solidFill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9" name=""/>
          <p:cNvSpPr/>
          <p:nvPr/>
        </p:nvSpPr>
        <p:spPr>
          <a:xfrm>
            <a:off x="3844080" y="1413000"/>
            <a:ext cx="1587240" cy="42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비관세분야 유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0" name=""/>
          <p:cNvSpPr/>
          <p:nvPr/>
        </p:nvSpPr>
        <p:spPr>
          <a:xfrm>
            <a:off x="826920" y="2060640"/>
            <a:ext cx="7848720" cy="359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기술규정 및 표준</a:t>
            </a:r>
            <a:r>
              <a:rPr b="0" lang="ko-KR" sz="25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(TBT)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 </a:t>
            </a: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- </a:t>
            </a: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상품의 형태</a:t>
            </a: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치수</a:t>
            </a: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소재</a:t>
            </a: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기능</a:t>
            </a: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안정성 등의 수준을 정하여 둔 것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 </a:t>
            </a: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-  </a:t>
            </a: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검사방법</a:t>
            </a: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표시 및 상표부착방법 등을 포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 </a:t>
            </a: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-  </a:t>
            </a: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적합성평가절차를 통해 판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상호인정협정</a:t>
            </a:r>
            <a:r>
              <a:rPr b="0" lang="ko-KR" sz="25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(MRA)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 </a:t>
            </a: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- </a:t>
            </a: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당사국들이 다른 당사국의 상이한 표준 및 인증제도를 상호간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    </a:t>
            </a: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인정해 주는 협정을 맻음으로써 기술장벽을 극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955800" y="142920"/>
            <a:ext cx="2736360" cy="56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ffcc00"/>
                </a:solidFill>
                <a:latin typeface="Arial"/>
                <a:ea typeface="HY헤드라인M"/>
              </a:rPr>
              <a:t>상호인정협정</a:t>
            </a:r>
            <a:r>
              <a:rPr b="0" lang="en-US" sz="3100" spc="-1" strike="noStrike">
                <a:solidFill>
                  <a:srgbClr val="ffcc00"/>
                </a:solidFill>
                <a:latin typeface="Arial"/>
                <a:ea typeface="HY헤드라인M"/>
              </a:rPr>
              <a:t>-</a:t>
            </a:r>
            <a:r>
              <a:rPr b="0" lang="en-US" sz="3100" spc="-1" strike="noStrike">
                <a:solidFill>
                  <a:srgbClr val="99cc00"/>
                </a:solidFill>
                <a:latin typeface="Arial"/>
                <a:ea typeface="HY헤드라인M"/>
              </a:rPr>
              <a:t> </a:t>
            </a:r>
            <a:r>
              <a:rPr b="0" lang="zh-CN" sz="3100" spc="-1" strike="noStrike">
                <a:solidFill>
                  <a:srgbClr val="99cc00"/>
                </a:solidFill>
                <a:latin typeface="Arial"/>
                <a:ea typeface="HY헤드라인M"/>
              </a:rPr>
              <a:t>타당성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324000" y="1268280"/>
            <a:ext cx="8412120" cy="5112000"/>
            <a:chOff x="324000" y="1268280"/>
            <a:chExt cx="8412120" cy="5112000"/>
          </a:xfrm>
        </p:grpSpPr>
        <p:sp>
          <p:nvSpPr>
            <p:cNvPr id="523" name=""/>
            <p:cNvSpPr/>
            <p:nvPr/>
          </p:nvSpPr>
          <p:spPr>
            <a:xfrm>
              <a:off x="324000" y="1627200"/>
              <a:ext cx="8412120" cy="475308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>
              <a:off x="2075760" y="1268280"/>
              <a:ext cx="4421160" cy="574920"/>
            </a:xfrm>
            <a:prstGeom prst="roundRect">
              <a:avLst>
                <a:gd name="adj" fmla="val 50000"/>
              </a:avLst>
            </a:prstGeom>
            <a:solidFill>
              <a:srgbClr val="377fb5"/>
            </a:solidFill>
            <a:ln w="0">
              <a:noFill/>
            </a:ln>
            <a:effectLst>
              <a:outerShdw dist="12600" dir="54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117960" y="1339920"/>
              <a:ext cx="2228760" cy="4269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MRA</a:t>
              </a:r>
              <a:r>
                <a:rPr b="0" lang="zh-CN" sz="28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협정의 장단점</a:t>
              </a:r>
              <a:endParaRPr b="0" lang="en-US" sz="2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92120" y="2060640"/>
              <a:ext cx="7344000" cy="3723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buClr>
                  <a:srgbClr val="cc33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 </a:t>
              </a:r>
              <a:r>
                <a:rPr b="0" lang="zh-CN" sz="2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장점</a:t>
              </a:r>
              <a:endParaRPr b="0" lang="en-US" sz="25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  </a:t>
              </a:r>
              <a:r>
                <a:rPr b="0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- </a:t>
              </a:r>
              <a:r>
                <a:rPr b="0" lang="zh-CN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승인 획득을 위한 경비 감소 및 시간상 지체 해소 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HY헤드라인M"/>
                  <a:ea typeface="HY헤드라인M"/>
                </a:rPr>
                <a:t>    →</a:t>
              </a:r>
              <a:r>
                <a:rPr b="0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 </a:t>
              </a:r>
              <a:r>
                <a:rPr b="0" lang="zh-CN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제품가격인하</a:t>
              </a:r>
              <a:r>
                <a:rPr b="0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, </a:t>
              </a:r>
              <a:r>
                <a:rPr b="0" lang="zh-CN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시장접근 용이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   </a:t>
              </a:r>
              <a:r>
                <a:rPr b="0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- </a:t>
              </a:r>
              <a:r>
                <a:rPr b="0" lang="zh-CN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무역거래의 법적 안정성과 예측가능성 증대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   </a:t>
              </a:r>
              <a:r>
                <a:rPr b="0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- </a:t>
              </a:r>
              <a:r>
                <a:rPr b="0" lang="zh-CN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선진국과의 </a:t>
              </a:r>
              <a:r>
                <a:rPr b="0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MRA </a:t>
              </a:r>
              <a:r>
                <a:rPr b="0" lang="zh-CN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체결</a:t>
              </a:r>
              <a:r>
                <a:rPr b="0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: </a:t>
              </a:r>
              <a:r>
                <a:rPr b="0" lang="zh-CN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대외신뢰도 제고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  </a:t>
              </a:r>
              <a:endParaRPr b="0" lang="en-US" sz="25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buClr>
                  <a:srgbClr val="cc33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 </a:t>
              </a:r>
              <a:r>
                <a:rPr b="0" lang="zh-CN" sz="2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단점</a:t>
              </a:r>
              <a:endParaRPr b="0" lang="en-US" sz="25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  </a:t>
              </a:r>
              <a:r>
                <a:rPr b="0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- </a:t>
              </a:r>
              <a:r>
                <a:rPr b="0" lang="zh-CN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국내 산업보호 약화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   </a:t>
              </a:r>
              <a:r>
                <a:rPr b="0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- </a:t>
              </a:r>
              <a:r>
                <a:rPr b="0" lang="zh-CN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국내법 규정의 개정 필요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   </a:t>
              </a:r>
              <a:r>
                <a:rPr b="0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- </a:t>
              </a:r>
              <a:r>
                <a:rPr b="0" lang="zh-CN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후진국과의 </a:t>
              </a:r>
              <a:r>
                <a:rPr b="0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MRA </a:t>
              </a:r>
              <a:r>
                <a:rPr b="0" lang="zh-CN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체결</a:t>
              </a:r>
              <a:r>
                <a:rPr b="0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: </a:t>
              </a:r>
              <a:r>
                <a:rPr b="0" lang="zh-CN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대외신뢰도 제고 불가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27" name=""/>
            <p:cNvGrpSpPr/>
            <p:nvPr/>
          </p:nvGrpSpPr>
          <p:grpSpPr>
            <a:xfrm>
              <a:off x="6324840" y="4219560"/>
              <a:ext cx="2087280" cy="1224000"/>
              <a:chOff x="6324840" y="4219560"/>
              <a:chExt cx="2087280" cy="1224000"/>
            </a:xfrm>
          </p:grpSpPr>
          <p:sp>
            <p:nvSpPr>
              <p:cNvPr id="528" name=""/>
              <p:cNvSpPr/>
              <p:nvPr/>
            </p:nvSpPr>
            <p:spPr>
              <a:xfrm>
                <a:off x="6324840" y="4364280"/>
                <a:ext cx="2087280" cy="1079280"/>
              </a:xfrm>
              <a:prstGeom prst="roundRect">
                <a:avLst>
                  <a:gd name="adj" fmla="val 8005"/>
                </a:avLst>
              </a:prstGeom>
              <a:solidFill>
                <a:srgbClr val="000000">
                  <a:alpha val="20000"/>
                </a:srgbClr>
              </a:solidFill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467400" y="4219560"/>
                <a:ext cx="1809360" cy="360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225c6f"/>
                  </a:gs>
                  <a:gs pos="50000">
                    <a:srgbClr val="3da3c3"/>
                  </a:gs>
                  <a:gs pos="100000">
                    <a:srgbClr val="225c6f"/>
                  </a:gs>
                </a:gsLst>
                <a:lin ang="10800000"/>
              </a:gradFill>
              <a:ln w="0">
                <a:noFill/>
              </a:ln>
              <a:effectLst>
                <a:outerShdw dist="12600" dir="54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6917040" y="4219560"/>
                <a:ext cx="923040" cy="313200"/>
              </a:xfrm>
              <a:prstGeom prst="roundRect">
                <a:avLst>
                  <a:gd name="adj" fmla="val 4463"/>
                </a:avLst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ffff00"/>
                    </a:solidFill>
                    <a:latin typeface="HY헤드라인M"/>
                    <a:ea typeface="HY헤드라인M"/>
                  </a:rPr>
                  <a:t>사전고려사항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6591240" y="4699080"/>
                <a:ext cx="1477800" cy="667440"/>
              </a:xfrm>
              <a:prstGeom prst="roundRect">
                <a:avLst>
                  <a:gd name="adj" fmla="val 4463"/>
                </a:avLst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Clr>
                    <a:srgbClr val="cc33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  <a:ea typeface="HY헤드라인M"/>
                  </a:rPr>
                  <a:t> 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  <a:ea typeface="HY헤드라인M"/>
                  </a:rPr>
                  <a:t>MRA </a:t>
                </a:r>
                <a:r>
                  <a:rPr b="0" lang="zh-CN" sz="1600" spc="-1" strike="noStrike">
                    <a:solidFill>
                      <a:srgbClr val="ffffff"/>
                    </a:solidFill>
                    <a:latin typeface="Arial"/>
                    <a:ea typeface="HY헤드라인M"/>
                  </a:rPr>
                  <a:t>형태 및 범위</a:t>
                </a:r>
                <a:endParaRPr b="0" lang="en-US" sz="1600" spc="-1" strike="noStrike">
                  <a:solidFill>
                    <a:srgbClr val="000000"/>
                  </a:solidFill>
                  <a:latin typeface="굴림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Clr>
                    <a:srgbClr val="cc33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  <a:ea typeface="HY헤드라인M"/>
                  </a:rPr>
                  <a:t> </a:t>
                </a:r>
                <a:r>
                  <a:rPr b="0" lang="zh-CN" sz="1600" spc="-1" strike="noStrike">
                    <a:solidFill>
                      <a:srgbClr val="ffffff"/>
                    </a:solidFill>
                    <a:latin typeface="Arial"/>
                    <a:ea typeface="HY헤드라인M"/>
                  </a:rPr>
                  <a:t>품목선정 등</a:t>
                </a:r>
                <a:endParaRPr b="0" lang="en-US" sz="1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2710440" y="1219320"/>
            <a:ext cx="32227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HY견고딕"/>
                <a:ea typeface="HY견고딕"/>
              </a:rPr>
              <a:t>V. </a:t>
            </a:r>
            <a:r>
              <a:rPr b="0" lang="zh-CN" sz="4000" spc="-1" strike="noStrike">
                <a:solidFill>
                  <a:srgbClr val="ffff00"/>
                </a:solidFill>
                <a:latin typeface="HY견고딕"/>
                <a:ea typeface="HY견고딕"/>
              </a:rPr>
              <a:t>정책적 제언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3" name=""/>
          <p:cNvSpPr/>
          <p:nvPr/>
        </p:nvSpPr>
        <p:spPr>
          <a:xfrm>
            <a:off x="2606760" y="2209680"/>
            <a:ext cx="6537240" cy="0"/>
          </a:xfrm>
          <a:prstGeom prst="line">
            <a:avLst/>
          </a:prstGeom>
          <a:ln w="28440">
            <a:solidFill>
              <a:srgbClr val="277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4" name=""/>
          <p:cNvSpPr/>
          <p:nvPr/>
        </p:nvSpPr>
        <p:spPr>
          <a:xfrm>
            <a:off x="3200400" y="2209680"/>
            <a:ext cx="0" cy="38102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5" name=""/>
          <p:cNvGrpSpPr/>
          <p:nvPr/>
        </p:nvGrpSpPr>
        <p:grpSpPr>
          <a:xfrm>
            <a:off x="324000" y="476280"/>
            <a:ext cx="8412120" cy="5543280"/>
            <a:chOff x="324000" y="476280"/>
            <a:chExt cx="8412120" cy="5543280"/>
          </a:xfrm>
        </p:grpSpPr>
        <p:sp>
          <p:nvSpPr>
            <p:cNvPr id="536" name=""/>
            <p:cNvSpPr/>
            <p:nvPr/>
          </p:nvSpPr>
          <p:spPr>
            <a:xfrm>
              <a:off x="324000" y="830880"/>
              <a:ext cx="8412120" cy="518868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>
              <a:off x="2339280" y="476280"/>
              <a:ext cx="4421160" cy="709200"/>
            </a:xfrm>
            <a:prstGeom prst="roundRect">
              <a:avLst>
                <a:gd name="adj" fmla="val 50000"/>
              </a:avLst>
            </a:prstGeom>
            <a:solidFill>
              <a:srgbClr val="377fb5"/>
            </a:solidFill>
            <a:ln w="0">
              <a:noFill/>
            </a:ln>
            <a:effectLst>
              <a:outerShdw dist="12600" dir="54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913200" y="564120"/>
              <a:ext cx="1160640" cy="4269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정책적 제언</a:t>
              </a:r>
              <a:endParaRPr b="0" lang="en-US" sz="2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84360" y="1366200"/>
              <a:ext cx="7920000" cy="256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3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755640" y="1557360"/>
            <a:ext cx="7632720" cy="403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buSzPct val="102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</a:t>
            </a:r>
            <a:r>
              <a:rPr b="0" lang="ko-KR" sz="2500" spc="-1" strike="noStrike">
                <a:solidFill>
                  <a:srgbClr val="ff9900"/>
                </a:solidFill>
                <a:latin typeface="HY헤드라인M"/>
                <a:ea typeface="HY헤드라인M"/>
              </a:rPr>
              <a:t>협상대응을 위한 보다 </a:t>
            </a:r>
            <a:r>
              <a:rPr b="0" lang="ko-KR" sz="25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설득력 있는 논리개발</a:t>
            </a:r>
            <a:r>
              <a:rPr b="0" lang="ko-KR" sz="2500" spc="-1" strike="noStrike">
                <a:solidFill>
                  <a:srgbClr val="ff9900"/>
                </a:solidFill>
                <a:latin typeface="HY헤드라인M"/>
                <a:ea typeface="HY헤드라인M"/>
              </a:rPr>
              <a:t> 노력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 </a:t>
            </a: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- </a:t>
            </a: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문제점 </a:t>
            </a: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보건산업분야와 표준산업분류의 불일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 </a:t>
            </a: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- </a:t>
            </a: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개선방안 </a:t>
            </a: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기존의 기초통계 분류체계 통일 또는 매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SzPct val="102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</a:t>
            </a:r>
            <a:r>
              <a:rPr b="0" lang="ko-KR" sz="2500" spc="-1" strike="noStrike">
                <a:solidFill>
                  <a:srgbClr val="ff9900"/>
                </a:solidFill>
                <a:latin typeface="HY헤드라인M"/>
                <a:ea typeface="HY헤드라인M"/>
              </a:rPr>
              <a:t>협회별 전담인력 확보로 업계의 </a:t>
            </a:r>
            <a:r>
              <a:rPr b="0" lang="ko-KR" sz="25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실질적 </a:t>
            </a:r>
            <a:r>
              <a:rPr b="0" lang="ko-KR" sz="25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Needs</a:t>
            </a:r>
            <a:r>
              <a:rPr b="0" lang="ko-KR" sz="2500" spc="-1" strike="noStrike">
                <a:solidFill>
                  <a:srgbClr val="ff9900"/>
                </a:solidFill>
                <a:latin typeface="HY헤드라인M"/>
                <a:ea typeface="HY헤드라인M"/>
              </a:rPr>
              <a:t> </a:t>
            </a:r>
            <a:r>
              <a:rPr b="0" lang="ko-KR" sz="2500" spc="-1" strike="noStrike">
                <a:solidFill>
                  <a:srgbClr val="ff9900"/>
                </a:solidFill>
                <a:latin typeface="HY헤드라인M"/>
                <a:ea typeface="HY헤드라인M"/>
              </a:rPr>
              <a:t>수렴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 </a:t>
            </a: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- FTA</a:t>
            </a: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의 파급효과를 감안 장기적 안목에서 인력확충 노력필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 </a:t>
            </a: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- </a:t>
            </a: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관련 기업체와 원활한 정보공유를 통한 적극적인 의견 수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SzPct val="10285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</a:t>
            </a:r>
            <a:r>
              <a:rPr b="0" lang="ko-KR" sz="2500" spc="-1" strike="noStrike">
                <a:solidFill>
                  <a:srgbClr val="ff9900"/>
                </a:solidFill>
                <a:latin typeface="HY헤드라인M"/>
                <a:ea typeface="HY헤드라인M"/>
              </a:rPr>
              <a:t>대외 무역환경의 변화에 </a:t>
            </a:r>
            <a:r>
              <a:rPr b="0" lang="ko-KR" sz="25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능동적 대응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 </a:t>
            </a: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- </a:t>
            </a: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무역환경의 변화를 새로운 수출기회의 확대로 승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2973600" y="1447920"/>
            <a:ext cx="29239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-머리정체L"/>
                <a:ea typeface="HY헤드라인M"/>
              </a:rPr>
              <a:t>감사합니다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2819160" y="4876920"/>
            <a:ext cx="3276360" cy="716040"/>
            <a:chOff x="2819160" y="4876920"/>
            <a:chExt cx="3276360" cy="716040"/>
          </a:xfrm>
        </p:grpSpPr>
        <p:sp>
          <p:nvSpPr>
            <p:cNvPr id="543" name=""/>
            <p:cNvSpPr/>
            <p:nvPr/>
          </p:nvSpPr>
          <p:spPr>
            <a:xfrm>
              <a:off x="3250080" y="4876920"/>
              <a:ext cx="2216520" cy="457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 </a:t>
              </a:r>
              <a:r>
                <a:rPr b="0" lang="zh-CN" sz="3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한국보건산업진흥원</a:t>
              </a:r>
              <a:endParaRPr b="0" lang="en-US" sz="3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819160" y="5410080"/>
              <a:ext cx="3276360" cy="182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HY헤드라인M"/>
                  <a:ea typeface=""/>
                </a:rPr>
                <a:t>Korea Health Industry De</a:t>
              </a:r>
              <a:r>
                <a:rPr b="0" lang="en-US" sz="12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velopment Institute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793600" y="1219320"/>
            <a:ext cx="3394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HY견고딕"/>
                <a:ea typeface="HY견고딕"/>
              </a:rPr>
              <a:t>I. </a:t>
            </a:r>
            <a:r>
              <a:rPr b="0" lang="zh-CN" sz="4000" spc="-1" strike="noStrike">
                <a:solidFill>
                  <a:srgbClr val="ffff00"/>
                </a:solidFill>
                <a:latin typeface="HY견고딕"/>
                <a:ea typeface="HY견고딕"/>
              </a:rPr>
              <a:t>진흥원의 역할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2606760" y="2209680"/>
            <a:ext cx="6537240" cy="0"/>
          </a:xfrm>
          <a:prstGeom prst="line">
            <a:avLst/>
          </a:prstGeom>
          <a:ln w="28440">
            <a:solidFill>
              <a:srgbClr val="277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3200400" y="2209680"/>
            <a:ext cx="0" cy="38102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2286000"/>
            <a:ext cx="52912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정부와 산업계의 연결고리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3419640" y="2924280"/>
            <a:ext cx="52909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FTA</a:t>
            </a:r>
            <a:r>
              <a:rPr b="0" lang="zh-CN" sz="22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관련 업무 진행체계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215000" y="142920"/>
            <a:ext cx="2983320" cy="56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ffcc00"/>
                </a:solidFill>
                <a:latin typeface="Arial"/>
                <a:ea typeface="HY헤드라인M"/>
              </a:rPr>
              <a:t>정부와 산업계의 연결고리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2627280" y="1052640"/>
            <a:ext cx="5400720" cy="647640"/>
            <a:chOff x="2627280" y="1052640"/>
            <a:chExt cx="5400720" cy="647640"/>
          </a:xfrm>
        </p:grpSpPr>
        <p:grpSp>
          <p:nvGrpSpPr>
            <p:cNvPr id="76" name=""/>
            <p:cNvGrpSpPr/>
            <p:nvPr/>
          </p:nvGrpSpPr>
          <p:grpSpPr>
            <a:xfrm>
              <a:off x="2627280" y="1052640"/>
              <a:ext cx="5400720" cy="647640"/>
              <a:chOff x="2627280" y="1052640"/>
              <a:chExt cx="5400720" cy="647640"/>
            </a:xfrm>
          </p:grpSpPr>
          <p:sp>
            <p:nvSpPr>
              <p:cNvPr id="77" name=""/>
              <p:cNvSpPr/>
              <p:nvPr/>
            </p:nvSpPr>
            <p:spPr>
              <a:xfrm>
                <a:off x="2627280" y="1052640"/>
                <a:ext cx="5400720" cy="647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0c0c0"/>
                  </a:gs>
                  <a:gs pos="50000">
                    <a:srgbClr val="f1f1f1"/>
                  </a:gs>
                  <a:gs pos="100000">
                    <a:srgbClr val="c0c0c0"/>
                  </a:gs>
                </a:gsLst>
                <a:lin ang="13500000"/>
              </a:gra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2698920" y="1114560"/>
                <a:ext cx="5257080" cy="523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33cc"/>
                  </a:gs>
                  <a:gs pos="100000">
                    <a:srgbClr val="859de5"/>
                  </a:gs>
                </a:gsLst>
                <a:lin ang="13500000"/>
              </a:gradFill>
              <a:ln w="0">
                <a:noFill/>
              </a:ln>
              <a:effectLst>
                <a:outerShdw dist="17819" dir="2700000" blurRad="0" rotWithShape="0">
                  <a:srgbClr val="001e7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79" name=""/>
            <p:cNvSpPr/>
            <p:nvPr/>
          </p:nvSpPr>
          <p:spPr>
            <a:xfrm>
              <a:off x="3621600" y="1106640"/>
              <a:ext cx="3391200" cy="422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cc00"/>
                  </a:solidFill>
                  <a:latin typeface="HY견고딕"/>
                  <a:ea typeface="HY견고딕"/>
                </a:rPr>
                <a:t>FTA</a:t>
              </a:r>
              <a:r>
                <a:rPr b="0" lang="zh-CN" sz="2500" spc="-1" strike="noStrike">
                  <a:solidFill>
                    <a:srgbClr val="ffcc00"/>
                  </a:solidFill>
                  <a:latin typeface="HY견고딕"/>
                  <a:ea typeface="HY견고딕"/>
                </a:rPr>
                <a:t>체결 및 입장반영</a:t>
              </a:r>
              <a:endParaRPr b="0" lang="en-US" sz="25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684360" y="4437000"/>
            <a:ext cx="2219040" cy="2203560"/>
            <a:chOff x="684360" y="4437000"/>
            <a:chExt cx="2219040" cy="2203560"/>
          </a:xfrm>
        </p:grpSpPr>
        <p:sp>
          <p:nvSpPr>
            <p:cNvPr id="81" name=""/>
            <p:cNvSpPr/>
            <p:nvPr/>
          </p:nvSpPr>
          <p:spPr>
            <a:xfrm>
              <a:off x="900000" y="4940280"/>
              <a:ext cx="1800360" cy="403200"/>
            </a:xfrm>
            <a:prstGeom prst="roundRect">
              <a:avLst>
                <a:gd name="adj" fmla="val 5630"/>
              </a:avLst>
            </a:prstGeom>
            <a:solidFill>
              <a:srgbClr val="000000">
                <a:alpha val="20000"/>
              </a:srgbClr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613160" y="5011560"/>
              <a:ext cx="412200" cy="274680"/>
            </a:xfrm>
            <a:prstGeom prst="rect">
              <a:avLst/>
            </a:prstGeom>
            <a:noFill/>
            <a:ln w="0">
              <a:noFill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의약품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260360" y="4508280"/>
              <a:ext cx="1128600" cy="31536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54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300" spc="-1" strike="noStrike">
                  <a:solidFill>
                    <a:srgbClr val="00ffff"/>
                  </a:solidFill>
                  <a:latin typeface="HY헤드라인M"/>
                  <a:ea typeface="HY헤드라인M"/>
                </a:rPr>
                <a:t>보건산업 협회</a:t>
              </a:r>
              <a:endParaRPr b="0" lang="en-US" sz="23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4360" y="4437000"/>
              <a:ext cx="2219040" cy="431640"/>
            </a:xfrm>
            <a:prstGeom prst="roundRect">
              <a:avLst>
                <a:gd name="adj" fmla="val 50000"/>
              </a:avLst>
            </a:prstGeom>
            <a:noFill/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900000" y="5371920"/>
              <a:ext cx="1800360" cy="403200"/>
            </a:xfrm>
            <a:prstGeom prst="roundRect">
              <a:avLst>
                <a:gd name="adj" fmla="val 5630"/>
              </a:avLst>
            </a:prstGeom>
            <a:solidFill>
              <a:srgbClr val="000000">
                <a:alpha val="20000"/>
              </a:srgbClr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900000" y="5803920"/>
              <a:ext cx="1800360" cy="403200"/>
            </a:xfrm>
            <a:prstGeom prst="roundRect">
              <a:avLst>
                <a:gd name="adj" fmla="val 5630"/>
              </a:avLst>
            </a:prstGeom>
            <a:solidFill>
              <a:srgbClr val="000000">
                <a:alpha val="20000"/>
              </a:srgbClr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900000" y="6237360"/>
              <a:ext cx="1800360" cy="403200"/>
            </a:xfrm>
            <a:prstGeom prst="roundRect">
              <a:avLst>
                <a:gd name="adj" fmla="val 5630"/>
              </a:avLst>
            </a:prstGeom>
            <a:solidFill>
              <a:srgbClr val="000000">
                <a:alpha val="20000"/>
              </a:srgbClr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514520" y="5445000"/>
              <a:ext cx="549360" cy="274680"/>
            </a:xfrm>
            <a:prstGeom prst="rect">
              <a:avLst/>
            </a:prstGeom>
            <a:noFill/>
            <a:ln w="0">
              <a:noFill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의료기기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613160" y="5877000"/>
              <a:ext cx="412200" cy="274680"/>
            </a:xfrm>
            <a:prstGeom prst="rect">
              <a:avLst/>
            </a:prstGeom>
            <a:noFill/>
            <a:ln w="0">
              <a:noFill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화장품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638720" y="6308640"/>
              <a:ext cx="275040" cy="274680"/>
            </a:xfrm>
            <a:prstGeom prst="rect">
              <a:avLst/>
            </a:prstGeom>
            <a:noFill/>
            <a:ln w="0">
              <a:noFill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식품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4284720" y="4437000"/>
            <a:ext cx="2449440" cy="2160720"/>
            <a:chOff x="4284720" y="4437000"/>
            <a:chExt cx="2449440" cy="2160720"/>
          </a:xfrm>
        </p:grpSpPr>
        <p:sp>
          <p:nvSpPr>
            <p:cNvPr id="92" name=""/>
            <p:cNvSpPr/>
            <p:nvPr/>
          </p:nvSpPr>
          <p:spPr>
            <a:xfrm>
              <a:off x="4284720" y="4437000"/>
              <a:ext cx="2449440" cy="432000"/>
            </a:xfrm>
            <a:prstGeom prst="roundRect">
              <a:avLst>
                <a:gd name="adj" fmla="val 50000"/>
              </a:avLst>
            </a:prstGeom>
            <a:noFill/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908960" y="4510080"/>
              <a:ext cx="1227600" cy="31536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54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300" spc="-1" strike="noStrike">
                  <a:solidFill>
                    <a:srgbClr val="ff9900"/>
                  </a:solidFill>
                  <a:latin typeface="HY헤드라인M"/>
                  <a:ea typeface="HY헤드라인M"/>
                </a:rPr>
                <a:t>보건산업진흥원</a:t>
              </a:r>
              <a:endParaRPr b="0" lang="en-US" sz="23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500360" y="5013360"/>
              <a:ext cx="2016360" cy="1584360"/>
            </a:xfrm>
            <a:prstGeom prst="roundRect">
              <a:avLst>
                <a:gd name="adj" fmla="val 5630"/>
              </a:avLst>
            </a:prstGeom>
            <a:solidFill>
              <a:srgbClr val="000000">
                <a:alpha val="20000"/>
              </a:srgbClr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716360" y="5280480"/>
              <a:ext cx="1657440" cy="1052280"/>
            </a:xfrm>
            <a:prstGeom prst="rect">
              <a:avLst/>
            </a:prstGeom>
            <a:noFill/>
            <a:ln w="0">
              <a:noFill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보건산업계의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의견수렴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및 입장정리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96" name=""/>
          <p:cNvSpPr/>
          <p:nvPr/>
        </p:nvSpPr>
        <p:spPr>
          <a:xfrm flipH="1" rot="10800000">
            <a:off x="3348000" y="5013360"/>
            <a:ext cx="457200" cy="1447920"/>
          </a:xfrm>
          <a:prstGeom prst="rightArrow">
            <a:avLst>
              <a:gd name="adj1" fmla="val 53991"/>
              <a:gd name="adj2" fmla="val 43843"/>
            </a:avLst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 flipH="1" rot="5400000">
            <a:off x="5282280" y="3365280"/>
            <a:ext cx="457200" cy="1447560"/>
          </a:xfrm>
          <a:prstGeom prst="rightArrow">
            <a:avLst>
              <a:gd name="adj1" fmla="val 53991"/>
              <a:gd name="adj2" fmla="val 43843"/>
            </a:avLst>
          </a:prstGeom>
          <a:gradFill rotWithShape="0">
            <a:gsLst>
              <a:gs pos="0">
                <a:srgbClr val="fe6c0b">
                  <a:alpha val="33333"/>
                </a:srgbClr>
              </a:gs>
              <a:gs pos="100000">
                <a:srgbClr val="ff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4284720" y="2205000"/>
            <a:ext cx="2449440" cy="1558800"/>
            <a:chOff x="4284720" y="2205000"/>
            <a:chExt cx="2449440" cy="1558800"/>
          </a:xfrm>
        </p:grpSpPr>
        <p:sp>
          <p:nvSpPr>
            <p:cNvPr id="99" name=""/>
            <p:cNvSpPr/>
            <p:nvPr/>
          </p:nvSpPr>
          <p:spPr>
            <a:xfrm>
              <a:off x="4284720" y="2205000"/>
              <a:ext cx="2449440" cy="432000"/>
            </a:xfrm>
            <a:prstGeom prst="roundRect">
              <a:avLst>
                <a:gd name="adj" fmla="val 50000"/>
              </a:avLst>
            </a:prstGeom>
            <a:noFill/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079600" y="2276640"/>
              <a:ext cx="876960" cy="31536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54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300" spc="-1" strike="noStrike">
                  <a:solidFill>
                    <a:srgbClr val="00ffff"/>
                  </a:solidFill>
                  <a:latin typeface="HY헤드라인M"/>
                  <a:ea typeface="HY헤드라인M"/>
                </a:rPr>
                <a:t>보건복지부</a:t>
              </a:r>
              <a:endParaRPr b="0" lang="en-US" sz="23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500720" y="2708280"/>
              <a:ext cx="2016000" cy="1055520"/>
            </a:xfrm>
            <a:prstGeom prst="roundRect">
              <a:avLst>
                <a:gd name="adj" fmla="val 5630"/>
              </a:avLst>
            </a:prstGeom>
            <a:solidFill>
              <a:srgbClr val="000000">
                <a:alpha val="20000"/>
              </a:srgbClr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716360" y="2922840"/>
              <a:ext cx="1657440" cy="663480"/>
            </a:xfrm>
            <a:prstGeom prst="rect">
              <a:avLst/>
            </a:prstGeom>
            <a:noFill/>
            <a:ln w="0">
              <a:noFill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보건산업부문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총괄대응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 flipH="1" rot="16200000">
            <a:off x="4561200" y="2428920"/>
            <a:ext cx="457200" cy="1447560"/>
          </a:xfrm>
          <a:prstGeom prst="rightArrow">
            <a:avLst>
              <a:gd name="adj1" fmla="val 53991"/>
              <a:gd name="adj2" fmla="val 43843"/>
            </a:avLst>
          </a:prstGeom>
          <a:gradFill rotWithShape="0">
            <a:gsLst>
              <a:gs pos="0">
                <a:srgbClr val="fe6c0b">
                  <a:alpha val="33333"/>
                </a:srgbClr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2411280" y="3716280"/>
            <a:ext cx="4897440" cy="1873440"/>
          </a:xfrm>
          <a:prstGeom prst="roundRect">
            <a:avLst>
              <a:gd name="adj" fmla="val 4333"/>
            </a:avLst>
          </a:prstGeom>
          <a:solidFill>
            <a:srgbClr val="000000">
              <a:alpha val="30000"/>
            </a:srgbClr>
          </a:solidFill>
          <a:ln w="2844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1132560" y="142920"/>
            <a:ext cx="2644920" cy="56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ffcc00"/>
                </a:solidFill>
                <a:latin typeface="Arial"/>
                <a:ea typeface="HY헤드라인M"/>
              </a:rPr>
              <a:t>진흥원의 업무진행체계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979640" y="1268280"/>
            <a:ext cx="5473440" cy="647640"/>
            <a:chOff x="1979640" y="1268280"/>
            <a:chExt cx="5473440" cy="647640"/>
          </a:xfrm>
        </p:grpSpPr>
        <p:grpSp>
          <p:nvGrpSpPr>
            <p:cNvPr id="107" name=""/>
            <p:cNvGrpSpPr/>
            <p:nvPr/>
          </p:nvGrpSpPr>
          <p:grpSpPr>
            <a:xfrm>
              <a:off x="1979640" y="1268280"/>
              <a:ext cx="5473440" cy="647640"/>
              <a:chOff x="1979640" y="1268280"/>
              <a:chExt cx="5473440" cy="647640"/>
            </a:xfrm>
          </p:grpSpPr>
          <p:sp>
            <p:nvSpPr>
              <p:cNvPr id="108" name=""/>
              <p:cNvSpPr/>
              <p:nvPr/>
            </p:nvSpPr>
            <p:spPr>
              <a:xfrm>
                <a:off x="1979640" y="1268280"/>
                <a:ext cx="5473440" cy="647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0c0c0"/>
                  </a:gs>
                  <a:gs pos="50000">
                    <a:srgbClr val="f1f1f1"/>
                  </a:gs>
                  <a:gs pos="100000">
                    <a:srgbClr val="c0c0c0"/>
                  </a:gs>
                </a:gsLst>
                <a:lin ang="13500000"/>
              </a:gra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052360" y="1330200"/>
                <a:ext cx="5328000" cy="523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33cc"/>
                  </a:gs>
                  <a:gs pos="100000">
                    <a:srgbClr val="859de5"/>
                  </a:gs>
                </a:gsLst>
                <a:lin ang="13500000"/>
              </a:gradFill>
              <a:ln w="0">
                <a:noFill/>
              </a:ln>
              <a:effectLst>
                <a:outerShdw dist="17819" dir="2700000" blurRad="0" rotWithShape="0">
                  <a:srgbClr val="001e7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2987640" y="1322280"/>
              <a:ext cx="3436920" cy="422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ffcc00"/>
                  </a:solidFill>
                  <a:latin typeface="HY견고딕"/>
                  <a:ea typeface="HY견고딕"/>
                </a:rPr>
                <a:t>자료수집 및 분석</a:t>
              </a:r>
              <a:endParaRPr b="0" lang="en-US" sz="25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 flipH="1" rot="16200000">
            <a:off x="4561200" y="5094360"/>
            <a:ext cx="457200" cy="1447560"/>
          </a:xfrm>
          <a:prstGeom prst="rightArrow">
            <a:avLst>
              <a:gd name="adj1" fmla="val 53991"/>
              <a:gd name="adj2" fmla="val 43843"/>
            </a:avLst>
          </a:prstGeom>
          <a:gradFill rotWithShape="0">
            <a:gsLst>
              <a:gs pos="0">
                <a:srgbClr val="fe6c0b">
                  <a:alpha val="33333"/>
                </a:srgbClr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692360" y="2060640"/>
            <a:ext cx="6335640" cy="792000"/>
            <a:chOff x="1692360" y="2060640"/>
            <a:chExt cx="6335640" cy="792000"/>
          </a:xfrm>
        </p:grpSpPr>
        <p:grpSp>
          <p:nvGrpSpPr>
            <p:cNvPr id="113" name=""/>
            <p:cNvGrpSpPr/>
            <p:nvPr/>
          </p:nvGrpSpPr>
          <p:grpSpPr>
            <a:xfrm>
              <a:off x="1692360" y="2060640"/>
              <a:ext cx="2016000" cy="792000"/>
              <a:chOff x="1692360" y="2060640"/>
              <a:chExt cx="2016000" cy="792000"/>
            </a:xfrm>
          </p:grpSpPr>
          <p:sp>
            <p:nvSpPr>
              <p:cNvPr id="114" name=""/>
              <p:cNvSpPr/>
              <p:nvPr/>
            </p:nvSpPr>
            <p:spPr>
              <a:xfrm>
                <a:off x="1692360" y="2060640"/>
                <a:ext cx="2016000" cy="792000"/>
              </a:xfrm>
              <a:prstGeom prst="roundRect">
                <a:avLst>
                  <a:gd name="adj" fmla="val 5630"/>
                </a:avLst>
              </a:prstGeom>
              <a:solidFill>
                <a:srgbClr val="000000">
                  <a:alpha val="20000"/>
                </a:srgbClr>
              </a:solidFill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908000" y="2131920"/>
                <a:ext cx="1657440" cy="663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spcAft>
                    <a:spcPts val="45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Arial"/>
                    <a:ea typeface="HY헤드라인M"/>
                  </a:rPr>
                  <a:t>보건산업 제도</a:t>
                </a: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spcAft>
                    <a:spcPts val="45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Arial"/>
                    <a:ea typeface="HY헤드라인M"/>
                  </a:rPr>
                  <a:t>및 정책분석</a:t>
                </a: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3852720" y="2060640"/>
              <a:ext cx="2016000" cy="792000"/>
              <a:chOff x="3852720" y="2060640"/>
              <a:chExt cx="2016000" cy="792000"/>
            </a:xfrm>
          </p:grpSpPr>
          <p:sp>
            <p:nvSpPr>
              <p:cNvPr id="117" name=""/>
              <p:cNvSpPr/>
              <p:nvPr/>
            </p:nvSpPr>
            <p:spPr>
              <a:xfrm>
                <a:off x="3852720" y="2060640"/>
                <a:ext cx="2016000" cy="792000"/>
              </a:xfrm>
              <a:prstGeom prst="roundRect">
                <a:avLst>
                  <a:gd name="adj" fmla="val 5630"/>
                </a:avLst>
              </a:prstGeom>
              <a:solidFill>
                <a:srgbClr val="000000">
                  <a:alpha val="20000"/>
                </a:srgbClr>
              </a:solidFill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068360" y="2131920"/>
                <a:ext cx="1657440" cy="663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spcAft>
                    <a:spcPts val="45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Arial"/>
                    <a:ea typeface="HY헤드라인M"/>
                  </a:rPr>
                  <a:t>수출입 현황</a:t>
                </a: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spcAft>
                    <a:spcPts val="45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Arial"/>
                    <a:ea typeface="HY헤드라인M"/>
                  </a:rPr>
                  <a:t>조사분석</a:t>
                </a: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6012000" y="2060640"/>
              <a:ext cx="2016000" cy="792000"/>
              <a:chOff x="6012000" y="2060640"/>
              <a:chExt cx="2016000" cy="792000"/>
            </a:xfrm>
          </p:grpSpPr>
          <p:sp>
            <p:nvSpPr>
              <p:cNvPr id="120" name=""/>
              <p:cNvSpPr/>
              <p:nvPr/>
            </p:nvSpPr>
            <p:spPr>
              <a:xfrm>
                <a:off x="6012000" y="2060640"/>
                <a:ext cx="2016000" cy="792000"/>
              </a:xfrm>
              <a:prstGeom prst="roundRect">
                <a:avLst>
                  <a:gd name="adj" fmla="val 5630"/>
                </a:avLst>
              </a:prstGeom>
              <a:solidFill>
                <a:srgbClr val="000000">
                  <a:alpha val="20000"/>
                </a:srgbClr>
              </a:solidFill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227640" y="2325600"/>
                <a:ext cx="1657440" cy="2746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spcAft>
                    <a:spcPts val="45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Arial"/>
                    <a:ea typeface="HY헤드라인M"/>
                  </a:rPr>
                  <a:t>주요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HY헤드라인M"/>
                  </a:rPr>
                  <a:t>FTA </a:t>
                </a:r>
                <a:r>
                  <a:rPr b="0" lang="zh-CN" sz="1800" spc="-1" strike="noStrike">
                    <a:solidFill>
                      <a:srgbClr val="ffffff"/>
                    </a:solidFill>
                    <a:latin typeface="Arial"/>
                    <a:ea typeface="HY헤드라인M"/>
                  </a:rPr>
                  <a:t>분석</a:t>
                </a: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22" name=""/>
          <p:cNvGrpSpPr/>
          <p:nvPr/>
        </p:nvGrpSpPr>
        <p:grpSpPr>
          <a:xfrm>
            <a:off x="3419640" y="3357720"/>
            <a:ext cx="2808000" cy="647640"/>
            <a:chOff x="3419640" y="3357720"/>
            <a:chExt cx="2808000" cy="647640"/>
          </a:xfrm>
        </p:grpSpPr>
        <p:grpSp>
          <p:nvGrpSpPr>
            <p:cNvPr id="123" name=""/>
            <p:cNvGrpSpPr/>
            <p:nvPr/>
          </p:nvGrpSpPr>
          <p:grpSpPr>
            <a:xfrm>
              <a:off x="3419640" y="3357720"/>
              <a:ext cx="2808000" cy="647640"/>
              <a:chOff x="3419640" y="3357720"/>
              <a:chExt cx="2808000" cy="647640"/>
            </a:xfrm>
          </p:grpSpPr>
          <p:sp>
            <p:nvSpPr>
              <p:cNvPr id="124" name=""/>
              <p:cNvSpPr/>
              <p:nvPr/>
            </p:nvSpPr>
            <p:spPr>
              <a:xfrm>
                <a:off x="3419640" y="3357720"/>
                <a:ext cx="2808000" cy="647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0c0c0"/>
                  </a:gs>
                  <a:gs pos="50000">
                    <a:srgbClr val="f1f1f1"/>
                  </a:gs>
                  <a:gs pos="100000">
                    <a:srgbClr val="c0c0c0"/>
                  </a:gs>
                </a:gsLst>
                <a:lin ang="13500000"/>
              </a:gra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456720" y="3419640"/>
                <a:ext cx="2733480" cy="523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33cc"/>
                  </a:gs>
                  <a:gs pos="100000">
                    <a:srgbClr val="859de5"/>
                  </a:gs>
                </a:gsLst>
                <a:lin ang="13500000"/>
              </a:gradFill>
              <a:ln w="0">
                <a:noFill/>
              </a:ln>
              <a:effectLst>
                <a:outerShdw dist="17819" dir="2700000" blurRad="0" rotWithShape="0">
                  <a:srgbClr val="001e7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>
              <a:off x="3936600" y="3411720"/>
              <a:ext cx="1763280" cy="422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4198680" y="3500280"/>
            <a:ext cx="1303920" cy="3153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ffff"/>
                </a:solidFill>
                <a:latin typeface="HY헤드라인M"/>
                <a:ea typeface="HY헤드라인M"/>
              </a:rPr>
              <a:t>분야별 대응방안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2771640" y="4149720"/>
            <a:ext cx="4145760" cy="1297080"/>
            <a:chOff x="2771640" y="4149720"/>
            <a:chExt cx="4145760" cy="1297080"/>
          </a:xfrm>
        </p:grpSpPr>
        <p:grpSp>
          <p:nvGrpSpPr>
            <p:cNvPr id="129" name=""/>
            <p:cNvGrpSpPr/>
            <p:nvPr/>
          </p:nvGrpSpPr>
          <p:grpSpPr>
            <a:xfrm>
              <a:off x="2771640" y="4149720"/>
              <a:ext cx="792000" cy="1297080"/>
              <a:chOff x="2771640" y="4149720"/>
              <a:chExt cx="792000" cy="1297080"/>
            </a:xfrm>
          </p:grpSpPr>
          <p:sp>
            <p:nvSpPr>
              <p:cNvPr id="130" name=""/>
              <p:cNvSpPr/>
              <p:nvPr/>
            </p:nvSpPr>
            <p:spPr>
              <a:xfrm>
                <a:off x="2771640" y="4149720"/>
                <a:ext cx="792000" cy="1297080"/>
              </a:xfrm>
              <a:custGeom>
                <a:avLst/>
                <a:gdLst>
                  <a:gd name="textAreaLeft" fmla="*/ 12960 w 792000"/>
                  <a:gd name="textAreaRight" fmla="*/ 779040 w 792000"/>
                  <a:gd name="textAreaTop" fmla="*/ 12960 h 1297080"/>
                  <a:gd name="textAreaBottom" fmla="*/ 1284120 h 1297080"/>
                </a:gdLst>
                <a:ahLst/>
                <a:rect l="textAreaLeft" t="textAreaTop" r="textAreaRight" b="textAreaBottom"/>
                <a:pathLst>
                  <a:path w="21600" h="35369">
                    <a:moveTo>
                      <a:pt x="1216" y="0"/>
                    </a:moveTo>
                    <a:arcTo wR="1216" hR="1216" stAng="16200000" swAng="-5400000"/>
                    <a:lnTo>
                      <a:pt x="0" y="34153"/>
                    </a:lnTo>
                    <a:arcTo wR="1216" hR="1216" stAng="10800000" swAng="-5400000"/>
                    <a:lnTo>
                      <a:pt x="20384" y="35369"/>
                    </a:lnTo>
                    <a:arcTo wR="1216" hR="1216" stAng="5400000" swAng="-5400000"/>
                    <a:lnTo>
                      <a:pt x="21600" y="1216"/>
                    </a:lnTo>
                    <a:arcTo wR="1216" hR="1216" stAng="0" swAng="-5400000"/>
                    <a:close/>
                  </a:path>
                </a:pathLst>
              </a:custGeom>
              <a:solidFill>
                <a:srgbClr val="000000">
                  <a:alpha val="20000"/>
                </a:srgbClr>
              </a:solidFill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979720" y="4435560"/>
                <a:ext cx="412200" cy="663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spcAft>
                    <a:spcPts val="45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ffffff"/>
                    </a:solidFill>
                    <a:latin typeface="Arial"/>
                    <a:ea typeface="HY헤드라인M"/>
                  </a:rPr>
                  <a:t>상품</a:t>
                </a: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spcAft>
                    <a:spcPts val="45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ffffff"/>
                    </a:solidFill>
                    <a:latin typeface="Arial"/>
                    <a:ea typeface="HY헤드라인M"/>
                  </a:rPr>
                  <a:t>양허안</a:t>
                </a: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3851280" y="4149720"/>
              <a:ext cx="792000" cy="1297080"/>
              <a:chOff x="3851280" y="4149720"/>
              <a:chExt cx="792000" cy="1297080"/>
            </a:xfrm>
          </p:grpSpPr>
          <p:sp>
            <p:nvSpPr>
              <p:cNvPr id="133" name=""/>
              <p:cNvSpPr/>
              <p:nvPr/>
            </p:nvSpPr>
            <p:spPr>
              <a:xfrm>
                <a:off x="3851280" y="4149720"/>
                <a:ext cx="792000" cy="1297080"/>
              </a:xfrm>
              <a:custGeom>
                <a:avLst/>
                <a:gdLst>
                  <a:gd name="textAreaLeft" fmla="*/ 12960 w 792000"/>
                  <a:gd name="textAreaRight" fmla="*/ 779040 w 792000"/>
                  <a:gd name="textAreaTop" fmla="*/ 12960 h 1297080"/>
                  <a:gd name="textAreaBottom" fmla="*/ 1284120 h 1297080"/>
                </a:gdLst>
                <a:ahLst/>
                <a:rect l="textAreaLeft" t="textAreaTop" r="textAreaRight" b="textAreaBottom"/>
                <a:pathLst>
                  <a:path w="21600" h="35369">
                    <a:moveTo>
                      <a:pt x="1216" y="0"/>
                    </a:moveTo>
                    <a:arcTo wR="1216" hR="1216" stAng="16200000" swAng="-5400000"/>
                    <a:lnTo>
                      <a:pt x="0" y="34153"/>
                    </a:lnTo>
                    <a:arcTo wR="1216" hR="1216" stAng="10800000" swAng="-5400000"/>
                    <a:lnTo>
                      <a:pt x="20384" y="35369"/>
                    </a:lnTo>
                    <a:arcTo wR="1216" hR="1216" stAng="5400000" swAng="-5400000"/>
                    <a:lnTo>
                      <a:pt x="21600" y="1216"/>
                    </a:lnTo>
                    <a:arcTo wR="1216" hR="1216" stAng="0" swAng="-5400000"/>
                    <a:close/>
                  </a:path>
                </a:pathLst>
              </a:custGeom>
              <a:solidFill>
                <a:srgbClr val="000000">
                  <a:alpha val="20000"/>
                </a:srgbClr>
              </a:solidFill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059360" y="4435560"/>
                <a:ext cx="412200" cy="663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spcAft>
                    <a:spcPts val="45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ffffff"/>
                    </a:solidFill>
                    <a:latin typeface="Arial"/>
                    <a:ea typeface="HY헤드라인M"/>
                  </a:rPr>
                  <a:t>원산지</a:t>
                </a: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spcAft>
                    <a:spcPts val="45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ffffff"/>
                    </a:solidFill>
                    <a:latin typeface="Arial"/>
                    <a:ea typeface="HY헤드라인M"/>
                  </a:rPr>
                  <a:t>기준안</a:t>
                </a: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4930560" y="4149720"/>
              <a:ext cx="792000" cy="1297080"/>
              <a:chOff x="4930560" y="4149720"/>
              <a:chExt cx="792000" cy="1297080"/>
            </a:xfrm>
          </p:grpSpPr>
          <p:sp>
            <p:nvSpPr>
              <p:cNvPr id="136" name=""/>
              <p:cNvSpPr/>
              <p:nvPr/>
            </p:nvSpPr>
            <p:spPr>
              <a:xfrm>
                <a:off x="4930560" y="4149720"/>
                <a:ext cx="792000" cy="1297080"/>
              </a:xfrm>
              <a:custGeom>
                <a:avLst/>
                <a:gdLst>
                  <a:gd name="textAreaLeft" fmla="*/ 12960 w 792000"/>
                  <a:gd name="textAreaRight" fmla="*/ 779040 w 792000"/>
                  <a:gd name="textAreaTop" fmla="*/ 12960 h 1297080"/>
                  <a:gd name="textAreaBottom" fmla="*/ 1284120 h 1297080"/>
                </a:gdLst>
                <a:ahLst/>
                <a:rect l="textAreaLeft" t="textAreaTop" r="textAreaRight" b="textAreaBottom"/>
                <a:pathLst>
                  <a:path w="21600" h="35369">
                    <a:moveTo>
                      <a:pt x="1216" y="0"/>
                    </a:moveTo>
                    <a:arcTo wR="1216" hR="1216" stAng="16200000" swAng="-5400000"/>
                    <a:lnTo>
                      <a:pt x="0" y="34153"/>
                    </a:lnTo>
                    <a:arcTo wR="1216" hR="1216" stAng="10800000" swAng="-5400000"/>
                    <a:lnTo>
                      <a:pt x="20384" y="35369"/>
                    </a:lnTo>
                    <a:arcTo wR="1216" hR="1216" stAng="5400000" swAng="-5400000"/>
                    <a:lnTo>
                      <a:pt x="21600" y="1216"/>
                    </a:lnTo>
                    <a:arcTo wR="1216" hR="1216" stAng="0" swAng="-5400000"/>
                    <a:close/>
                  </a:path>
                </a:pathLst>
              </a:custGeom>
              <a:solidFill>
                <a:srgbClr val="000000">
                  <a:alpha val="20000"/>
                </a:srgbClr>
              </a:solidFill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138640" y="4435560"/>
                <a:ext cx="412200" cy="663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spcAft>
                    <a:spcPts val="45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Arial"/>
                    <a:ea typeface="HY헤드라인M"/>
                  </a:rPr>
                  <a:t>비관세</a:t>
                </a: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spcAft>
                    <a:spcPts val="45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Arial"/>
                    <a:ea typeface="HY헤드라인M"/>
                  </a:rPr>
                  <a:t>장벽</a:t>
                </a: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6011640" y="4149720"/>
              <a:ext cx="905760" cy="1297080"/>
              <a:chOff x="6011640" y="4149720"/>
              <a:chExt cx="905760" cy="1297080"/>
            </a:xfrm>
          </p:grpSpPr>
          <p:sp>
            <p:nvSpPr>
              <p:cNvPr id="139" name=""/>
              <p:cNvSpPr/>
              <p:nvPr/>
            </p:nvSpPr>
            <p:spPr>
              <a:xfrm>
                <a:off x="6011640" y="4149720"/>
                <a:ext cx="905760" cy="1297080"/>
              </a:xfrm>
              <a:custGeom>
                <a:avLst/>
                <a:gdLst>
                  <a:gd name="textAreaLeft" fmla="*/ 14760 w 905760"/>
                  <a:gd name="textAreaRight" fmla="*/ 891000 w 905760"/>
                  <a:gd name="textAreaTop" fmla="*/ 14760 h 1297080"/>
                  <a:gd name="textAreaBottom" fmla="*/ 1282320 h 1297080"/>
                </a:gdLst>
                <a:ahLst/>
                <a:rect l="textAreaLeft" t="textAreaTop" r="textAreaRight" b="textAreaBottom"/>
                <a:pathLst>
                  <a:path w="21600" h="30928">
                    <a:moveTo>
                      <a:pt x="1216" y="0"/>
                    </a:moveTo>
                    <a:arcTo wR="1216" hR="1216" stAng="16200000" swAng="-5400000"/>
                    <a:lnTo>
                      <a:pt x="0" y="29712"/>
                    </a:lnTo>
                    <a:arcTo wR="1216" hR="1216" stAng="10800000" swAng="-5400000"/>
                    <a:lnTo>
                      <a:pt x="20384" y="30928"/>
                    </a:lnTo>
                    <a:arcTo wR="1216" hR="1216" stAng="5400000" swAng="-5400000"/>
                    <a:lnTo>
                      <a:pt x="21600" y="1216"/>
                    </a:lnTo>
                    <a:arcTo wR="1216" hR="1216" stAng="0" swAng="-5400000"/>
                    <a:close/>
                  </a:path>
                </a:pathLst>
              </a:custGeom>
              <a:solidFill>
                <a:srgbClr val="000000">
                  <a:alpha val="20000"/>
                </a:srgbClr>
              </a:solidFill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212520" y="4435560"/>
                <a:ext cx="549360" cy="663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spcAft>
                    <a:spcPts val="45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Arial"/>
                    <a:ea typeface="HY헤드라인M"/>
                  </a:rPr>
                  <a:t>기타</a:t>
                </a: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spcAft>
                    <a:spcPts val="45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Arial"/>
                    <a:ea typeface="HY헤드라인M"/>
                  </a:rPr>
                  <a:t>협력이슈</a:t>
                </a: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41" name=""/>
          <p:cNvGrpSpPr/>
          <p:nvPr/>
        </p:nvGrpSpPr>
        <p:grpSpPr>
          <a:xfrm>
            <a:off x="1979640" y="6021360"/>
            <a:ext cx="5473440" cy="647640"/>
            <a:chOff x="1979640" y="6021360"/>
            <a:chExt cx="5473440" cy="647640"/>
          </a:xfrm>
        </p:grpSpPr>
        <p:grpSp>
          <p:nvGrpSpPr>
            <p:cNvPr id="142" name=""/>
            <p:cNvGrpSpPr/>
            <p:nvPr/>
          </p:nvGrpSpPr>
          <p:grpSpPr>
            <a:xfrm>
              <a:off x="1979640" y="6021360"/>
              <a:ext cx="5473440" cy="647640"/>
              <a:chOff x="1979640" y="6021360"/>
              <a:chExt cx="5473440" cy="647640"/>
            </a:xfrm>
          </p:grpSpPr>
          <p:sp>
            <p:nvSpPr>
              <p:cNvPr id="143" name=""/>
              <p:cNvSpPr/>
              <p:nvPr/>
            </p:nvSpPr>
            <p:spPr>
              <a:xfrm>
                <a:off x="1979640" y="6021360"/>
                <a:ext cx="5473440" cy="647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0c0c0"/>
                  </a:gs>
                  <a:gs pos="50000">
                    <a:srgbClr val="f1f1f1"/>
                  </a:gs>
                  <a:gs pos="100000">
                    <a:srgbClr val="c0c0c0"/>
                  </a:gs>
                </a:gsLst>
                <a:lin ang="13500000"/>
              </a:gra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052360" y="6083280"/>
                <a:ext cx="5328000" cy="523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33cc"/>
                  </a:gs>
                  <a:gs pos="100000">
                    <a:srgbClr val="859de5"/>
                  </a:gs>
                </a:gsLst>
                <a:lin ang="13500000"/>
              </a:gradFill>
              <a:ln w="0">
                <a:noFill/>
              </a:ln>
              <a:effectLst>
                <a:outerShdw dist="17819" dir="2700000" blurRad="0" rotWithShape="0">
                  <a:srgbClr val="001e7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2987640" y="6075360"/>
              <a:ext cx="3436920" cy="422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ffcc00"/>
                  </a:solidFill>
                  <a:latin typeface="HY견고딕"/>
                  <a:ea typeface="HY견고딕"/>
                </a:rPr>
                <a:t>대응전략 수립</a:t>
              </a:r>
              <a:endParaRPr b="0" lang="en-US" sz="25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08000" y="4076640"/>
            <a:ext cx="1871280" cy="1513080"/>
            <a:chOff x="108000" y="4076640"/>
            <a:chExt cx="1871280" cy="1513080"/>
          </a:xfrm>
        </p:grpSpPr>
        <p:pic>
          <p:nvPicPr>
            <p:cNvPr id="147" name="" descr=""/>
            <p:cNvPicPr/>
            <p:nvPr/>
          </p:nvPicPr>
          <p:blipFill>
            <a:blip r:embed="rId2"/>
            <a:stretch/>
          </p:blipFill>
          <p:spPr>
            <a:xfrm>
              <a:off x="108000" y="4076640"/>
              <a:ext cx="1871280" cy="151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 rot="10800000">
              <a:off x="360360" y="4484520"/>
              <a:ext cx="1330200" cy="434880"/>
            </a:xfrm>
            <a:prstGeom prst="flowChartDisplay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395280" y="4221000"/>
            <a:ext cx="122400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99"/>
                </a:solidFill>
                <a:latin typeface="HY헤드라인M"/>
                <a:ea typeface="HY헤드라인M"/>
              </a:rPr>
              <a:t>산업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99"/>
                </a:solidFill>
                <a:latin typeface="HY헤드라인M"/>
                <a:ea typeface="HY헤드라인M"/>
              </a:rPr>
              <a:t>정책협의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HY헤드라인M"/>
                <a:ea typeface="HY헤드라인M"/>
              </a:rPr>
              <a:t>(T/F</a:t>
            </a:r>
            <a:r>
              <a:rPr b="0" lang="zh-CN" sz="1600" spc="-1" strike="noStrike">
                <a:solidFill>
                  <a:srgbClr val="000099"/>
                </a:solidFill>
                <a:latin typeface="HY헤드라인M"/>
                <a:ea typeface="HY헤드라인M"/>
              </a:rPr>
              <a:t>팀</a:t>
            </a:r>
            <a:r>
              <a:rPr b="0" lang="en-US" sz="1600" spc="-1" strike="noStrike">
                <a:solidFill>
                  <a:srgbClr val="000099"/>
                </a:solidFill>
                <a:latin typeface="HY헤드라인M"/>
                <a:ea typeface="HY헤드라인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flipH="1" rot="10800000">
            <a:off x="1763640" y="4076640"/>
            <a:ext cx="457200" cy="1447920"/>
          </a:xfrm>
          <a:prstGeom prst="rightArrow">
            <a:avLst>
              <a:gd name="adj1" fmla="val 53991"/>
              <a:gd name="adj2" fmla="val 43843"/>
            </a:avLst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500"/>
                            </p:stCondLst>
                            <p:childTnLst>
                              <p:par>
                                <p:cTn id="5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784240" y="1219320"/>
            <a:ext cx="34344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HY견고딕"/>
                <a:ea typeface="HY견고딕"/>
              </a:rPr>
              <a:t>II. </a:t>
            </a:r>
            <a:r>
              <a:rPr b="0" lang="zh-CN" sz="4000" spc="-1" strike="noStrike">
                <a:solidFill>
                  <a:srgbClr val="ffff00"/>
                </a:solidFill>
                <a:latin typeface="HY견고딕"/>
                <a:ea typeface="HY견고딕"/>
              </a:rPr>
              <a:t>제약산업현황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>
            <a:off x="2606760" y="2209680"/>
            <a:ext cx="6537240" cy="0"/>
          </a:xfrm>
          <a:prstGeom prst="line">
            <a:avLst/>
          </a:prstGeom>
          <a:ln w="28440">
            <a:solidFill>
              <a:srgbClr val="277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2209680"/>
            <a:ext cx="0" cy="38102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2286000"/>
            <a:ext cx="52912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세계 의약품시장 동향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>
            <a:off x="3419640" y="2924280"/>
            <a:ext cx="52909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국내 의약품생산 현황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3419640" y="3573360"/>
            <a:ext cx="52909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수출입현황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1490760" y="6005520"/>
            <a:ext cx="2727000" cy="381240"/>
            <a:chOff x="1490760" y="6005520"/>
            <a:chExt cx="2727000" cy="381240"/>
          </a:xfrm>
        </p:grpSpPr>
        <p:sp>
          <p:nvSpPr>
            <p:cNvPr id="158" name=""/>
            <p:cNvSpPr/>
            <p:nvPr/>
          </p:nvSpPr>
          <p:spPr>
            <a:xfrm>
              <a:off x="1490760" y="6005520"/>
              <a:ext cx="2013840" cy="381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buClr>
                  <a:srgbClr val="cc33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 </a:t>
              </a:r>
              <a:r>
                <a:rPr b="0" lang="en-US" sz="2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A</a:t>
              </a:r>
              <a:r>
                <a:rPr b="0" lang="zh-CN" sz="2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전략</a:t>
              </a:r>
              <a:r>
                <a:rPr b="0" lang="en-US" sz="2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(</a:t>
              </a:r>
              <a:r>
                <a:rPr b="0" lang="zh-CN" sz="18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물질발견</a:t>
              </a:r>
              <a:r>
                <a:rPr b="0" lang="en-US" sz="2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)</a:t>
              </a:r>
              <a:endParaRPr b="0" lang="en-US" sz="25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786120" y="6100920"/>
              <a:ext cx="431640" cy="215640"/>
            </a:xfrm>
            <a:prstGeom prst="rightArrow">
              <a:avLst>
                <a:gd name="adj1" fmla="val 50000"/>
                <a:gd name="adj2" fmla="val 90520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375560" y="1728720"/>
            <a:ext cx="6644520" cy="3302640"/>
            <a:chOff x="1375560" y="1728720"/>
            <a:chExt cx="6644520" cy="3302640"/>
          </a:xfrm>
        </p:grpSpPr>
        <p:grpSp>
          <p:nvGrpSpPr>
            <p:cNvPr id="161" name=""/>
            <p:cNvGrpSpPr/>
            <p:nvPr/>
          </p:nvGrpSpPr>
          <p:grpSpPr>
            <a:xfrm>
              <a:off x="1414440" y="2198520"/>
              <a:ext cx="6605640" cy="2163600"/>
              <a:chOff x="1414440" y="2198520"/>
              <a:chExt cx="6605640" cy="2163600"/>
            </a:xfrm>
          </p:grpSpPr>
          <p:grpSp>
            <p:nvGrpSpPr>
              <p:cNvPr id="162" name=""/>
              <p:cNvGrpSpPr/>
              <p:nvPr/>
            </p:nvGrpSpPr>
            <p:grpSpPr>
              <a:xfrm>
                <a:off x="1414440" y="2589120"/>
                <a:ext cx="6264360" cy="1421640"/>
                <a:chOff x="1414440" y="2589120"/>
                <a:chExt cx="6264360" cy="14216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1414440" y="2589120"/>
                  <a:ext cx="6264360" cy="0"/>
                </a:xfrm>
                <a:prstGeom prst="line">
                  <a:avLst/>
                </a:prstGeom>
                <a:ln w="9360">
                  <a:solidFill>
                    <a:srgbClr val="c0c0c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1414440" y="2943000"/>
                  <a:ext cx="6264360" cy="0"/>
                </a:xfrm>
                <a:prstGeom prst="line">
                  <a:avLst/>
                </a:prstGeom>
                <a:ln w="9360">
                  <a:solidFill>
                    <a:srgbClr val="777777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1414440" y="3299040"/>
                  <a:ext cx="6264360" cy="0"/>
                </a:xfrm>
                <a:prstGeom prst="line">
                  <a:avLst/>
                </a:prstGeom>
                <a:ln w="9360">
                  <a:solidFill>
                    <a:srgbClr val="777777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1414440" y="3655080"/>
                  <a:ext cx="6264360" cy="0"/>
                </a:xfrm>
                <a:prstGeom prst="line">
                  <a:avLst/>
                </a:prstGeom>
                <a:ln w="9360">
                  <a:solidFill>
                    <a:srgbClr val="777777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1414440" y="4010760"/>
                  <a:ext cx="6264360" cy="0"/>
                </a:xfrm>
                <a:prstGeom prst="line">
                  <a:avLst/>
                </a:prstGeom>
                <a:ln w="9360">
                  <a:solidFill>
                    <a:srgbClr val="777777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168" name=""/>
              <p:cNvSpPr/>
              <p:nvPr/>
            </p:nvSpPr>
            <p:spPr>
              <a:xfrm>
                <a:off x="1419120" y="2198520"/>
                <a:ext cx="6600960" cy="2163600"/>
              </a:xfrm>
              <a:custGeom>
                <a:avLst/>
                <a:gdLst/>
                <a:ahLst/>
                <a:rect l="l" t="t" r="r" b="b"/>
                <a:pathLst>
                  <a:path w="4219" h="2223">
                    <a:moveTo>
                      <a:pt x="0" y="0"/>
                    </a:moveTo>
                    <a:lnTo>
                      <a:pt x="0" y="2223"/>
                    </a:lnTo>
                    <a:lnTo>
                      <a:pt x="4219" y="2223"/>
                    </a:lnTo>
                  </a:path>
                </a:pathLst>
              </a:custGeom>
              <a:noFill/>
              <a:ln w="19080">
                <a:solidFill>
                  <a:srgbClr val="c0c0c0"/>
                </a:solidFill>
                <a:round/>
                <a:headEnd len="lg" type="stealth" w="lg"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1980000" y="441972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c0c0"/>
                  </a:solidFill>
                  <a:latin typeface="Arial"/>
                  <a:ea typeface="HY헤드라인M"/>
                </a:rPr>
                <a:t>2001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856920" y="441972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c0c0"/>
                  </a:solidFill>
                  <a:latin typeface="Arial"/>
                  <a:ea typeface="HY헤드라인M"/>
                </a:rPr>
                <a:t>2008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741480" y="1728720"/>
              <a:ext cx="161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ffff"/>
                  </a:solidFill>
                  <a:latin typeface="HY헤드라인M"/>
                  <a:ea typeface="HY헤드라인M"/>
                </a:rPr>
                <a:t>세계의약품 시장규모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18640" y="441972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c0c0"/>
                  </a:solidFill>
                  <a:latin typeface="Arial"/>
                  <a:ea typeface="HY헤드라인M"/>
                </a:rPr>
                <a:t>2004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635120" y="21337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단위 </a:t>
              </a:r>
              <a:r>
                <a:rPr b="0" lang="en-US" sz="18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: US </a:t>
              </a:r>
              <a:r>
                <a:rPr b="0" lang="zh-CN" sz="18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억</a:t>
              </a:r>
              <a:r>
                <a:rPr b="0" lang="en-US" sz="18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$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375560" y="4724280"/>
              <a:ext cx="390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Source : </a:t>
              </a:r>
              <a:r>
                <a:rPr b="0" lang="ko-KR" sz="14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 </a:t>
              </a:r>
              <a:r>
                <a:rPr b="0" lang="ko-KR" sz="14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IMS Health Global Pharma Forecast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04920" y="914400"/>
            <a:ext cx="8533800" cy="609480"/>
            <a:chOff x="304920" y="914400"/>
            <a:chExt cx="8533800" cy="609480"/>
          </a:xfrm>
        </p:grpSpPr>
        <p:sp>
          <p:nvSpPr>
            <p:cNvPr id="176" name=""/>
            <p:cNvSpPr/>
            <p:nvPr/>
          </p:nvSpPr>
          <p:spPr>
            <a:xfrm>
              <a:off x="304920" y="914400"/>
              <a:ext cx="8533800" cy="609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96d85"/>
                </a:gs>
                <a:gs pos="50000">
                  <a:srgbClr val="25989b"/>
                </a:gs>
                <a:gs pos="100000">
                  <a:srgbClr val="096d85"/>
                </a:gs>
              </a:gsLst>
              <a:lin ang="10800000"/>
            </a:gradFill>
            <a:ln w="12600">
              <a:solidFill>
                <a:srgbClr val="073955"/>
              </a:solidFill>
              <a:miter/>
            </a:ln>
            <a:effectLst>
              <a:outerShdw dist="40186" dir="4303641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856520" y="1049760"/>
              <a:ext cx="5436720" cy="366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00"/>
                  </a:solidFill>
                  <a:latin typeface="HY헤드라인M"/>
                  <a:ea typeface="HY헤드라인M"/>
                </a:rPr>
                <a:t>신약개발저조</a:t>
              </a:r>
              <a:r>
                <a:rPr b="0" lang="ko-KR" sz="2400" spc="-1" strike="noStrike">
                  <a:solidFill>
                    <a:srgbClr val="ffff00"/>
                  </a:solidFill>
                  <a:latin typeface="HY헤드라인M"/>
                  <a:ea typeface="HY헤드라인M"/>
                </a:rPr>
                <a:t>, </a:t>
              </a:r>
              <a:r>
                <a:rPr b="0" lang="ko-KR" sz="2400" spc="-1" strike="noStrike">
                  <a:solidFill>
                    <a:srgbClr val="ffff00"/>
                  </a:solidFill>
                  <a:latin typeface="HY헤드라인M"/>
                  <a:ea typeface="HY헤드라인M"/>
                </a:rPr>
                <a:t>블럭버스터 특허만료</a:t>
              </a:r>
              <a:r>
                <a:rPr b="0" lang="ko-KR" sz="2400" spc="-1" strike="noStrike">
                  <a:solidFill>
                    <a:srgbClr val="ffff00"/>
                  </a:solidFill>
                  <a:latin typeface="HY헤드라인M"/>
                  <a:ea typeface="HY헤드라인M"/>
                </a:rPr>
                <a:t>, Generic </a:t>
              </a:r>
              <a:r>
                <a:rPr b="0" lang="ko-KR" sz="2400" spc="-1" strike="noStrike">
                  <a:solidFill>
                    <a:srgbClr val="ffff00"/>
                  </a:solidFill>
                  <a:latin typeface="HY헤드라인M"/>
                  <a:ea typeface="HY헤드라인M"/>
                </a:rPr>
                <a:t>시장 확대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1094760" y="119160"/>
            <a:ext cx="2612880" cy="56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ffcc00"/>
                </a:solidFill>
                <a:latin typeface="HY헤드라인M"/>
                <a:ea typeface="HY헤드라인M"/>
              </a:rPr>
              <a:t>세계 의약품 시장 동향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2127600" y="5334120"/>
            <a:ext cx="509940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</a:t>
            </a:r>
            <a:r>
              <a:rPr b="0" lang="zh-CN" sz="25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북미</a:t>
            </a:r>
            <a:r>
              <a:rPr b="0" lang="en-US" sz="25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, </a:t>
            </a:r>
            <a:r>
              <a:rPr b="0" lang="zh-CN" sz="25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유럽</a:t>
            </a:r>
            <a:r>
              <a:rPr b="0" lang="en-US" sz="25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, </a:t>
            </a:r>
            <a:r>
              <a:rPr b="0" lang="zh-CN" sz="25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일본의 시장이 세계시장 </a:t>
            </a:r>
            <a:r>
              <a:rPr b="0" lang="en-US" sz="25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87% </a:t>
            </a:r>
            <a:r>
              <a:rPr b="0" lang="zh-CN" sz="25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점유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4336920" y="5958000"/>
            <a:ext cx="1105200" cy="507960"/>
            <a:chOff x="4336920" y="5958000"/>
            <a:chExt cx="1105200" cy="507960"/>
          </a:xfrm>
        </p:grpSpPr>
        <p:sp>
          <p:nvSpPr>
            <p:cNvPr id="181" name=""/>
            <p:cNvSpPr/>
            <p:nvPr/>
          </p:nvSpPr>
          <p:spPr>
            <a:xfrm>
              <a:off x="4336920" y="5958000"/>
              <a:ext cx="1105200" cy="507960"/>
            </a:xfrm>
            <a:prstGeom prst="roundRect">
              <a:avLst>
                <a:gd name="adj" fmla="val 23528"/>
              </a:avLst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684320" y="6004080"/>
              <a:ext cx="381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한국</a:t>
              </a:r>
              <a:endParaRPr b="0" lang="en-US" sz="25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5607000" y="5992920"/>
            <a:ext cx="3178080" cy="381240"/>
            <a:chOff x="5607000" y="5992920"/>
            <a:chExt cx="3178080" cy="381240"/>
          </a:xfrm>
        </p:grpSpPr>
        <p:sp>
          <p:nvSpPr>
            <p:cNvPr id="184" name=""/>
            <p:cNvSpPr/>
            <p:nvPr/>
          </p:nvSpPr>
          <p:spPr>
            <a:xfrm>
              <a:off x="6305040" y="5992920"/>
              <a:ext cx="2480040" cy="381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Generic, OTC </a:t>
              </a:r>
              <a:r>
                <a:rPr b="0" lang="zh-CN" sz="2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공략</a:t>
              </a:r>
              <a:endParaRPr b="0" lang="en-US" sz="25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10800000">
              <a:off x="5607000" y="6100560"/>
              <a:ext cx="432000" cy="215640"/>
            </a:xfrm>
            <a:prstGeom prst="rightArrow">
              <a:avLst>
                <a:gd name="adj1" fmla="val 50000"/>
                <a:gd name="adj2" fmla="val 90595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1266840" y="22939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4207320" y="2438280"/>
            <a:ext cx="925920" cy="1951920"/>
            <a:chOff x="4207320" y="2438280"/>
            <a:chExt cx="925920" cy="1951920"/>
          </a:xfrm>
        </p:grpSpPr>
        <p:grpSp>
          <p:nvGrpSpPr>
            <p:cNvPr id="188" name=""/>
            <p:cNvGrpSpPr/>
            <p:nvPr/>
          </p:nvGrpSpPr>
          <p:grpSpPr>
            <a:xfrm>
              <a:off x="4213080" y="2761560"/>
              <a:ext cx="920160" cy="1628640"/>
              <a:chOff x="4213080" y="2761560"/>
              <a:chExt cx="920160" cy="1628640"/>
            </a:xfrm>
          </p:grpSpPr>
          <p:pic>
            <p:nvPicPr>
              <p:cNvPr id="18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213080" y="3725640"/>
                <a:ext cx="912600" cy="66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220640" y="3400560"/>
                <a:ext cx="912600" cy="664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20640" y="3079440"/>
                <a:ext cx="912600" cy="66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2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220640" y="2761560"/>
                <a:ext cx="912600" cy="664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3" name=""/>
            <p:cNvSpPr/>
            <p:nvPr/>
          </p:nvSpPr>
          <p:spPr>
            <a:xfrm>
              <a:off x="4207320" y="2438280"/>
              <a:ext cx="762840" cy="366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HY헤드라인M"/>
                </a:rPr>
                <a:t>5,500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1845000" y="2895480"/>
            <a:ext cx="925920" cy="1491480"/>
            <a:chOff x="1845000" y="2895480"/>
            <a:chExt cx="925920" cy="1491480"/>
          </a:xfrm>
        </p:grpSpPr>
        <p:grpSp>
          <p:nvGrpSpPr>
            <p:cNvPr id="195" name=""/>
            <p:cNvGrpSpPr/>
            <p:nvPr/>
          </p:nvGrpSpPr>
          <p:grpSpPr>
            <a:xfrm>
              <a:off x="1850760" y="3142440"/>
              <a:ext cx="920160" cy="1244520"/>
              <a:chOff x="1850760" y="3142440"/>
              <a:chExt cx="920160" cy="1244520"/>
            </a:xfrm>
          </p:grpSpPr>
          <p:pic>
            <p:nvPicPr>
              <p:cNvPr id="19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1850760" y="3879000"/>
                <a:ext cx="912600" cy="507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1858320" y="3630600"/>
                <a:ext cx="912600" cy="50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8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858320" y="3385440"/>
                <a:ext cx="912600" cy="507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9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1858320" y="3142440"/>
                <a:ext cx="912600" cy="508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0" name=""/>
            <p:cNvSpPr/>
            <p:nvPr/>
          </p:nvSpPr>
          <p:spPr>
            <a:xfrm>
              <a:off x="1845000" y="2895480"/>
              <a:ext cx="762840" cy="366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HY헤드라인M"/>
                </a:rPr>
                <a:t>3,878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6569280" y="1981080"/>
            <a:ext cx="925920" cy="2405880"/>
            <a:chOff x="6569280" y="1981080"/>
            <a:chExt cx="925920" cy="2405880"/>
          </a:xfrm>
        </p:grpSpPr>
        <p:grpSp>
          <p:nvGrpSpPr>
            <p:cNvPr id="202" name=""/>
            <p:cNvGrpSpPr/>
            <p:nvPr/>
          </p:nvGrpSpPr>
          <p:grpSpPr>
            <a:xfrm>
              <a:off x="6575040" y="2379600"/>
              <a:ext cx="920160" cy="2007360"/>
              <a:chOff x="6575040" y="2379600"/>
              <a:chExt cx="920160" cy="2007360"/>
            </a:xfrm>
          </p:grpSpPr>
          <p:pic>
            <p:nvPicPr>
              <p:cNvPr id="203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6575040" y="3567600"/>
                <a:ext cx="912600" cy="81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4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6582600" y="3166920"/>
                <a:ext cx="912600" cy="81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5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6582600" y="2771280"/>
                <a:ext cx="912600" cy="81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6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6582600" y="2379600"/>
                <a:ext cx="912600" cy="819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7" name=""/>
            <p:cNvSpPr/>
            <p:nvPr/>
          </p:nvSpPr>
          <p:spPr>
            <a:xfrm>
              <a:off x="6569280" y="1981080"/>
              <a:ext cx="762840" cy="366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HY헤드라인M"/>
                </a:rPr>
                <a:t>9,014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500"/>
                            </p:stCondLst>
                            <p:childTnLst>
                              <p:par>
                                <p:cTn id="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500"/>
                            </p:stCondLst>
                            <p:childTnLst>
                              <p:par>
                                <p:cTn id="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500"/>
                            </p:stCondLst>
                            <p:childTnLst>
                              <p:par>
                                <p:cTn id="1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094760" y="119160"/>
            <a:ext cx="2612880" cy="56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ffcc00"/>
                </a:solidFill>
                <a:latin typeface="HY헤드라인M"/>
                <a:ea typeface="HY헤드라인M"/>
              </a:rPr>
              <a:t>국내 의약품 생산 현황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04920" y="914400"/>
            <a:ext cx="8533800" cy="609480"/>
            <a:chOff x="304920" y="914400"/>
            <a:chExt cx="8533800" cy="609480"/>
          </a:xfrm>
        </p:grpSpPr>
        <p:sp>
          <p:nvSpPr>
            <p:cNvPr id="210" name=""/>
            <p:cNvSpPr/>
            <p:nvPr/>
          </p:nvSpPr>
          <p:spPr>
            <a:xfrm>
              <a:off x="304920" y="914400"/>
              <a:ext cx="8533800" cy="609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96d85"/>
                </a:gs>
                <a:gs pos="50000">
                  <a:srgbClr val="25989b"/>
                </a:gs>
                <a:gs pos="100000">
                  <a:srgbClr val="096d85"/>
                </a:gs>
              </a:gsLst>
              <a:lin ang="10800000"/>
            </a:gradFill>
            <a:ln w="12600">
              <a:solidFill>
                <a:srgbClr val="073955"/>
              </a:solidFill>
              <a:miter/>
            </a:ln>
            <a:effectLst>
              <a:outerShdw dist="40186" dir="4303641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310120" y="1049760"/>
              <a:ext cx="4529520" cy="366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00"/>
                  </a:solidFill>
                  <a:latin typeface="HY헤드라인M"/>
                  <a:ea typeface="HY헤드라인M"/>
                </a:rPr>
                <a:t>증감을 반복하다가 </a:t>
              </a:r>
              <a:r>
                <a:rPr b="0" lang="en-US" sz="2400" spc="-1" strike="noStrike">
                  <a:solidFill>
                    <a:srgbClr val="ffff00"/>
                  </a:solidFill>
                  <a:latin typeface="HY헤드라인M"/>
                  <a:ea typeface="HY헤드라인M"/>
                </a:rPr>
                <a:t>2001</a:t>
              </a:r>
              <a:r>
                <a:rPr b="0" lang="zh-CN" sz="2400" spc="-1" strike="noStrike">
                  <a:solidFill>
                    <a:srgbClr val="ffff00"/>
                  </a:solidFill>
                  <a:latin typeface="HY헤드라인M"/>
                  <a:ea typeface="HY헤드라인M"/>
                </a:rPr>
                <a:t>년 이후 지속적인 증가세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414440" y="1728720"/>
            <a:ext cx="6605640" cy="3302640"/>
            <a:chOff x="1414440" y="1728720"/>
            <a:chExt cx="6605640" cy="3302640"/>
          </a:xfrm>
        </p:grpSpPr>
        <p:grpSp>
          <p:nvGrpSpPr>
            <p:cNvPr id="213" name=""/>
            <p:cNvGrpSpPr/>
            <p:nvPr/>
          </p:nvGrpSpPr>
          <p:grpSpPr>
            <a:xfrm>
              <a:off x="1414440" y="2198520"/>
              <a:ext cx="6605640" cy="2163600"/>
              <a:chOff x="1414440" y="2198520"/>
              <a:chExt cx="6605640" cy="2163600"/>
            </a:xfrm>
          </p:grpSpPr>
          <p:grpSp>
            <p:nvGrpSpPr>
              <p:cNvPr id="214" name=""/>
              <p:cNvGrpSpPr/>
              <p:nvPr/>
            </p:nvGrpSpPr>
            <p:grpSpPr>
              <a:xfrm>
                <a:off x="1414440" y="2589120"/>
                <a:ext cx="6264360" cy="1421640"/>
                <a:chOff x="1414440" y="2589120"/>
                <a:chExt cx="6264360" cy="142164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1414440" y="2589120"/>
                  <a:ext cx="6264360" cy="0"/>
                </a:xfrm>
                <a:prstGeom prst="line">
                  <a:avLst/>
                </a:prstGeom>
                <a:ln w="9360">
                  <a:solidFill>
                    <a:srgbClr val="c0c0c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1414440" y="2943000"/>
                  <a:ext cx="6264360" cy="0"/>
                </a:xfrm>
                <a:prstGeom prst="line">
                  <a:avLst/>
                </a:prstGeom>
                <a:ln w="9360">
                  <a:solidFill>
                    <a:srgbClr val="777777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414440" y="3299040"/>
                  <a:ext cx="6264360" cy="0"/>
                </a:xfrm>
                <a:prstGeom prst="line">
                  <a:avLst/>
                </a:prstGeom>
                <a:ln w="9360">
                  <a:solidFill>
                    <a:srgbClr val="777777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1414440" y="3655080"/>
                  <a:ext cx="6264360" cy="0"/>
                </a:xfrm>
                <a:prstGeom prst="line">
                  <a:avLst/>
                </a:prstGeom>
                <a:ln w="9360">
                  <a:solidFill>
                    <a:srgbClr val="777777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1414440" y="4010760"/>
                  <a:ext cx="6264360" cy="0"/>
                </a:xfrm>
                <a:prstGeom prst="line">
                  <a:avLst/>
                </a:prstGeom>
                <a:ln w="9360">
                  <a:solidFill>
                    <a:srgbClr val="777777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20" name=""/>
              <p:cNvSpPr/>
              <p:nvPr/>
            </p:nvSpPr>
            <p:spPr>
              <a:xfrm>
                <a:off x="1419120" y="2198520"/>
                <a:ext cx="6600960" cy="2163600"/>
              </a:xfrm>
              <a:custGeom>
                <a:avLst/>
                <a:gdLst/>
                <a:ahLst/>
                <a:rect l="l" t="t" r="r" b="b"/>
                <a:pathLst>
                  <a:path w="4219" h="2223">
                    <a:moveTo>
                      <a:pt x="0" y="0"/>
                    </a:moveTo>
                    <a:lnTo>
                      <a:pt x="0" y="2223"/>
                    </a:lnTo>
                    <a:lnTo>
                      <a:pt x="4219" y="2223"/>
                    </a:lnTo>
                  </a:path>
                </a:pathLst>
              </a:custGeom>
              <a:noFill/>
              <a:ln w="19080">
                <a:solidFill>
                  <a:srgbClr val="c0c0c0"/>
                </a:solidFill>
                <a:round/>
                <a:headEnd len="lg" type="stealth" w="lg"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>
              <a:off x="1980000" y="441972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c0c0"/>
                  </a:solidFill>
                  <a:latin typeface="Arial"/>
                  <a:ea typeface="HY헤드라인M"/>
                </a:rPr>
                <a:t>2001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856920" y="441972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c0c0"/>
                  </a:solidFill>
                  <a:latin typeface="Arial"/>
                  <a:ea typeface="HY헤드라인M"/>
                </a:rPr>
                <a:t>2003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741480" y="1728720"/>
              <a:ext cx="161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ffff"/>
                  </a:solidFill>
                  <a:latin typeface="HY헤드라인M"/>
                  <a:ea typeface="HY헤드라인M"/>
                </a:rPr>
                <a:t>국내의약품 생산실적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418640" y="441972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c0c0"/>
                  </a:solidFill>
                  <a:latin typeface="Arial"/>
                  <a:ea typeface="HY헤드라인M"/>
                </a:rPr>
                <a:t>2002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704240" y="2133720"/>
              <a:ext cx="12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단위 </a:t>
              </a:r>
              <a:r>
                <a:rPr b="0" lang="ko-KR" sz="18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: 10</a:t>
              </a:r>
              <a:r>
                <a:rPr b="0" lang="ko-KR" sz="18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억원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46760" y="4724280"/>
              <a:ext cx="216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Source : </a:t>
              </a:r>
              <a:r>
                <a:rPr b="0" lang="en-US" sz="14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 </a:t>
              </a:r>
              <a:r>
                <a:rPr b="0" lang="zh-CN" sz="14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한국제약협회</a:t>
              </a:r>
              <a:r>
                <a:rPr b="0" lang="en-US" sz="14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, 2003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1851120" y="2895480"/>
            <a:ext cx="919800" cy="1491480"/>
            <a:chOff x="1851120" y="2895480"/>
            <a:chExt cx="919800" cy="1491480"/>
          </a:xfrm>
        </p:grpSpPr>
        <p:grpSp>
          <p:nvGrpSpPr>
            <p:cNvPr id="228" name=""/>
            <p:cNvGrpSpPr/>
            <p:nvPr/>
          </p:nvGrpSpPr>
          <p:grpSpPr>
            <a:xfrm>
              <a:off x="1851120" y="3142440"/>
              <a:ext cx="919800" cy="1244520"/>
              <a:chOff x="1851120" y="3142440"/>
              <a:chExt cx="919800" cy="1244520"/>
            </a:xfrm>
          </p:grpSpPr>
          <p:pic>
            <p:nvPicPr>
              <p:cNvPr id="22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51120" y="3879000"/>
                <a:ext cx="912240" cy="507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58680" y="3630600"/>
                <a:ext cx="912240" cy="50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858680" y="3385440"/>
                <a:ext cx="912240" cy="507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2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1858680" y="3142440"/>
                <a:ext cx="912240" cy="508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33" name=""/>
            <p:cNvSpPr/>
            <p:nvPr/>
          </p:nvSpPr>
          <p:spPr>
            <a:xfrm>
              <a:off x="1873080" y="2895480"/>
              <a:ext cx="700200" cy="3355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00"/>
                  </a:solidFill>
                  <a:latin typeface="Arial"/>
                  <a:ea typeface="HY헤드라인M"/>
                </a:rPr>
                <a:t>7,691</a:t>
              </a:r>
              <a:endParaRPr b="0" lang="en-US" sz="2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4213080" y="2438280"/>
            <a:ext cx="920160" cy="1951920"/>
            <a:chOff x="4213080" y="2438280"/>
            <a:chExt cx="920160" cy="1951920"/>
          </a:xfrm>
        </p:grpSpPr>
        <p:grpSp>
          <p:nvGrpSpPr>
            <p:cNvPr id="235" name=""/>
            <p:cNvGrpSpPr/>
            <p:nvPr/>
          </p:nvGrpSpPr>
          <p:grpSpPr>
            <a:xfrm>
              <a:off x="4213080" y="2761560"/>
              <a:ext cx="920160" cy="1628640"/>
              <a:chOff x="4213080" y="2761560"/>
              <a:chExt cx="920160" cy="1628640"/>
            </a:xfrm>
          </p:grpSpPr>
          <p:pic>
            <p:nvPicPr>
              <p:cNvPr id="23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213080" y="3725640"/>
                <a:ext cx="912600" cy="66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220640" y="3400560"/>
                <a:ext cx="912600" cy="664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8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220640" y="3079440"/>
                <a:ext cx="912600" cy="66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9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220640" y="2761560"/>
                <a:ext cx="912600" cy="664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40" name=""/>
            <p:cNvSpPr/>
            <p:nvPr/>
          </p:nvSpPr>
          <p:spPr>
            <a:xfrm>
              <a:off x="4235400" y="2438280"/>
              <a:ext cx="700200" cy="3355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00"/>
                  </a:solidFill>
                  <a:latin typeface="Arial"/>
                  <a:ea typeface="HY헤드라인M"/>
                </a:rPr>
                <a:t>8,427</a:t>
              </a:r>
              <a:endParaRPr b="0" lang="en-US" sz="2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6575400" y="1981080"/>
            <a:ext cx="920160" cy="2405880"/>
            <a:chOff x="6575400" y="1981080"/>
            <a:chExt cx="920160" cy="2405880"/>
          </a:xfrm>
        </p:grpSpPr>
        <p:grpSp>
          <p:nvGrpSpPr>
            <p:cNvPr id="242" name=""/>
            <p:cNvGrpSpPr/>
            <p:nvPr/>
          </p:nvGrpSpPr>
          <p:grpSpPr>
            <a:xfrm>
              <a:off x="6575400" y="2379600"/>
              <a:ext cx="920160" cy="2007360"/>
              <a:chOff x="6575400" y="2379600"/>
              <a:chExt cx="920160" cy="2007360"/>
            </a:xfrm>
          </p:grpSpPr>
          <p:pic>
            <p:nvPicPr>
              <p:cNvPr id="243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6575400" y="3567600"/>
                <a:ext cx="912600" cy="81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4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6582960" y="3166920"/>
                <a:ext cx="912600" cy="81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5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6582960" y="2771280"/>
                <a:ext cx="912600" cy="81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6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6582960" y="2379600"/>
                <a:ext cx="912600" cy="819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47" name=""/>
            <p:cNvSpPr/>
            <p:nvPr/>
          </p:nvSpPr>
          <p:spPr>
            <a:xfrm>
              <a:off x="6597720" y="1981080"/>
              <a:ext cx="700200" cy="3355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00"/>
                  </a:solidFill>
                  <a:latin typeface="Arial"/>
                  <a:ea typeface="HY헤드라인M"/>
                </a:rPr>
                <a:t>8,741</a:t>
              </a:r>
              <a:endParaRPr b="0" lang="en-US" sz="2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1753560" y="5334120"/>
            <a:ext cx="501624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2003</a:t>
            </a:r>
            <a:r>
              <a:rPr b="0" lang="zh-CN" sz="25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년 기준 우리나라 </a:t>
            </a:r>
            <a:r>
              <a:rPr b="0" lang="en-US" sz="25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GDP</a:t>
            </a:r>
            <a:r>
              <a:rPr b="0" lang="zh-CN" sz="25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대비 </a:t>
            </a:r>
            <a:r>
              <a:rPr b="0" lang="en-US" sz="25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1.32%,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</a:t>
            </a:r>
            <a:r>
              <a:rPr b="0" lang="zh-CN" sz="25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제조업 </a:t>
            </a:r>
            <a:r>
              <a:rPr b="0" lang="en-US" sz="25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GDP</a:t>
            </a:r>
            <a:r>
              <a:rPr b="0" lang="zh-CN" sz="25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대비 </a:t>
            </a:r>
            <a:r>
              <a:rPr b="0" lang="en-US" sz="25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5.64% </a:t>
            </a:r>
            <a:r>
              <a:rPr b="0" lang="zh-CN" sz="25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규모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173240" y="119160"/>
            <a:ext cx="2849400" cy="56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ffcc00"/>
                </a:solidFill>
                <a:latin typeface="HY헤드라인M"/>
                <a:ea typeface="HY헤드라인M"/>
              </a:rPr>
              <a:t>국내 의약품 수출입 현황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304920" y="914400"/>
            <a:ext cx="8533800" cy="609480"/>
            <a:chOff x="304920" y="914400"/>
            <a:chExt cx="8533800" cy="609480"/>
          </a:xfrm>
        </p:grpSpPr>
        <p:sp>
          <p:nvSpPr>
            <p:cNvPr id="251" name=""/>
            <p:cNvSpPr/>
            <p:nvPr/>
          </p:nvSpPr>
          <p:spPr>
            <a:xfrm>
              <a:off x="304920" y="914400"/>
              <a:ext cx="8533800" cy="609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96d85"/>
                </a:gs>
                <a:gs pos="50000">
                  <a:srgbClr val="25989b"/>
                </a:gs>
                <a:gs pos="100000">
                  <a:srgbClr val="096d85"/>
                </a:gs>
              </a:gsLst>
              <a:lin ang="10800000"/>
            </a:gradFill>
            <a:ln w="12600">
              <a:solidFill>
                <a:srgbClr val="073955"/>
              </a:solidFill>
              <a:miter/>
            </a:ln>
            <a:effectLst>
              <a:outerShdw dist="40186" dir="4303641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616120" y="1049760"/>
              <a:ext cx="3917160" cy="366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00"/>
                  </a:solidFill>
                  <a:latin typeface="HY헤드라인M"/>
                  <a:ea typeface="HY헤드라인M"/>
                </a:rPr>
                <a:t>전체 수출입량의 지속적 증가</a:t>
              </a:r>
              <a:r>
                <a:rPr b="0" lang="ko-KR" sz="2400" spc="-1" strike="noStrike">
                  <a:solidFill>
                    <a:srgbClr val="ffff00"/>
                  </a:solidFill>
                  <a:latin typeface="HY헤드라인M"/>
                  <a:ea typeface="HY헤드라인M"/>
                </a:rPr>
                <a:t>, </a:t>
              </a:r>
              <a:r>
                <a:rPr b="0" lang="ko-KR" sz="2400" spc="-1" strike="noStrike">
                  <a:solidFill>
                    <a:srgbClr val="ffff00"/>
                  </a:solidFill>
                  <a:latin typeface="HY헤드라인M"/>
                  <a:ea typeface="HY헤드라인M"/>
                </a:rPr>
                <a:t>무역역조 구조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1414440" y="1728720"/>
            <a:ext cx="6605640" cy="3302640"/>
            <a:chOff x="1414440" y="1728720"/>
            <a:chExt cx="6605640" cy="3302640"/>
          </a:xfrm>
        </p:grpSpPr>
        <p:grpSp>
          <p:nvGrpSpPr>
            <p:cNvPr id="254" name=""/>
            <p:cNvGrpSpPr/>
            <p:nvPr/>
          </p:nvGrpSpPr>
          <p:grpSpPr>
            <a:xfrm>
              <a:off x="1414440" y="2198520"/>
              <a:ext cx="6605640" cy="2163600"/>
              <a:chOff x="1414440" y="2198520"/>
              <a:chExt cx="6605640" cy="2163600"/>
            </a:xfrm>
          </p:grpSpPr>
          <p:grpSp>
            <p:nvGrpSpPr>
              <p:cNvPr id="255" name=""/>
              <p:cNvGrpSpPr/>
              <p:nvPr/>
            </p:nvGrpSpPr>
            <p:grpSpPr>
              <a:xfrm>
                <a:off x="1414440" y="2589120"/>
                <a:ext cx="6264360" cy="1421640"/>
                <a:chOff x="1414440" y="2589120"/>
                <a:chExt cx="6264360" cy="142164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414440" y="2589120"/>
                  <a:ext cx="6264360" cy="0"/>
                </a:xfrm>
                <a:prstGeom prst="line">
                  <a:avLst/>
                </a:prstGeom>
                <a:ln w="9360">
                  <a:solidFill>
                    <a:srgbClr val="c0c0c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1414440" y="2943000"/>
                  <a:ext cx="6264360" cy="0"/>
                </a:xfrm>
                <a:prstGeom prst="line">
                  <a:avLst/>
                </a:prstGeom>
                <a:ln w="9360">
                  <a:solidFill>
                    <a:srgbClr val="777777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414440" y="3299040"/>
                  <a:ext cx="6264360" cy="0"/>
                </a:xfrm>
                <a:prstGeom prst="line">
                  <a:avLst/>
                </a:prstGeom>
                <a:ln w="9360">
                  <a:solidFill>
                    <a:srgbClr val="777777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1414440" y="3655080"/>
                  <a:ext cx="6264360" cy="0"/>
                </a:xfrm>
                <a:prstGeom prst="line">
                  <a:avLst/>
                </a:prstGeom>
                <a:ln w="9360">
                  <a:solidFill>
                    <a:srgbClr val="777777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1414440" y="4010760"/>
                  <a:ext cx="6264360" cy="0"/>
                </a:xfrm>
                <a:prstGeom prst="line">
                  <a:avLst/>
                </a:prstGeom>
                <a:ln w="9360">
                  <a:solidFill>
                    <a:srgbClr val="777777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61" name=""/>
              <p:cNvSpPr/>
              <p:nvPr/>
            </p:nvSpPr>
            <p:spPr>
              <a:xfrm>
                <a:off x="1419120" y="2198520"/>
                <a:ext cx="6600960" cy="2163600"/>
              </a:xfrm>
              <a:custGeom>
                <a:avLst/>
                <a:gdLst/>
                <a:ahLst/>
                <a:rect l="l" t="t" r="r" b="b"/>
                <a:pathLst>
                  <a:path w="4219" h="2223">
                    <a:moveTo>
                      <a:pt x="0" y="0"/>
                    </a:moveTo>
                    <a:lnTo>
                      <a:pt x="0" y="2223"/>
                    </a:lnTo>
                    <a:lnTo>
                      <a:pt x="4219" y="2223"/>
                    </a:lnTo>
                  </a:path>
                </a:pathLst>
              </a:custGeom>
              <a:noFill/>
              <a:ln w="19080">
                <a:solidFill>
                  <a:srgbClr val="c0c0c0"/>
                </a:solidFill>
                <a:round/>
                <a:headEnd len="lg" type="stealth" w="lg"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1980000" y="441972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c0c0"/>
                  </a:solidFill>
                  <a:latin typeface="Arial"/>
                  <a:ea typeface="HY헤드라인M"/>
                </a:rPr>
                <a:t>2001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856920" y="441972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c0c0"/>
                  </a:solidFill>
                  <a:latin typeface="Arial"/>
                  <a:ea typeface="HY헤드라인M"/>
                </a:rPr>
                <a:t>2003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480840" y="1728720"/>
              <a:ext cx="214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ffff"/>
                  </a:solidFill>
                  <a:latin typeface="HY헤드라인M"/>
                  <a:ea typeface="HY헤드라인M"/>
                </a:rPr>
                <a:t>우리나라 의약품 수출입실적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418640" y="441972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c0c0"/>
                  </a:solidFill>
                  <a:latin typeface="Arial"/>
                  <a:ea typeface="HY헤드라인M"/>
                </a:rPr>
                <a:t>2002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596240" y="2133720"/>
              <a:ext cx="149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단위 </a:t>
              </a:r>
              <a:r>
                <a:rPr b="0" lang="en-US" sz="18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: </a:t>
              </a:r>
              <a:r>
                <a:rPr b="0" lang="zh-CN" sz="18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백만</a:t>
              </a:r>
              <a:r>
                <a:rPr b="0" lang="en-US" sz="18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US$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086560" y="4724280"/>
              <a:ext cx="2486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Source : </a:t>
              </a:r>
              <a:r>
                <a:rPr b="0" lang="en-US" sz="14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 </a:t>
              </a:r>
              <a:r>
                <a:rPr b="0" lang="zh-CN" sz="14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식품의약품통계연보</a:t>
              </a:r>
              <a:r>
                <a:rPr b="0" lang="en-US" sz="14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, 2004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2124000" y="3213000"/>
            <a:ext cx="5238720" cy="987480"/>
            <a:chOff x="2124000" y="3213000"/>
            <a:chExt cx="5238720" cy="987480"/>
          </a:xfrm>
        </p:grpSpPr>
        <p:sp>
          <p:nvSpPr>
            <p:cNvPr id="269" name=""/>
            <p:cNvSpPr/>
            <p:nvPr/>
          </p:nvSpPr>
          <p:spPr>
            <a:xfrm flipV="1">
              <a:off x="2268360" y="3499920"/>
              <a:ext cx="2519640" cy="576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4788000" y="3357360"/>
              <a:ext cx="2376360" cy="144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124000" y="3933720"/>
              <a:ext cx="270000" cy="266760"/>
            </a:xfrm>
            <a:prstGeom prst="diamond">
              <a:avLst/>
            </a:prstGeom>
            <a:gradFill rotWithShape="0">
              <a:gsLst>
                <a:gs pos="0">
                  <a:srgbClr val="5e7517"/>
                </a:gs>
                <a:gs pos="100000">
                  <a:srgbClr val="ccff33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643280" y="3357720"/>
              <a:ext cx="270000" cy="266400"/>
            </a:xfrm>
            <a:prstGeom prst="diamond">
              <a:avLst/>
            </a:prstGeom>
            <a:gradFill rotWithShape="0">
              <a:gsLst>
                <a:gs pos="0">
                  <a:srgbClr val="5e7517"/>
                </a:gs>
                <a:gs pos="100000">
                  <a:srgbClr val="ccff33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093080" y="3213000"/>
              <a:ext cx="269640" cy="266760"/>
            </a:xfrm>
            <a:prstGeom prst="diamond">
              <a:avLst/>
            </a:prstGeom>
            <a:gradFill rotWithShape="0">
              <a:gsLst>
                <a:gs pos="0">
                  <a:srgbClr val="5e7517"/>
                </a:gs>
                <a:gs pos="100000">
                  <a:srgbClr val="ccff33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74" name=""/>
          <p:cNvSpPr/>
          <p:nvPr/>
        </p:nvSpPr>
        <p:spPr>
          <a:xfrm flipV="1">
            <a:off x="2195640" y="2636640"/>
            <a:ext cx="2520720" cy="64764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4716360" y="2637000"/>
            <a:ext cx="2519640" cy="712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2124000" y="3141720"/>
            <a:ext cx="228600" cy="228600"/>
          </a:xfrm>
          <a:prstGeom prst="ellipse">
            <a:avLst/>
          </a:prstGeom>
          <a:gradFill rotWithShape="0">
            <a:gsLst>
              <a:gs pos="0">
                <a:srgbClr val="2f7575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4572000" y="2565360"/>
            <a:ext cx="228600" cy="228600"/>
          </a:xfrm>
          <a:prstGeom prst="ellipse">
            <a:avLst/>
          </a:prstGeom>
          <a:gradFill rotWithShape="0">
            <a:gsLst>
              <a:gs pos="0">
                <a:srgbClr val="2f7575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7093080" y="2637000"/>
            <a:ext cx="228600" cy="228600"/>
          </a:xfrm>
          <a:prstGeom prst="ellipse">
            <a:avLst/>
          </a:prstGeom>
          <a:gradFill rotWithShape="0">
            <a:gsLst>
              <a:gs pos="0">
                <a:srgbClr val="2f7575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7740720" y="3213000"/>
            <a:ext cx="898560" cy="360360"/>
            <a:chOff x="7740720" y="3213000"/>
            <a:chExt cx="898560" cy="360360"/>
          </a:xfrm>
        </p:grpSpPr>
        <p:sp>
          <p:nvSpPr>
            <p:cNvPr id="280" name=""/>
            <p:cNvSpPr/>
            <p:nvPr/>
          </p:nvSpPr>
          <p:spPr>
            <a:xfrm>
              <a:off x="7740720" y="3213000"/>
              <a:ext cx="898560" cy="360360"/>
            </a:xfrm>
            <a:prstGeom prst="roundRect">
              <a:avLst>
                <a:gd name="adj" fmla="val 50000"/>
              </a:avLst>
            </a:prstGeom>
            <a:noFill/>
            <a:ln w="1908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885080" y="3213000"/>
              <a:ext cx="6476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66ff33"/>
                  </a:solidFill>
                  <a:latin typeface="HY견고딕"/>
                  <a:ea typeface="HY견고딕"/>
                </a:rPr>
                <a:t>수출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7740720" y="2565360"/>
            <a:ext cx="898560" cy="360360"/>
          </a:xfrm>
          <a:prstGeom prst="roundRect">
            <a:avLst>
              <a:gd name="adj" fmla="val 50000"/>
            </a:avLst>
          </a:prstGeom>
          <a:noFill/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>
            <a:off x="7885080" y="2565360"/>
            <a:ext cx="6476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ffff"/>
                </a:solidFill>
                <a:latin typeface="HY견고딕"/>
                <a:ea typeface="HY견고딕"/>
              </a:rPr>
              <a:t>수입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6519240" y="3573360"/>
            <a:ext cx="6883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33"/>
                </a:solidFill>
                <a:latin typeface="Arial"/>
                <a:ea typeface="HY헤드라인M"/>
              </a:rPr>
              <a:t>69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4430160" y="3716280"/>
            <a:ext cx="6883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33"/>
                </a:solidFill>
                <a:latin typeface="Arial"/>
                <a:ea typeface="HY헤드라인M"/>
              </a:rPr>
              <a:t>678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2629800" y="3933720"/>
            <a:ext cx="6883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33"/>
                </a:solidFill>
                <a:latin typeface="Arial"/>
                <a:ea typeface="HY헤드라인M"/>
              </a:rPr>
              <a:t>6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2197800" y="3213000"/>
            <a:ext cx="9428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  <a:ea typeface="HY헤드라인M"/>
              </a:rPr>
              <a:t>1,297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4214160" y="2781360"/>
            <a:ext cx="9428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  <a:ea typeface="HY헤드라인M"/>
              </a:rPr>
              <a:t>2,04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6519240" y="2781360"/>
            <a:ext cx="9428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  <a:ea typeface="HY헤드라인M"/>
              </a:rPr>
              <a:t>2,012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>
            <a:off x="2265120" y="5334120"/>
            <a:ext cx="503568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수출</a:t>
            </a:r>
            <a:r>
              <a:rPr b="0" lang="ko-KR" sz="25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원료 </a:t>
            </a:r>
            <a:r>
              <a:rPr b="0" lang="ko-KR" sz="25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4</a:t>
            </a:r>
            <a:r>
              <a:rPr b="0" lang="ko-KR" sz="25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억불대 유지</a:t>
            </a:r>
            <a:r>
              <a:rPr b="0" lang="ko-KR" sz="25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, </a:t>
            </a:r>
            <a:r>
              <a:rPr b="0" lang="ko-KR" sz="25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완제는 지속적 증가세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수입</a:t>
            </a:r>
            <a:r>
              <a:rPr b="0" lang="ko-KR" sz="25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: ’02</a:t>
            </a:r>
            <a:r>
              <a:rPr b="0" lang="ko-KR" sz="25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년까지 증가세</a:t>
            </a:r>
            <a:r>
              <a:rPr b="0" lang="ko-KR" sz="25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, ’03</a:t>
            </a:r>
            <a:r>
              <a:rPr b="0" lang="ko-KR" sz="25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년 소폭감소세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1T08:29:28Z</dcterms:created>
  <dc:creator>10</dc:creator>
  <dc:description/>
  <dc:language>en-US</dc:language>
  <cp:lastModifiedBy>swkim</cp:lastModifiedBy>
  <dcterms:modified xsi:type="dcterms:W3CDTF">2005-07-11T12:21:47Z</dcterms:modified>
  <cp:revision>1240</cp:revision>
  <dc:subject/>
  <dc:title>슬라이드 1</dc:title>
</cp:coreProperties>
</file>