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593-C08C-46CE-974C-E892813D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C2B-801C-4122-A01F-B49ACC96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FF9-F8BD-4AD2-9981-B1E84BAC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C52-AE8F-4DDB-997B-3C9FB504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052F-19C7-4512-A444-BF774B57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EAFE-70AB-4D4D-A1E4-99E4B06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6FE1-CBFE-49D7-B41E-2A238F4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D006-996C-4BB1-804D-5B69C0A6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40FF-5440-434B-987C-047BCCC9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855B-BF88-48BC-A776-34225E8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3A9B-2D0A-4AAA-94A8-727DE84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EDF-1608-43C1-B00F-0FA5C355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D72F-CFC8-448C-9355-7E37EA1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DE35-E83F-49F6-AE0A-68C75D0F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D1C1-A696-4CC1-BFA7-7A85B54F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4F39-8DB2-4BE7-A537-B2A6F8BE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56D2-F4B6-497E-A59A-2386D624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027-A0C3-4EB3-BBEE-F121DAC0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C57-E0F2-48A9-9637-57E7F7ED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199-C385-49E7-B534-BB7F3595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488-8244-46B2-9EDB-A8301864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647-23C7-451F-8BB7-09F3C36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D0B-67EA-4244-8C9D-495C308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5EA-1EB3-43C5-88D1-9DE3FBEE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B3EA-FFA0-4920-885C-26A8F7E1F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14D9-7401-46E9-A446-77A919C1B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굴림"/>
              </a:rPr>
              <a:t>소비자가 바라는 복약지도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녹색소비자연대 사무처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조  윤  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굴림"/>
              </a:rPr>
              <a:t>약에 대한 소비자 문제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약품 안전성에 대한 잘못된 신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약문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에 대한 과학적 지식 부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의료 이용에 관한 소비자의식 부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처방전 정보 활용 미흡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약지시 이행 불량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처방조제포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약지시 불이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굴림"/>
              </a:rPr>
              <a:t>약제 서비스에 대한 일반현황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차례의 현장실태 조사 추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) 200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200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1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월 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서울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구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포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,05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) 2004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미발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서울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기지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53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명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단순비교 한계있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향만 참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굴림"/>
              </a:rPr>
              <a:t>복약 지도 실태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처방전 접수시 약력사항 체크여부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31.3%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(2003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복약지도를 받았는가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- 2000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75.8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- 200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90.7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복약지도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약을 복용하는 방법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97.9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부작용이나 주의 사항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2.5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약의 효능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21.8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약을 보관하는 방법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5.6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약의 이름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4.5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약물 상호 작용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0.8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굴림"/>
              </a:rPr>
              <a:t>복약지도 제공 방법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약지도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말로 설명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5.0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이를 주며 설명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00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1.4%  / 2004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7.4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약지도에 걸린 시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이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72.5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이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2.0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굴림"/>
              </a:rPr>
              <a:t>복약지도 만족도 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35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많은 도움  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2.8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약간 도움  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46.0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그저그렇다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0.3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별 도움 안됨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7.0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혀 도움 안됨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0.9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2003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133720"/>
            <a:ext cx="3505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많은 도움   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2.9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약간 도움  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47.7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그저그렇다 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2.9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별 도움 안됨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혀 도움 안됨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.3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21304"/>
                </a:solidFill>
                <a:latin typeface="굴림"/>
              </a:rPr>
              <a:t>약에 대한 정보 취득 방법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에대한 설명을 누구로 부터 들었는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사의 설명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2.6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호사의 설명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.7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사의 설명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78.1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에 대한 설명을 듣지 못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9.3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에 대해 궁금할때 도움받는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사에 물음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9.6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사에 물음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69.8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아볼 수 있는곳이 없음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6.0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터넷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.4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굴림"/>
              </a:rPr>
              <a:t>일반의약품에 대한 정보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의약품을 약국에서 구입가능한지에 모름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20.4% (20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) - 26.5%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의약품 구입시 정보 취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약사와 상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56.4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사와 상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0.9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원래 복용하던 약이어서 잘 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7.8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광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9.6%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굴림"/>
              </a:rPr>
              <a:t>약사와 복약지도 </a:t>
            </a:r>
            <a:endParaRPr b="0" lang="en-US" sz="4400" spc="-1" strike="noStrike">
              <a:solidFill>
                <a:srgbClr val="221304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약사용 많은 것에 비해 약에 대한 정보 부족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잘못된 인식 많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건강한 생활양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건강관리를 위한 교육자로써 약사의 역할 중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역사회 리더로써 역할 설정 필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문가적 지위에는 사회적 책임 따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28:28Z</dcterms:created>
  <dc:creator>pc</dc:creator>
  <dc:description/>
  <dc:language>en-US</dc:language>
  <cp:lastModifiedBy>pc</cp:lastModifiedBy>
  <dcterms:modified xsi:type="dcterms:W3CDTF">2004-12-01T02:32:12Z</dcterms:modified>
  <cp:revision>2</cp:revision>
  <dc:subject/>
  <dc:title>소비자가 바라는 복약지도</dc:title>
</cp:coreProperties>
</file>